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7435-EAB3-439E-8CB9-5433888CF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523F-B029-489B-A483-B675AEA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540-B641-481A-8CD5-65557E7D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F63E-6C14-49A2-906A-24956F6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51A5-7BCC-4809-A4E5-B370D0C9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8CB-534A-4267-96B3-CBD7C9B7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B19-BC58-47A9-88DD-E6F83009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969-768D-4F59-AF87-A5C9A480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8180-48D3-4875-8DB4-A0B60696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4AE8-5C2E-43D0-81E8-5D9B0C8A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E15-0371-474C-9B3B-4CB27B35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FEE4-AF8C-4E3F-AC9D-CCB170AA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4A02-12B7-41DA-9766-FDE3F32AF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from Observ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429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kham’s razor: prefer the simplest hypothesis consisten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decide whether to wait for a table at a restaurant, based on the following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: is there an alternative restaurant near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is there a comfortable bar area to wa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/Sat: is today Friday or Satu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ry: are we hung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: number of people in the restaurant (None, Some, F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: price range ($, $$, 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ing: is it raining out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: have we made a reserv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kind of restaurant (French, Italian, Thai, Bur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Estimate: estimated waiting time (0-10, 10-30, 30-60, &gt;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based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described b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 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lean, discrete, continu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ituations where I will/won't wait for 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3906" t="29168" r="9766" b="19791"/>
          <a:stretch/>
        </p:blipFill>
        <p:spPr>
          <a:xfrm>
            <a:off x="1447920" y="2362320"/>
            <a:ext cx="6095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415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representation for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re is the “true” tree for deciding whether to wa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rees can express any function of the input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 Boolean functions, truth table 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to lea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ially, there is a consistent decision tree for any training set with one path to leaf for each example (unl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deterministic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it probably won't generalize to new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 to find mor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7913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purely conjunctive hypotheses (e.g.,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ungry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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Rai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ttribute can be in (positive), in (negative), o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ct conjunctive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ressive hypothesi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hance that target function can be ex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number of hypotheses consistent with 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get wors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find a small tree consistent with the training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(recursively) choose "most significant" attribute as root of (sub)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3906" t="23960" r="8985" b="27086"/>
          <a:stretch/>
        </p:blipFill>
        <p:spPr>
          <a:xfrm>
            <a:off x="838080" y="2743200"/>
            <a:ext cx="7239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an at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good attribute splits the examples into subsets that are (ideally) "all positive" or "all negativ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r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ette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20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forma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oose-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T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ent (Entrop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(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… ,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raining se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exampl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4648320"/>
                <a:ext cx="6400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ose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the training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se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their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in (IG) or reduction in entropy from the attribute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attribute with the largest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71600" y="2743200"/>
                <a:ext cx="57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v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4419720"/>
                <a:ext cx="58676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raining set,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6, I(6/12, 6/12)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others to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he highest IG of all attributes and so is chosen by the DTL algorithm a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2895480"/>
                <a:ext cx="7467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ron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1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learned from the 12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ly simpler than “true” tree---a more complex hypothesis isn’t justified by small amoun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3033720"/>
            <a:ext cx="5105160" cy="3571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orems of computational/statistical learn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new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ver example space as training s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rning cu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% correct on test set as a function of training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eded for unknown environments, lazy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gent = performance element + learning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pervised learning, the aim is to find a simple hypothesis approximately consistent with training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ree learning using information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performance = prediction accuracy measured on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essential for unknown environ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when designer lacks omni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useful as a system construction meth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xpose the agent to reality rather than trying to writ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ifies the agent's decision mechanisms to impro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 learning element is a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mponents of the performance element are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eedback is available to learn thes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presentation is used for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eedb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for each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no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inforcem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ccasional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form: learn a function from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r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a highly simplified model of real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s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amples are gi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6:34:20Z</dcterms:created>
  <dc:creator>Min-Yen Kan</dc:creator>
  <dc:description/>
  <dc:language>en-US</dc:language>
  <cp:lastModifiedBy>Min-Yen Kan</cp:lastModifiedBy>
  <dcterms:modified xsi:type="dcterms:W3CDTF">2003-12-31T02:26:21Z</dcterms:modified>
  <cp:revision>5</cp:revision>
  <dc:subject/>
  <dc:title>Learning from Observations </dc:title>
</cp:coreProperties>
</file>