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56F1-2A6F-44CB-A8AB-81333132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0B88-2F8B-4D77-B470-37AA3FDC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7318-7D9B-4F20-85FD-868A4AF0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A602-A447-4613-91AD-3AB58CC3F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0BB-2F3A-4F9A-9902-69F22FBB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540F-607C-404F-854B-34D82F46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1F1-BCEE-4D3A-9EF9-9DCB2058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E22E-79B3-42E2-9D71-9686FF8D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702-994B-4B76-B286-256D0CF2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A01-5165-4F8D-9A5A-27F038AB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6E67-7AED-4956-9A22-4E778C75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AFE3-3FB1-4922-9307-91D2E553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F4E64-DE97-40B0-B0D7-EE1933C15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 in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g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formal languages for representing information such that conclusions can be dra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s the sentences in th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 the "meaning" of senten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defin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sentence in a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the language of arithm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2 ≥ y is a sentence; x2+y &gt; {} is not a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2 ≥ y is true iff the number x+2 is no less than the number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2 ≥ y is true in a world where x = 7, y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2 ≥ y is false in a world where x = 0, y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ail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ail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that one th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llows f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b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tails sentence α if and only if α is true in all worlds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the KB containing “the Giants won” and “the Reds won” entails “Either the Giants won or the Reds w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x+y = 4 entails  4 = x+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ailment is a relationship between sentences (i.e.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at is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ians typically think in terms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are formally structured worlds with respect to which truth can be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a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s a model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sentence α if α is tru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(α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et of all models of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KB ╞ α if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(K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Giants won and Re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n α = Giants w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58128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ailment in the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after detecting nothing in [1,1], moving right, breeze in [2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possible models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uming only p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Boolean choic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8 possibl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-based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umpus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in general - models and entai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itional (Boolean)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ce, validity, satisf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 rules and theorem pr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wumpus-world rules +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2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502884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wumpus-world rules +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"[1,2] is safe"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╞ 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ved by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del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502884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wumpus-world rules +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wumpus-world rules +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"[2,2] is safe"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╞ 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105520" y="563832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 = sentence α can be derived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procedu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und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ound if whenev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, it is also true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╞ 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lete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mplete if whenev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╞ α, it is also true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ew: we will define a logic (first-order logic) which is expressive enough to say almost anything of interest, and for which there exists a sound and complete inference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the procedure will answer any question whose answer follows from what is known by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itional logic: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is the simplest logic –  illustrates basic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osition symbols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c are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 is a sentenc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e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tences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j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tences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j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tences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l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tences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icondi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itional logic: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odel specifies true/false for each proposition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se symbols, 8 possible models, can be enumerated automat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for evaluating truth with respect to a mode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ue if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s fals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is true if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is true if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u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ue 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fals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false 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ue 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recursive process evaluates an arbitrary sentence, e.g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s for conn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37502" t="30211" r="7811" b="50002"/>
          <a:stretch/>
        </p:blipFill>
        <p:spPr>
          <a:xfrm>
            <a:off x="609480" y="1371600"/>
            <a:ext cx="7696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world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rue if there is a pit in [i, j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rue if there is a breeze in [i, j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Pits cause breezes in adjacent squar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7502" t="30211" r="7811" b="32293"/>
          <a:stretch/>
        </p:blipFill>
        <p:spPr>
          <a:xfrm>
            <a:off x="762120" y="1371600"/>
            <a:ext cx="754380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base = set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nt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clar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roach to building an agent (or other system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hat it needs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it c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self what to do - answers should follow from the 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s can be viewed at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nowledg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what they know, regardless of how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t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lementat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data structures in KB and algorithms that manipulat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65530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th-first enumeration of all models is sound and comple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mbols, time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(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pace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31253" t="35419" r="783" b="19791"/>
          <a:stretch/>
        </p:blipFill>
        <p:spPr>
          <a:xfrm>
            <a:off x="1143000" y="1981080"/>
            <a:ext cx="6629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equ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entences ar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gically equival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iff true in same models: 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ß iff α╞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╞ 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3597" t="39583" r="3127" b="15627"/>
          <a:stretch/>
        </p:blipFill>
        <p:spPr>
          <a:xfrm>
            <a:off x="1143000" y="2514600"/>
            <a:ext cx="716292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ity and satisf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tence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l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it is true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ity is connected to inference via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duction Theor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╞ α if and only 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α) is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tence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tisf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it is true i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tence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satisf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it is true i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iability is connected to inference via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╞ α if and only 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α) is unsatisf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methods divide into (roughly) two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pplication of inference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itimate (sound) generation of new sentences from 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 sequence of inference rule applic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inference rules as operators in a standard search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require transformation of sentences into 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el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th table enumeration (always exponential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backtracking, e.g., Davis--Putnam-Logemann-Loveland (DP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search in model space (sound but incomple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min-conflicts-like hill-climbing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junctive Normal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N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j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j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t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erence rule (for CN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-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complementary liter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ution is sound and comple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roposi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3600" y="4191120"/>
            <a:ext cx="1889280" cy="1895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95280" y="358128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ness of resolution inference ru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6576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ion to CN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placing 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β with (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β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β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limin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placing 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β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o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wards using de Morgan's rules and double-neg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pply distributivity law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flat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by contradiction, i.e., sh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5782" t="28124" r="5467" b="32293"/>
          <a:stretch/>
        </p:blipFill>
        <p:spPr>
          <a:xfrm>
            <a:off x="609480" y="2286000"/>
            <a:ext cx="77724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010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nd backward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rn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stri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B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j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r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n claus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ition symbol; 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junction of symbol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ymb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us Pone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or Horn Form): complete for Horn K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with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ward ch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ckward ch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lgorithms are very natural and run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88620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imple knowledge-based ag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gent must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states, ac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new per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internal representations of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e hidden properties of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e appropriat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31253" t="30211" r="0" b="36462"/>
          <a:stretch/>
        </p:blipFill>
        <p:spPr>
          <a:xfrm>
            <a:off x="685800" y="1447920"/>
            <a:ext cx="76201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fire any rule whose premises are satisfied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its conclusion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ntil query i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51563" t="32293" r="4688" b="30211"/>
          <a:stretch/>
        </p:blipFill>
        <p:spPr>
          <a:xfrm>
            <a:off x="2057400" y="2895480"/>
            <a:ext cx="50292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chaining is sound and complete for Horn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31253" t="30211" r="783" b="17709"/>
          <a:stretch/>
        </p:blipFill>
        <p:spPr>
          <a:xfrm>
            <a:off x="990720" y="1523880"/>
            <a:ext cx="6629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World PEAS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formanc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d +1000, death -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per step, -10 for using th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s adjacent to wumpus are sm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s adjacent to pit are bree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tter iff gold is in the same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oting kills wumpus if you are fac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oting uses up the only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bbing picks up gold if in same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ing drops the gold in same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ns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ench, Breeze, Glitter, Bump, Sc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tua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ft turn, Right turn, Forward, Grab, Release, Sh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7716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of complet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 derives every atomic sentence that is entail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reaches 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xed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no new atomic sentences are de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final state as a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ssigning true/false to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clause in the origin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model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╞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l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clu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work backwards from the qu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B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known already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 by BC all premises of some rule conclud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loops: check if new subgoal is already on the goa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repeated work: check if new sub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lready been proved true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lready f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world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Full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Observ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– onl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Determini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 – outcomes exactly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Episod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– sequential at the level of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Yes – Wumpus and Pits do not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Single-agent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 – Wumpus is essentially a natural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vs. backward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a-dr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utomatic, unconscious process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object recognition, routin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do lots of work that is irrelevant to the go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oal-dr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ppropriate for problem-solv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Where are my keys? How do I get into a PhD pro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of BC can b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ch l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linear in size of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t propositional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families of efficient algorithms for propositional in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backtracking search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L algorithm (Davis, Putnam, Logemann, Love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local search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lkS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P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if an input propositional logic sentence (in CNF) is satisf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s over truth table enum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lause is true if any literal is tr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ntence is false if any clause is fal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 symbol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e symbol: always appears with the same "sign" in all claus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In the three clauses (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,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, (C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), A and B are pure, C is impu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a pure symbol literal tr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claus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 clause: only one literal in th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nly literal in a unit clause must be tr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P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27343" t="22917" r="3127" b="17709"/>
          <a:stretch/>
        </p:blipFill>
        <p:spPr>
          <a:xfrm>
            <a:off x="762120" y="1371600"/>
            <a:ext cx="76197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WalkSA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, local search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function: The min-conflict heuristic of minimizing the number of unsatisfied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between greediness and random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WalkSA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27343" t="22917" r="3127" b="31250"/>
          <a:stretch/>
        </p:blipFill>
        <p:spPr>
          <a:xfrm>
            <a:off x="762120" y="1523880"/>
            <a:ext cx="754380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satisfiabilit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random 3-CNF sentences. e.g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number of cla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number of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problems seem to cluster ne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/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.3 (critical po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satisfiabilit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6294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satisfiabilit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runtime for 100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atisf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ndom 3-CNF sentenc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4864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-based agents in the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umpus-world agent using propositional log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+1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-1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+1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-1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,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distinct proposition symbols, 155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27343" t="14584" r="4688" b="20835"/>
          <a:stretch/>
        </p:blipFill>
        <p:spPr>
          <a:xfrm>
            <a:off x="457200" y="304920"/>
            <a:ext cx="822960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B contains "physics" sentences for every single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very location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cingRigh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+1,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roliferation of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veness limitation of propositional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7320" y="327672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327672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gents apply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nowledge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rive new information and mak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concepts of log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nt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mal structure of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man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u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sentences wrt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ail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ecessary truth of one sentence give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riving sentences from other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ound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rivations produce only entailed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lete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rivations can produce all entailed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umpus world requires the ability to represent partial and negated information, reason by cas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ution is complete for propositional log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, backward chaining are linear-time, complete for Horn cl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itional logic lacks expressive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7:08:22Z</dcterms:created>
  <dc:creator>Min-Yen Kan</dc:creator>
  <dc:description/>
  <dc:language>en-US</dc:language>
  <cp:lastModifiedBy>Min-Yen Kan</cp:lastModifiedBy>
  <dcterms:modified xsi:type="dcterms:W3CDTF">2003-12-18T04:12:02Z</dcterms:modified>
  <cp:revision>6</cp:revision>
  <dc:subject/>
  <dc:title>Logical Agents</dc:title>
</cp:coreProperties>
</file>