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AF0-C6DD-44AF-B628-C370F0A6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BA04-E198-4AA4-9DB2-47A87767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463E-1027-49DB-B4FB-4D63346F0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9AD-CC4E-418C-8FE4-5CB9BBC9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0366-B80B-4CDB-B302-9C1586D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5BB-32F8-42EA-9D96-8E40B523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E769-A3F1-410A-82B9-8D13E922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4FB-B447-4834-8149-BB4385CA2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AB4-1421-4E7F-8895-FA22457C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332-B70E-454E-93CB-FAF5812B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3039-AA6B-47DB-9548-94D41141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B66-44CD-49FA-943D-67054554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B8DC-3382-4192-841C-4DDEAC916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each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rt(Richa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“Everyone is at NUS and everyone is sm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some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Rich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there is anyone who is not at N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erson who loves everyone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n the world is loved by at least one pers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fier d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ach can be expressed using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IceCre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Ice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Broccoli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Brocco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under a given interpretation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sam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b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= 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= 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f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rent(f,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ship dom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s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's mother is one's 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ther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emale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ent(m,c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” i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ibling(y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et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 = {}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{x|s}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(s = {y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=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FOL K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wumpus-world agent is using an FOL KB and perceives a smell and a breeze (but no glitter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Percept([Smell,Breeze,None]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estAction(a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oes the KB entail some best action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/Sh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it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inding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nt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ubstituti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e result of plugg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{x/Hillary,y/Bill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Hillary,B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B,S) returns some/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 for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,s,b Percept([s,b,Glitter]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itter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litter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Action(Grab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F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 of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mpus world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ducing hidde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,a,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j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x,y],[a,b]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[x+1,y], [x-1,y],[x,y+1],[x,y-1]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qu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ent,s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e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y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are breezy near a p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---infer cause from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reezy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Exi{r}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t(r)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---infer effect from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Pit(r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eezy(s)$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 of predicates, functions,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about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a description of the specific problem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ries to the inference procedure and ge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bit full 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ircuit actually add properly? (circuit ver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wires and gates; Types of gates (AND, OR, XOR,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levant: size, shape, color, cost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of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ignal(t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X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N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the specific problem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e queries to the inferenc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ossible sets of values of all the terminals for the adder circu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C_1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3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mitted assertions like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relations are semantic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constants, functions, predicates, equality,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xpressive power: sufficient to define wumpus 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 and cons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allows partial/disjunctive/neg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data structures and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from 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in 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ext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, where meaning depends on con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has very limited expressi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not say "pits cause breezes in adjacent squar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by writing one sentence for each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, houses, numbers, colors, baseball games, war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, round, prime, brother of, bigger than, part of, comes betwee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ather of, best friend, one more than, plu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of FOL: Bas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John, 2, NUS,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, &gt;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rt, LeftLegOf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y, a, b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r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entence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KingJohn,RichardTheLionheart) &gt; (Length(LeftLegOf(Richard)), Length(LeftLegOf(KingJohn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bling(KingJohn,Richar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ibling(Richard,KingJoh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in 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relations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specifies refer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cti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omic sent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(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for FOL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Min-Yen Kan</cp:lastModifiedBy>
  <dcterms:modified xsi:type="dcterms:W3CDTF">2004-01-02T09:27:55Z</dcterms:modified>
  <cp:revision>4</cp:revision>
  <dc:subject/>
  <dc:title>First-Order Logic</dc:title>
</cp:coreProperties>
</file>