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8FCC-A658-48E8-A1E1-224FA850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2DCD-8226-490E-AD1E-C783DE61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8CC-FD29-4F5D-A8DF-08AA1EF9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C9B-FE40-4E15-A11F-8FB200AC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35C-313D-4433-81FA-1C7D5A1D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839-4748-4CF5-93EF-DF75A6A8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9A2-B8F4-4693-967B-F3D0D94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CE9C-1767-4CE4-85B7-52A1783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68F3-315C-481B-A2B3-DBD68E65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387B-0542-450C-9C27-8EBB5B5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DE1-6B3D-4565-A764-B1728986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F21-8C31-4D5D-97B6-685DDE72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A800-A8DB-47A6-94AD-5C1022E62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conditional independence is hard in noncausa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al models and conditional independence seem hardwired for huma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less compact: 1 + 2 + 4 + 2 + 4 = 13 number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networks provide a natural representation for (causally induced) condi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+ CPTs = compact representation of joi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easy for domain experts to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, graphical notation for conditional independence assertions and hence for compact specification of full 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nodes, one p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ed, acyclic graph (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rectly influenc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al distribution for each node given its par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arents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implest case, conditional distribution represented a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ditional probability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PT) giving the distribution 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combination of par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of network encodes conditional independence asser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ditionally independent 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at work, neighbor John calls to say my alarm is ringing, but neighbor Mary doesn't call. Sometimes it's set off by minor earthquakes. Is there a burg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g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hn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y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opology reflects "causal" 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rglar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thquake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Mary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John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c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T for Bool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olean parents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ws for the combinations of par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quires on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number for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ju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variable has no more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s, the complete network requir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rows linearl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s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2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ull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urglary net, 1 + 1 + 4 + 2 + 2 = 10 numbers (vs.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=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209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ll joint distribution is defined as the product of the local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 |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209600" cy="120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98680" y="22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oose an ordering of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ent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Parents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, ...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oice of parents guarant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constr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in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796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7960" y="411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6:38:09Z</dcterms:created>
  <dc:creator>Min-Yen Kan</dc:creator>
  <dc:description/>
  <dc:language>en-US</dc:language>
  <cp:lastModifiedBy>Min-Yen Kan</cp:lastModifiedBy>
  <dcterms:modified xsi:type="dcterms:W3CDTF">2003-12-18T03:06:00Z</dcterms:modified>
  <cp:revision>4</cp:revision>
  <dc:subject/>
  <dc:title>Bayesian networks </dc:title>
</cp:coreProperties>
</file>