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DC45-6739-46BC-BB55-B0A0E9EB8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6328-75CE-4DB8-895A-18191ED5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C2CE-BBAE-487F-B830-9B9DE437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611-7B7C-4F0F-B161-F73816D80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CC5E-F75C-45F4-8B5A-1F86D994F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C73-B81A-438C-A7A6-E63B06DB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B874-2757-48B8-804C-9878EBAE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4B89-E56F-4808-9F78-F0A4B33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E689-6166-40BF-BC3D-7889A320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35341-0AD1-4703-9BED-822B69FF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0B5E-1FE9-42C4-8609-1755183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74B7-16B9-4D84-99D2-83786316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FDC-FE8C-4021-9C64-79042D7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B617C-4317-499D-9AF3-7F03219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0FA7-74A0-49C3-85F3-99BFE3E2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E49DA-D9DE-4B1C-B245-28165893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309A-D740-4B78-ACA4-26D2EBFF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175-838D-47CD-947B-085F881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79B4-7FF9-4C95-9C68-2D948D10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2DE-BC4A-463D-8FEC-39CF56C2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91F7-AD18-413A-A660-E96568B1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F95-CDC0-4366-95BF-7D4E49BB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2DE8-576E-4878-AFEC-04B38DA2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068-D556-44AB-8989-A91F113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b44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4c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fdf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f7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b0d27e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73CD-454B-45F1-996C-CF4A885A95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fdf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f7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b44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44c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0d27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A2CD-82F3-4ABE-BC06-3D0DED00A110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836C-A27D-4D5C-BC95-2C1D743827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Real-world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o teaches wha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tabl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ich class is offered when and 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ation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y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at many real-world problems involve real-valu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BB9D-2441-47D5-8214-C977D9535E4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6501"/>
                </a:solidFill>
                <a:latin typeface="Tahoma"/>
              </a:rPr>
              <a:t>Standard search formulation (incremental)</a:t>
            </a:r>
            <a:endParaRPr b="0" lang="en-US" sz="28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's start with the straightforward approach, then fix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re defined by the values assigned so f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Initial 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empty assignment {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ssign a value to an unassigned variable that does not conflict with current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 if no legal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current assignment is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same for all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is irrelevant, so can also use complete-state for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= (n -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d at depth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ence n!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1A0-CC6B-4F9B-9F60-D333FC85019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assignments are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mmu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 i.e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WA = red then NT = green ] same as [ NT = green then WA = red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need to consider assignments to a single variable at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d and there are $d^n$ le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backtrack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C81C-F3CD-400C-A1C4-54AEB952B2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09480" y="1371600"/>
            <a:ext cx="784872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C48C-A333-4B45-899C-C5B533DFFE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3240-5C29-4188-9209-F8F013DD14E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713-4794-4223-AE21-1991F852B5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EC3-5318-4537-A64F-8778B670FCE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5FB-47DD-45CD-9F8E-13F33BEB50E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00A4-E6A5-4C12-A1E4-939F1707291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ed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k.a. </a:t>
            </a:r>
            <a:r>
              <a:rPr b="0" lang="en-US" sz="3200" spc="-1" strike="noStrike">
                <a:solidFill>
                  <a:srgbClr val="b44cad"/>
                </a:solidFill>
                <a:latin typeface="Tahoma"/>
              </a:rPr>
              <a:t>minimum remaining values (MRV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1F0-3C92-4CBB-AC58-3B4398EE3DB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 (CS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1043-F7CD-42DB-9E8A-8092199DD75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ing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620120" cy="12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C5BA-D9EA-4734-96C9-DB10A6384E1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east constraining valu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458B-D4AA-459B-ADD9-886B0ED4A41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E4B8-6151-4FFA-8A8F-C4D1294DD8C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6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17F2-7269-425B-8C08-2EF2CB8D4E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39E-6190-4473-80C8-EAF90517984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22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3C0E-E12D-47B5-A4AE-27B640D229B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8E9B-7687-4B96-BF07-D4A4FAA2143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4E5-ED12-47F3-BEA9-232798EB22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B66-C6CB-4D0E-9137-C7A98FE640B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E388-81B8-4D70-94BD-1B9BC0107BE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6501"/>
                </a:solidFill>
                <a:latin typeface="Tahoma"/>
              </a:rPr>
              <a:t>Constraint satisfaction problems (CSPs)</a:t>
            </a:r>
            <a:endParaRPr b="0" lang="en-US" sz="32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example of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mal representa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usefu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s with more power than standard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2BAF-CFFA-4673-879D-A3CF541FE9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285-D890-4DDB-8F09-762474C483A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5559480"/>
            <a:ext cx="86500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FE1-C6BB-4801-9486-1A955E46A7B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states with unsatisfi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selection: randomly select any conflicted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selection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, hill-climb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DB7A-9643-4FBB-8247-AD869A36BA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random initial state, 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in almost constant time for arbitra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high probability (e.g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,000,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9132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9BBF-9873-4A1E-BA0F-8EAB7C6967E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DBBC-8E9D-48BE-8B87-86FA9F5AC9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16196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T, or (WA,NT) in {(red,green),(red,blue),(green,red), (green,blue),(blue,red),(blue,green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794E-02B5-43D3-8183-D244C578E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Q = red,NSW = green,V = red,SA = blue,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309C-297D-4409-80A2-4DC9F936A7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76680" cy="31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62E1-8B51-4050-B084-A4A313AA6E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~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ED3-DBE6-4B9B-B373-2FBBF2D3D4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CDAB-F733-4AE5-9A92-3F41619BAEB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Cryptarithmetic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076200"/>
            <a:ext cx="8570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 T U W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O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0,1,2,3,4,5,6,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diff (F,T,U,W,R,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O = R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W + W = U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T + 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BA90-ADEA-4C10-9240-3DB1A08C6C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Min-Yen Kan</cp:lastModifiedBy>
  <dcterms:modified xsi:type="dcterms:W3CDTF">2003-12-22T03:38:57Z</dcterms:modified>
  <cp:revision>5</cp:revision>
  <dc:subject/>
  <dc:title>Constraint Satisfaction Problems</dc:title>
</cp:coreProperties>
</file>