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9DA0-52AB-4A37-94F9-EAC2409B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24DC-A74A-4785-9BF7-A009B5A7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9C9-C428-4346-92B2-6ACE58E6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120A-A3A7-4ED3-BAAF-E304C11F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EB3-6285-4E6A-8B6B-4CFDC1D9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891-B97C-464D-8932-D45C1AA2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75F-F383-4545-AA26-864BCEFA9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6E6-47AD-4AF0-8B4F-44DA0DA0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0B2-F4B3-45A4-AD09-3F5E66A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7E4D-31AC-4EB3-8713-2B9D5427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0C43-48AB-4017-AB32-01A962C7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9761-79FB-468A-9277-D409654F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A43-16E3-4926-BAC8-FCC472385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sarial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α-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fect fin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ove ordering improves effectiveness of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"perfect ordering," time complexity =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u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th of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example of the value of reasoning about which computations are relevant (a form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a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called α-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 is the value of the best (i.e., highest-value) choice found so far at any choice point along the path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orse than α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voi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e that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β similarly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6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6405" t="25004" r="15626" b="15627"/>
          <a:stretch/>
        </p:blipFill>
        <p:spPr>
          <a:xfrm>
            <a:off x="685800" y="1295280"/>
            <a:ext cx="76201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5626" t="25004" r="15626" b="33337"/>
          <a:stretch/>
        </p:blipFill>
        <p:spPr>
          <a:xfrm>
            <a:off x="685800" y="1523880"/>
            <a:ext cx="7772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have 100 secs, explor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des/se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per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toff te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epth limit (perhaps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iescence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ion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stimated desirability of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typical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ighted sum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…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= (number of white queens) –  (number of black queens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ing off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Cut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dentic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in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work in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=3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ply lookahead is a hopeless chess play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n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ical PC, human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ep Blue,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-β pr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fect, real-tim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stic games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ers: Chinook ended 40-year-reign of human world champion Marion Tinsley in 1994. Used a precomputed endgame database defining perfect play for all positions involving 8 or fewer pieces on the board, a total of 444 billion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ss: Deep Blue defeated human world champion Garry Kasparov in a six-game match in 1997. Deep Blue searches 200 million positions per second, uses very sophisticated evaluation, and undisclosed methods for extending some lines of search up to 40 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llo: human champions refuse to compete against computers, who are too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: human champions refuse to compete against computers, who are too bad. In go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&gt; 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most programs use pattern knowledge bases to suggest plausible mo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re fun to work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illustrate several important points about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ion is unattainab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idea to think about what to thin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s vs. search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Unpredictable" oppon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ying a move for every possible opponent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mi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likely to find goal,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ree (2-player, deterministic, tur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483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play for deterministic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choose move to position with high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imax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est achievable payoff against bes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2-ply g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6705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626" t="25004" r="15626" b="11458"/>
          <a:stretch/>
        </p:blipFill>
        <p:spPr>
          <a:xfrm>
            <a:off x="914400" y="1371600"/>
            <a:ext cx="71629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if tree is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against an optimal op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Tim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Spac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m) (depth-first expl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5, 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for "reasonable" g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ct solution completely in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6:37:42Z</dcterms:created>
  <dc:creator>Min-Yen Kan</dc:creator>
  <dc:description/>
  <dc:language>en-US</dc:language>
  <cp:lastModifiedBy>Min-Yen Kan</cp:lastModifiedBy>
  <dcterms:modified xsi:type="dcterms:W3CDTF">2003-12-17T06:56:02Z</dcterms:modified>
  <cp:revision>3</cp:revision>
  <dc:subject/>
  <dc:title>Adversarial Search</dc:title>
</cp:coreProperties>
</file>