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5253-C563-4479-86EF-65E9A2679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9387-4EF4-4792-B23C-2444C84E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472F-84BD-4A1D-B5AB-A4319F03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2B40-DE76-4769-8DBB-5A0E32AC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DA8E-7798-4C46-A75A-9E69DE77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0FDF-CE8D-4F35-9FD4-5C689125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D75B-8645-49D1-A3D9-52669986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E7F7-3337-45C2-82E1-B42B9F8C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3ABB-6F14-4452-9D90-D288C9929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7C60-4F71-4FDE-93CB-9B9B76CB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8A33-28FC-4BB3-A6E1-E549C5A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7012-B57D-4FC2-8EFA-7CC66977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A243-7C89-4918-B93A-5F87E02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35B8-5BD0-41EA-A55F-7E41FD39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0CFA-07F7-4347-A254-002EF71E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3D75-B3B9-4E83-9B99-FFE6E1AF9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3F74-6A87-4C5C-945E-53BB6947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5D06-E74F-4C60-9F7A-AC80FBD2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8C7-8032-4457-8D6D-CC3DA50B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0AC3-9BDE-409D-8367-65BAF1866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254C-DBEE-4115-B393-FF3DDBCC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E540-12F6-4806-AD48-CAE09E64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062C-7B40-4C67-9121-B8AAE4AB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79F-F870-42C7-BD8B-A2F3C7FD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F557-5C92-4CB4-985E-6D937D55D8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905120"/>
            <a:ext cx="9009000" cy="1052280"/>
            <a:chOff x="0" y="19051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012760"/>
              <a:ext cx="711360" cy="474480"/>
              <a:chOff x="290520" y="20127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012760"/>
                <a:ext cx="43740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012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435040"/>
              <a:ext cx="737640" cy="474480"/>
              <a:chOff x="414360" y="24350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435040"/>
                <a:ext cx="421560" cy="47448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435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361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905120"/>
              <a:ext cx="31680" cy="10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726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3911-AE29-4558-9379-AF40D27523DE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olving problems by search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A0F2-D4BC-439D-B987-896182ADF2B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Suck,Left,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Conting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deterministic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ty a clean carp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ly observable: location, dirt at current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[L, Clean]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.e., start in #5 or #7</a:t>
            </a:r>
            <a:br>
              <a:rPr sz="20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irt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5EB7-256D-49CA-A861-EB1613EAF8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ingle-state problem formul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by four item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itial stat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"at Arad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uccessor 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(x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set of action–state pai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(Arad)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&lt;Ara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Zerind, Zerind&gt;, …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an b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plic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"at Buchares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mplic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mate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h 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ddit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sum of distances, number of actions executed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(x,a,y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0" lang="en-US" sz="1800" spc="-1" strike="noStrike">
                <a:solidFill>
                  <a:srgbClr val="4b4eb5"/>
                </a:solidFill>
                <a:latin typeface="Tahoma"/>
              </a:rPr>
              <a:t>step co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ssumed to b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equence of actions leading from the initial state to a goal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F09-60FB-4F87-B7B9-3A624D8931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lecting a state spac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is absurdly comple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space must b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bstrac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problem sol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state = set of real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action = complex combination of real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"Ara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Zerind" represents a complex set of possible routes, detours, rest stops, et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guaranteed realizability, 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l state "in Arad“ must get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l state "in Zerind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solution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of real paths that are solutions in the real wor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abstract action should be "easier" than the original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E26B-D03E-46B7-90CD-E1F33DC8A47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Vacuum world state space grap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056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B72-12B8-4309-B5F8-83EAECF38C4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Vacuum world state space grap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 dirt and robot lo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irt at all lo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p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056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ADC-A4CB-483B-987D-7E5D9D97402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257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ACF-C24C-4E32-A70F-2B18A20F4EF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s of ti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blank left, right, up, dow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goal state (gi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er 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ote: optimal solu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uzzle family is NP-har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257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0E44-61D1-43A1-9267-75B5CE649A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botic assembl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al-valued coordinates of robot joint angles parts of the object to be assem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ntinuous motions of robot j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mplete 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ime to exec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0068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A333-F086-4A52-A2F2-56971AA08B7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line, simulated exploration of state space by generating successors of already-explored states (a.k.a.~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a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4844" t="37501" r="3127" b="28124"/>
          <a:stretch/>
        </p:blipFill>
        <p:spPr>
          <a:xfrm>
            <a:off x="609480" y="3429000"/>
            <a:ext cx="80010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798F-D470-40DD-A44A-E10544392C2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05640" cy="160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2923-FFCC-48AF-8D79-B4717095F5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-solving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earch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892C-7B1A-4BC2-B1DB-183FBE2C7EB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9532-54DB-4845-B9B6-6DC24918736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9E1C-0D10-473A-BFDE-E2A5BF85C6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mplementation: general tree search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4844" t="18753" r="3127" b="9376"/>
          <a:stretch/>
        </p:blipFill>
        <p:spPr>
          <a:xfrm>
            <a:off x="990720" y="1600200"/>
            <a:ext cx="731520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519-0573-43C2-8404-80152E303A3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mplementation: states vs. nodes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(representation of) a physical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data structure constituting part of a search tree includ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rent 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th c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creates new nodes, filling in the various fields and us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ccessorF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problem to create the corresponding st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98168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20E0-2CE7-4688-8141-E069E446B76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strategy is defined by pick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rder of node expa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egies are evaluated along the following dim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solution if one exis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tim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number of nodes gene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spac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number of nodes in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optima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least-cost solu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and space complexity are measured in terms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ximum branching factor of the search t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 of the least-cost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depth of the state space (may b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C83-3002-46C0-91CF-F410B8442F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nformed 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nform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arch strategies use only the information available in the problem 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d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form-co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limited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44E-A52F-4633-9225-5EF13D1C8A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67440" cy="28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34D-1D54-450C-A110-ED5A3887B34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00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27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A7B-C3F3-4781-BB48-94C76A3FCBB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55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025-1190-457F-93AA-517EDDF6EA3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4648320" cy="2789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97F-1815-4748-ABC1-91869DB6F23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 agen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4844" t="17709" r="3127" b="22917"/>
          <a:stretch/>
        </p:blipFill>
        <p:spPr>
          <a:xfrm>
            <a:off x="685800" y="167652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0972-08FB-49E1-AF4C-B9F9C19A4A4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bread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(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in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+b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… +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keeps every node in mem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es (if cost = 1 per st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bigger problem (more than t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B66-39FA-4C14-8FDA-5A3FD0FB7BB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form-co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least-cost unexpand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queue ordered by path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breadth-first if step costs all eq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, if step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cost of the optimal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 – nodes expanded in increasing or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668C-0297-44BB-BAB1-C3B1CDFE6BA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EEB-78E3-4670-8225-9B58177312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612-FECD-4BA0-9B96-7E554B12517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ABEE-5401-42A0-899B-DE0FA399254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131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BFA2-1341-4903-8D45-862E2FD601E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4F7-7485-45C6-9C69-44B469F7466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531-6F4C-43C6-97B9-5A3BDC9D41E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B436-0CC1-4593-8F51-AF76D308A25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DB9E-96C7-4847-AD34-65D86DDDE33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mani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holiday in Romania; currently in Ar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ight leaves tomorrow from Bucha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ormulate go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in Bucha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ormulate 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various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rive between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ind solu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cities, e.g., Arad, Sibiu, Fagaras, Bucha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A642-A70C-4120-8B2E-63EF00117F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EC3B-01BF-4EF3-B6B3-9EB5DA94C4C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CBF8-B6E5-4248-A22E-92C66C800F7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9C40-B02D-41DC-8A91-4D929E2A3D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E75-260A-46CA-A956-5EE8F718C6E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dep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: fails in infinite-depth spaces, spaces with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o avoid repeated states along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 in finite sp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erribl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much larger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solutions are dense, may be much faster than breadth-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m)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, linea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1B8-9E33-4362-A755-1AB896FFCBC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limited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depth-first search with depth lim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, nodes at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no succ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Recursive 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58203" t="36462" r="7422" b="20835"/>
          <a:stretch/>
        </p:blipFill>
        <p:spPr>
          <a:xfrm>
            <a:off x="914400" y="3124080"/>
            <a:ext cx="670572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50C-2B62-43D7-B760-9B034DEC329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14844" t="18753" r="3127" b="51046"/>
          <a:stretch/>
        </p:blipFill>
        <p:spPr>
          <a:xfrm>
            <a:off x="762120" y="1600200"/>
            <a:ext cx="800100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1350-960E-459C-A7B0-E1F7F260C728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5565-4897-4F61-93CD-B6AFACAE172F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792F-8C93-45A1-93E6-91E4BE8C31EF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2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1652760"/>
            <a:ext cx="7619760" cy="35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06F-1DAF-4140-979A-992E6A598EBB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mani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043-6F1B-4DDC-92ED-C34EEA35FA1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3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458-F69D-4229-9FA8-8594EC8A98CB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 depth-limited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L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=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n iterative deepening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d+1)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d 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(d-1)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… + 3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=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 =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D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 + 10 + 100 + 1,000 + 10,000 + 100,000 = 111,1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 + 50 + 400 + 3,000 + 20,000 + 100,000 = 123,45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 = (123,456 - 111,111)/111,111 = 1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155-9A73-452F-88C2-CC78D19012C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perties of 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d+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d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(d-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= 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(b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, if step cost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189-70B7-460E-BB03-B55EAADAAA4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 of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14065" t="22917" r="17970" b="51046"/>
          <a:stretch/>
        </p:blipFill>
        <p:spPr>
          <a:xfrm>
            <a:off x="1143000" y="1676520"/>
            <a:ext cx="66294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0544-C9F9-4541-B832-6C07B28FCB81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peated stat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lure to detect repeated states can turn a linear problem into an exponential on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8229600" cy="301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614E-30B5-4FF8-9725-09065672745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ph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14065" t="16666" r="3127" b="35419"/>
          <a:stretch/>
        </p:blipFill>
        <p:spPr>
          <a:xfrm>
            <a:off x="609480" y="1676520"/>
            <a:ext cx="80773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C34-0EE8-46F9-8C0B-7983EA60B776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formulation usually requires abstracting away real-world details to define a state space that can feasibly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ty of uninformed search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deepening search uses only linear space and not much more time than other uninformed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5DE-8227-4516-8887-0DAF7AB63840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 typ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Deterministic, fully observ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ngle-stat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 knows exactly which state it will be in; solution is a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Non-observable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nsorless problem (conformant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 may have no idea where it is; solution is a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Nondeterministic and/or partially observ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tingency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s provid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 about current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erlea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search, exec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Unknown state sp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lora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913-6D1E-4D24-953F-EF94FD3735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2433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ingle-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rt in #5.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0440" y="1757520"/>
            <a:ext cx="3925800" cy="32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5D50-0E07-4584-9927-6FA60F2EBB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ingle-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rt in #5.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 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C8C8-E599-4F7A-963E-154EB075E37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Suck,Left,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Conting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deterministic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ty a clean carp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ly observable: location, dirt at current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[L, Clean]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.e., start in #5 or #7</a:t>
            </a:r>
            <a:br>
              <a:rPr sz="20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FEF9-0122-4CEC-A57D-253A55686FC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58:58Z</dcterms:created>
  <dc:creator>Min-Yen Kan</dc:creator>
  <dc:description/>
  <dc:language>en-US</dc:language>
  <cp:lastModifiedBy>Min-Yen Kan</cp:lastModifiedBy>
  <dcterms:modified xsi:type="dcterms:W3CDTF">2003-12-22T03:06:45Z</dcterms:modified>
  <cp:revision>5</cp:revision>
  <dc:subject/>
  <dc:title>Solving problems by searching</dc:title>
</cp:coreProperties>
</file>