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DD90-5F14-4DF8-9ED2-D997D464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249-8476-440D-91C4-7E0E4A90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E37-DA4A-4764-A4C0-773FAF5A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F295-FA1B-47BE-85BF-A172ADBB2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C89-ADEE-431E-A1F0-85CC88A1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0E6-9616-4B91-80DD-909A1E18E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FE48-4099-4EF9-AE25-E1C90094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A144-E413-42F0-8597-296AB0D5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E0A-CF3F-4415-BA47-BE60EDEFE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F7C3-7074-44CD-B98C-FC1CD5C3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011-0042-4E29-8E18-5D5C3421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95C-84F1-422B-A209-30D95539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16CB-AE62-4D30-B1C2-9E9935125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ed search algorith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– can get stuck in loops, e.g.,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a good heuristic can give dramatic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avoid expanding paths that are alread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g(n) +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st so far to r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stimated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d total cost of path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1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 memory-bounded heurist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uris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to reach the goal stat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ssible heurist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ver overest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st to reach the goal, i.e., it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ver overestimates the actual road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dmissible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EE-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 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g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ubopti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)   = g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&gt; f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f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^*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h is admi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(n) +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&gt; 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never selec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uristic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very success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d by any a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(n,a,n') + h(n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'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) + c(n,a,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n-decreasing along any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-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962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ands nodes in order of increa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lly adds "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tours" of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ll nod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=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5638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$^*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 (unless there are infinitely many nodes with 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on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+1+2+2+2+3+3+2 =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th admi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min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etter for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earch costs (average number of nodes expand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3,644,035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27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3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2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too many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39,135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,641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with fewer restrictions on the actions is call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laxe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an optimal solution to a relaxed problem is an admissible heuristic for the origi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of the 8-puzzle are relaxed so that a tile can mo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are relaxed so that a tile can move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 adjacent squar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optimization problems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goal is irrelevant; the goal state itself is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pace = set of "complete"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nfiguration satisfying constraints, e.g., n-qu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we can 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single "current" state, try to impro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qu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ens o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rd with no two queens on the same row, column, or dia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Like climbing Everest in thick fog with amnesi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7970" t="27086" r="13282" b="36462"/>
          <a:stretch/>
        </p:blipFill>
        <p:spPr>
          <a:xfrm>
            <a:off x="838080" y="2743200"/>
            <a:ext cx="7620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depending on initial state, can get stuck in local max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airs of queens that are attacking each other, either directly or indi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=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abov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 minimum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escape local maxima by allowing some "bad" moves b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dually de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371600" y="3048120"/>
            <a:ext cx="6248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prove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s slowly enough, then simulated annealing search will find a global optimum with probability approachin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ly used in VLSI layout, airline scheduling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rather than jus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ly genera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iteration, all the successors of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one is a goal state, stop; else sele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successors from the complete list and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ccessor state is generated by combining two pa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ly generated stat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 is represented as a string over a finite alphabet (often a string of 0s and 1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ness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Higher values for bett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next generation of states by selection, crossover, and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Tree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input{\file{algorithms}{tree-search-short-algorithm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strategy is defined by pick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der of node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unction: number of non-attacking pairs of queens (min = 0, max = 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2 =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/(24+23+20+11) =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/(24+23+20+11) = 29%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71440" y="2433600"/>
            <a:ext cx="6801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us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on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"desirabilit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most desirable unexpanded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he nodes in fringe in decreasing order of desi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ia with step costs in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h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 of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aight-line distance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ucha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 best-first search expands the nod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closest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4:31:51Z</dcterms:created>
  <dc:creator>Min-Yen Kan</dc:creator>
  <dc:description/>
  <dc:language>en-US</dc:language>
  <cp:lastModifiedBy>Min-Yen Kan</cp:lastModifiedBy>
  <dcterms:modified xsi:type="dcterms:W3CDTF">2003-12-17T05:12:36Z</dcterms:modified>
  <cp:revision>5</cp:revision>
  <dc:subject/>
  <dc:title>Informed search algorithms </dc:title>
</cp:coreProperties>
</file>