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22680" y="21960"/>
            <a:ext cx="2978280" cy="40932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01680" y="21960"/>
            <a:ext cx="2978280" cy="40932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t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-22680" y="8767800"/>
            <a:ext cx="2978280" cy="40968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3901680" y="8767800"/>
            <a:ext cx="2978280" cy="409680"/>
          </a:xfrm>
          <a:prstGeom prst="rect">
            <a:avLst/>
          </a:prstGeom>
          <a:noFill/>
          <a:ln w="0">
            <a:noFill/>
          </a:ln>
        </p:spPr>
        <p:txBody>
          <a:bodyPr lIns="16920" rIns="16920" tIns="0" bIns="0" anchor="b">
            <a:noAutofit/>
          </a:bodyPr>
          <a:lstStyle>
            <a:lvl1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  <a:defRPr b="0" i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fld id="{70B41358-9038-46B2-A402-FA162647EEF7}" type="slidenum"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793960" y="8766000"/>
            <a:ext cx="1271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840" rIns="87840" tIns="43920" bIns="439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70120"/>
                <a:tab algn="l" pos="1739880"/>
                <a:tab algn="l" pos="2610000"/>
                <a:tab algn="l" pos="3479760"/>
                <a:tab algn="l" pos="4349880"/>
                <a:tab algn="l" pos="5219640"/>
                <a:tab algn="l" pos="6089760"/>
                <a:tab algn="l" pos="6959520"/>
                <a:tab algn="l" pos="7829640"/>
                <a:tab algn="l" pos="8699400"/>
                <a:tab algn="l" pos="9569520"/>
                <a:tab algn="l" pos="104392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C7725CA4-C02C-4AF7-B7D1-0DC01A0F2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Img"/>
          </p:nvPr>
        </p:nvSpPr>
        <p:spPr>
          <a:xfrm>
            <a:off x="1387440" y="883800"/>
            <a:ext cx="4083120" cy="306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914400" y="4368960"/>
            <a:ext cx="5029200" cy="41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/>
          <p:nvPr/>
        </p:nvSpPr>
        <p:spPr>
          <a:xfrm>
            <a:off x="3884760" y="0"/>
            <a:ext cx="29732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3884760" y="8739360"/>
            <a:ext cx="297324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7760" cy="41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ldImg"/>
          </p:nvPr>
        </p:nvSpPr>
        <p:spPr>
          <a:xfrm>
            <a:off x="1136520" y="695160"/>
            <a:ext cx="4584960" cy="343872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F5E-F1EC-4008-84BC-348B5EC3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74FB-7344-4CFE-9D7F-E5C72790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962-D965-4513-8727-E6B5C5D05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864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15160" y="13716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212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864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15160" y="3799800"/>
            <a:ext cx="245340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94A1-9F02-4030-81CE-7711B5AC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42ED-D8ED-4D9A-BBA6-C9A2492D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807B-DD8A-48FF-923D-EBA38A65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34AC-D711-4FBD-8D19-A4D6A884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E6D7-A4BC-4F0B-8E68-F2ABF597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674120" cy="341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5B7D-F404-464A-9582-0D5712F8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50D8-295D-406B-925F-A22F41F46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6320" y="37998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3DAD-02AB-47D0-8B2C-7DBF0756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6320" y="1371600"/>
            <a:ext cx="371808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2120" y="3799800"/>
            <a:ext cx="76197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E403-687C-437A-B0F5-20510146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69FE-10B3-4D47-936F-CCF751996F13}" type="datetime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14ff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4ff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ae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2E87-F4A1-4660-A863-8A47B38FC7DF}" type="slidenum">
              <a:rPr b="1" lang="en-US" sz="1400" spc="-1" strike="noStrike">
                <a:solidFill>
                  <a:srgbClr val="00ae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93720" y="1219320"/>
            <a:ext cx="7651800" cy="0"/>
          </a:xfrm>
          <a:prstGeom prst="line">
            <a:avLst/>
          </a:prstGeom>
          <a:ln w="47520">
            <a:solidFill>
              <a:srgbClr val="fbba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040" y="1348920"/>
            <a:ext cx="7829640" cy="190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Towards a Service Architecture for Internet-Scale Syste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71520" y="3250800"/>
            <a:ext cx="6400800" cy="20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vid E. Cull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r Science Divis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.C. Berkel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inja.cs.berkeley.ed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 flipH="1" flipV="1">
            <a:off x="6400440" y="1904760"/>
            <a:ext cx="1600200" cy="15228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4190760" y="5181120"/>
            <a:ext cx="990360" cy="68580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743200" y="5105160"/>
            <a:ext cx="1295280" cy="60948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1447920" y="3504960"/>
            <a:ext cx="0" cy="1600200"/>
          </a:xfrm>
          <a:prstGeom prst="line">
            <a:avLst/>
          </a:prstGeom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095880" y="4723920"/>
            <a:ext cx="1905120" cy="68580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Thin Client Access to Legacy Serve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971800"/>
            <a:ext cx="990720" cy="762120"/>
          </a:xfrm>
          <a:prstGeom prst="rect">
            <a:avLst/>
          </a:prstGeom>
          <a:solidFill>
            <a:srgbClr val="91919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733920" y="472428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502920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066680" y="312408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15000" y="434340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133720" y="56386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19920" y="17524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571500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200400"/>
            <a:ext cx="990360" cy="762120"/>
          </a:xfrm>
          <a:prstGeom prst="rect">
            <a:avLst/>
          </a:prstGeom>
          <a:solidFill>
            <a:srgbClr val="91919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0120" y="51814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696080" y="167652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05120" y="2209680"/>
            <a:ext cx="914400" cy="6098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c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63720" y="3340080"/>
            <a:ext cx="2651040" cy="1722600"/>
          </a:xfrm>
          <a:custGeom>
            <a:avLst/>
            <a:gdLst/>
            <a:ahLst/>
            <a:rect l="l" t="t" r="r" b="b"/>
            <a:pathLst>
              <a:path w="3609" h="1258">
                <a:moveTo>
                  <a:pt x="256" y="1258"/>
                </a:moveTo>
                <a:cubicBezTo>
                  <a:pt x="128" y="906"/>
                  <a:pt x="0" y="554"/>
                  <a:pt x="256" y="370"/>
                </a:cubicBezTo>
                <a:cubicBezTo>
                  <a:pt x="512" y="186"/>
                  <a:pt x="1234" y="218"/>
                  <a:pt x="1793" y="156"/>
                </a:cubicBezTo>
                <a:cubicBezTo>
                  <a:pt x="2352" y="94"/>
                  <a:pt x="2980" y="47"/>
                  <a:pt x="3609" y="0"/>
                </a:cubicBezTo>
              </a:path>
            </a:pathLst>
          </a:custGeom>
          <a:noFill/>
          <a:ln cap="sq" w="38160">
            <a:solidFill>
              <a:srgbClr val="fc0128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934760" y="2979720"/>
            <a:ext cx="8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Home</a:t>
            </a:r>
            <a:br>
              <a:rPr sz="1800"/>
            </a:b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533760" y="3236760"/>
            <a:ext cx="228600" cy="228600"/>
          </a:xfrm>
          <a:prstGeom prst="ellipse">
            <a:avLst/>
          </a:prstGeom>
          <a:solidFill>
            <a:srgbClr val="fc012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752560" y="2700360"/>
            <a:ext cx="822600" cy="600120"/>
          </a:xfrm>
          <a:prstGeom prst="line">
            <a:avLst/>
          </a:prstGeom>
          <a:ln cap="sq"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705120" y="2808360"/>
            <a:ext cx="3157560" cy="531360"/>
            <a:chOff x="3705120" y="2808360"/>
            <a:chExt cx="3157560" cy="531360"/>
          </a:xfrm>
        </p:grpSpPr>
        <p:sp>
          <p:nvSpPr>
            <p:cNvPr id="272" name=""/>
            <p:cNvSpPr/>
            <p:nvPr/>
          </p:nvSpPr>
          <p:spPr>
            <a:xfrm flipV="1">
              <a:off x="3705120" y="3104640"/>
              <a:ext cx="3157560" cy="235080"/>
            </a:xfrm>
            <a:prstGeom prst="line">
              <a:avLst/>
            </a:prstGeom>
            <a:ln w="38160">
              <a:solidFill>
                <a:srgbClr val="fc0128"/>
              </a:solidFill>
              <a:prstDash val="dash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782600" y="2808360"/>
              <a:ext cx="187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Personal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73C-6038-4194-9DB3-EF4935E645E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C6403-02D8-48E2-89C2-D7E90A0AE097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H="1" flipV="1">
            <a:off x="6400440" y="1904760"/>
            <a:ext cx="1600200" cy="15228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 flipV="1">
            <a:off x="4190760" y="5181120"/>
            <a:ext cx="990360" cy="68580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2743200" y="5105160"/>
            <a:ext cx="1295280" cy="60948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1447920" y="3504960"/>
            <a:ext cx="0" cy="1600200"/>
          </a:xfrm>
          <a:prstGeom prst="line">
            <a:avLst/>
          </a:prstGeom>
          <a:ln w="38160">
            <a:solidFill>
              <a:srgbClr val="00ae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6095880" y="4723920"/>
            <a:ext cx="1905120" cy="68580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Sensor Aggregation 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81680" y="2971800"/>
            <a:ext cx="990720" cy="762120"/>
          </a:xfrm>
          <a:prstGeom prst="rect">
            <a:avLst/>
          </a:prstGeom>
          <a:solidFill>
            <a:srgbClr val="91919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33920" y="472428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502920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6680" y="312408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15000" y="434340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56386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19920" y="17524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76920" y="571500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05320" y="3200400"/>
            <a:ext cx="990360" cy="762120"/>
          </a:xfrm>
          <a:prstGeom prst="rect">
            <a:avLst/>
          </a:prstGeom>
          <a:solidFill>
            <a:srgbClr val="91919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20120" y="51814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96080" y="167652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05120" y="2209680"/>
            <a:ext cx="914400" cy="6098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c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3998880" y="3813120"/>
            <a:ext cx="318960" cy="1023840"/>
          </a:xfrm>
          <a:prstGeom prst="line">
            <a:avLst/>
          </a:prstGeom>
          <a:ln cap="sq" w="38160">
            <a:solidFill>
              <a:srgbClr val="fc0128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44840" y="1790640"/>
            <a:ext cx="3837240" cy="2044800"/>
          </a:xfrm>
          <a:custGeom>
            <a:avLst/>
            <a:gdLst/>
            <a:ahLst/>
            <a:rect l="l" t="t" r="r" b="b"/>
            <a:pathLst>
              <a:path w="2417" h="1288">
                <a:moveTo>
                  <a:pt x="0" y="1288"/>
                </a:moveTo>
                <a:cubicBezTo>
                  <a:pt x="952" y="856"/>
                  <a:pt x="1905" y="424"/>
                  <a:pt x="2161" y="212"/>
                </a:cubicBezTo>
                <a:cubicBezTo>
                  <a:pt x="2417" y="0"/>
                  <a:pt x="1977" y="7"/>
                  <a:pt x="1537" y="14"/>
                </a:cubicBezTo>
              </a:path>
            </a:pathLst>
          </a:custGeom>
          <a:noFill/>
          <a:ln w="38160">
            <a:solidFill>
              <a:srgbClr val="fc0128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4" name=""/>
          <p:cNvCxnSpPr>
            <a:stCxn id="285" idx="0"/>
            <a:endCxn id="295" idx="2"/>
          </p:cNvCxnSpPr>
          <p:nvPr/>
        </p:nvCxnSpPr>
        <p:spPr>
          <a:xfrm flipH="1" flipV="1" rot="5400000">
            <a:off x="2819160" y="4571640"/>
            <a:ext cx="800640" cy="1334160"/>
          </a:xfrm>
          <a:prstGeom prst="curvedConnector2">
            <a:avLst/>
          </a:prstGeom>
          <a:ln cap="sq" w="3816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296" name=""/>
          <p:cNvCxnSpPr>
            <a:stCxn id="287" idx="0"/>
            <a:endCxn id="295" idx="6"/>
          </p:cNvCxnSpPr>
          <p:nvPr/>
        </p:nvCxnSpPr>
        <p:spPr>
          <a:xfrm flipV="1" rot="16200000">
            <a:off x="4266720" y="4685760"/>
            <a:ext cx="876960" cy="1181880"/>
          </a:xfrm>
          <a:prstGeom prst="curvedConnector2">
            <a:avLst/>
          </a:prstGeom>
          <a:ln cap="sq" w="38160">
            <a:solidFill>
              <a:srgbClr val="fc0128"/>
            </a:solidFill>
            <a:miter/>
            <a:tailEnd len="med" type="arrow" w="med"/>
          </a:ln>
        </p:spPr>
      </p:cxnSp>
      <p:grpSp>
        <p:nvGrpSpPr>
          <p:cNvPr id="297" name=""/>
          <p:cNvGrpSpPr/>
          <p:nvPr/>
        </p:nvGrpSpPr>
        <p:grpSpPr>
          <a:xfrm>
            <a:off x="4216320" y="3708360"/>
            <a:ext cx="1274040" cy="496080"/>
            <a:chOff x="4216320" y="3708360"/>
            <a:chExt cx="1274040" cy="496080"/>
          </a:xfrm>
        </p:grpSpPr>
        <p:sp>
          <p:nvSpPr>
            <p:cNvPr id="298" name=""/>
            <p:cNvSpPr/>
            <p:nvPr/>
          </p:nvSpPr>
          <p:spPr>
            <a:xfrm>
              <a:off x="4216320" y="3708360"/>
              <a:ext cx="228600" cy="228600"/>
            </a:xfrm>
            <a:prstGeom prst="ellipse">
              <a:avLst/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736520" y="3867120"/>
              <a:ext cx="75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 flipV="1">
              <a:off x="4474800" y="3913200"/>
              <a:ext cx="299880" cy="131760"/>
            </a:xfrm>
            <a:prstGeom prst="line">
              <a:avLst/>
            </a:prstGeom>
            <a:ln cap="sq"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247480" y="4255920"/>
            <a:ext cx="1867320" cy="696960"/>
            <a:chOff x="2247480" y="4255920"/>
            <a:chExt cx="1867320" cy="696960"/>
          </a:xfrm>
        </p:grpSpPr>
        <p:sp>
          <p:nvSpPr>
            <p:cNvPr id="295" name=""/>
            <p:cNvSpPr/>
            <p:nvPr/>
          </p:nvSpPr>
          <p:spPr>
            <a:xfrm>
              <a:off x="3886200" y="4724280"/>
              <a:ext cx="228600" cy="228600"/>
            </a:xfrm>
            <a:prstGeom prst="ellipse">
              <a:avLst/>
            </a:prstGeom>
            <a:solidFill>
              <a:srgbClr val="fc0128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247480" y="4255920"/>
              <a:ext cx="1271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Aggreg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52680" y="4540320"/>
              <a:ext cx="547920" cy="222120"/>
            </a:xfrm>
            <a:prstGeom prst="line">
              <a:avLst/>
            </a:prstGeom>
            <a:ln cap="sq" w="2844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3821-1189-434E-9F9E-FCCC80950B2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B9D43-3406-4AAA-86BA-1EF9CDC60131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 flipH="1" flipV="1">
            <a:off x="4190760" y="5181120"/>
            <a:ext cx="990360" cy="68580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743200" y="5105160"/>
            <a:ext cx="1295280" cy="60948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13960" y="290160"/>
            <a:ext cx="7581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ample: TopGun WingMan/Mediaboard Oper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809880" y="457200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133720" y="56386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19920" y="1752480"/>
            <a:ext cx="83808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876920" y="5715000"/>
            <a:ext cx="1047600" cy="324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505320" y="3200400"/>
            <a:ext cx="990360" cy="762120"/>
          </a:xfrm>
          <a:prstGeom prst="rect">
            <a:avLst/>
          </a:prstGeom>
          <a:solidFill>
            <a:srgbClr val="919191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238880" y="4038480"/>
            <a:ext cx="838440" cy="30492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1676520"/>
            <a:ext cx="685800" cy="685800"/>
          </a:xfrm>
          <a:prstGeom prst="ellipse">
            <a:avLst/>
          </a:prstGeom>
          <a:solidFill>
            <a:srgbClr val="618ffd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905120" y="2209680"/>
            <a:ext cx="914400" cy="6098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acy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8" idx="0"/>
            <a:endCxn id="316" idx="2"/>
          </p:cNvCxnSpPr>
          <p:nvPr/>
        </p:nvCxnSpPr>
        <p:spPr>
          <a:xfrm flipH="1" flipV="1" rot="5400000">
            <a:off x="2819160" y="4571640"/>
            <a:ext cx="800640" cy="1334160"/>
          </a:xfrm>
          <a:prstGeom prst="curvedConnector2">
            <a:avLst/>
          </a:prstGeom>
          <a:ln cap="sq" w="38160">
            <a:solidFill>
              <a:srgbClr val="00ae00"/>
            </a:solidFill>
            <a:miter/>
          </a:ln>
        </p:spPr>
      </p:cxnSp>
      <p:cxnSp>
        <p:nvCxnSpPr>
          <p:cNvPr id="317" name=""/>
          <p:cNvCxnSpPr>
            <a:stCxn id="310" idx="0"/>
            <a:endCxn id="316" idx="6"/>
          </p:cNvCxnSpPr>
          <p:nvPr/>
        </p:nvCxnSpPr>
        <p:spPr>
          <a:xfrm flipV="1" rot="16200000">
            <a:off x="4319280" y="4633200"/>
            <a:ext cx="876960" cy="1286640"/>
          </a:xfrm>
          <a:prstGeom prst="curvedConnector2">
            <a:avLst/>
          </a:prstGeom>
          <a:ln cap="sq" w="38160">
            <a:solidFill>
              <a:srgbClr val="00ae00"/>
            </a:solidFill>
            <a:miter/>
          </a:ln>
        </p:spPr>
      </p:cxnSp>
      <p:sp>
        <p:nvSpPr>
          <p:cNvPr id="318" name=""/>
          <p:cNvSpPr/>
          <p:nvPr/>
        </p:nvSpPr>
        <p:spPr>
          <a:xfrm flipH="1">
            <a:off x="4495320" y="3657600"/>
            <a:ext cx="762120" cy="15228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247480" y="425592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ggreg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4540320"/>
            <a:ext cx="547920" cy="2221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257800" y="55627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67080" y="4114800"/>
            <a:ext cx="2971800" cy="0"/>
          </a:xfrm>
          <a:prstGeom prst="line">
            <a:avLst/>
          </a:prstGeom>
          <a:ln cap="sq"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574880" y="4114800"/>
            <a:ext cx="1192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lti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n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77960" y="3429000"/>
            <a:ext cx="134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dia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477120" y="3733920"/>
            <a:ext cx="609480" cy="30456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438280" y="54864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80480" y="3273480"/>
            <a:ext cx="177948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age 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-Z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1680" y="1752480"/>
            <a:ext cx="1067040" cy="152640"/>
          </a:xfrm>
          <a:prstGeom prst="line">
            <a:avLst/>
          </a:prstGeom>
          <a:ln w="28440">
            <a:solidFill>
              <a:srgbClr val="00ae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4419360" y="1905120"/>
            <a:ext cx="3352680" cy="1676160"/>
          </a:xfrm>
          <a:prstGeom prst="line">
            <a:avLst/>
          </a:prstGeom>
          <a:ln cap="sq"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666880" y="2514600"/>
            <a:ext cx="1676520" cy="1066680"/>
          </a:xfrm>
          <a:prstGeom prst="line">
            <a:avLst/>
          </a:prstGeom>
          <a:ln cap="sq"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9560" y="2514600"/>
            <a:ext cx="122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DA Prox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4419360" y="2895480"/>
            <a:ext cx="152280" cy="533520"/>
          </a:xfrm>
          <a:prstGeom prst="line">
            <a:avLst/>
          </a:prstGeom>
          <a:ln cap="sq" w="2844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3580920" y="3581280"/>
            <a:ext cx="838440" cy="228600"/>
          </a:xfrm>
          <a:prstGeom prst="line">
            <a:avLst/>
          </a:prstGeom>
          <a:ln cap="sq"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580920" y="3581280"/>
            <a:ext cx="838440" cy="0"/>
          </a:xfrm>
          <a:prstGeom prst="line">
            <a:avLst/>
          </a:prstGeom>
          <a:ln cap="sq" w="2844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4038480" y="3580920"/>
            <a:ext cx="381240" cy="1219320"/>
          </a:xfrm>
          <a:prstGeom prst="line">
            <a:avLst/>
          </a:prstGeom>
          <a:ln cap="sq" w="38160">
            <a:solidFill>
              <a:srgbClr val="00a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449568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472428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216320" y="370836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29000" y="342900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29000" y="37339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67080" y="35053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62920" y="403848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696080" y="175248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05720" y="1676520"/>
            <a:ext cx="228600" cy="228600"/>
          </a:xfrm>
          <a:prstGeom prst="ellipse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C04-0467-4C3C-A9F6-EB7C60738B9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C42E70-E419-424C-B000-C1A367E6F52E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INJA Service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rators/Connectors/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-Area Pa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face Interconn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 Optim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s, Active Proxies, and 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Path Gener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 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al remote control/smart spa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al In-Box/Personal Information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FFB3-D099-4BD4-8432-E315CD1C66A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5A0C9-EC48-4B73-966D-213873AD80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perators/Connector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3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Operato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 provides secure execution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Connector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 wi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ying semant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/multica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86080" y="1781280"/>
            <a:ext cx="520920" cy="520560"/>
          </a:xfrm>
          <a:prstGeom prst="ellipse">
            <a:avLst/>
          </a:prstGeom>
          <a:solidFill>
            <a:srgbClr val="fc012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90960" y="3619440"/>
            <a:ext cx="838080" cy="228600"/>
          </a:xfrm>
          <a:prstGeom prst="rect">
            <a:avLst/>
          </a:prstGeom>
          <a:solidFill>
            <a:srgbClr val="00ae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15000" y="2819520"/>
            <a:ext cx="520560" cy="520560"/>
          </a:xfrm>
          <a:prstGeom prst="ellipse">
            <a:avLst/>
          </a:prstGeom>
          <a:solidFill>
            <a:srgbClr val="fc012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0120" y="2819520"/>
            <a:ext cx="520560" cy="520560"/>
          </a:xfrm>
          <a:prstGeom prst="ellipse">
            <a:avLst/>
          </a:prstGeom>
          <a:solidFill>
            <a:srgbClr val="fc012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86600" y="2819520"/>
            <a:ext cx="520560" cy="520560"/>
          </a:xfrm>
          <a:prstGeom prst="ellipse">
            <a:avLst/>
          </a:prstGeom>
          <a:solidFill>
            <a:srgbClr val="fc012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971800"/>
            <a:ext cx="838080" cy="228600"/>
          </a:xfrm>
          <a:prstGeom prst="rect">
            <a:avLst/>
          </a:prstGeom>
          <a:solidFill>
            <a:srgbClr val="00ae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48520" y="2971800"/>
            <a:ext cx="838080" cy="228600"/>
          </a:xfrm>
          <a:prstGeom prst="rect">
            <a:avLst/>
          </a:prstGeom>
          <a:solidFill>
            <a:srgbClr val="00ae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2971800"/>
            <a:ext cx="838080" cy="228600"/>
          </a:xfrm>
          <a:prstGeom prst="rect">
            <a:avLst/>
          </a:prstGeom>
          <a:solidFill>
            <a:srgbClr val="00ae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715000" y="27432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248520" y="27432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086600" y="27432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20120" y="27432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077320" y="2743200"/>
            <a:ext cx="0" cy="685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7467480" y="2285640"/>
            <a:ext cx="838440" cy="228600"/>
          </a:xfrm>
          <a:prstGeom prst="rect">
            <a:avLst/>
          </a:prstGeom>
          <a:solidFill>
            <a:srgbClr val="00ae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6248160" y="2438280"/>
            <a:ext cx="838080" cy="228600"/>
          </a:xfrm>
          <a:prstGeom prst="rect">
            <a:avLst/>
          </a:prstGeom>
          <a:solidFill>
            <a:srgbClr val="00ae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400800" y="1676520"/>
            <a:ext cx="520560" cy="520560"/>
          </a:xfrm>
          <a:prstGeom prst="ellipse">
            <a:avLst/>
          </a:prstGeom>
          <a:solidFill>
            <a:srgbClr val="fc0128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24480" y="220968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543800" y="281952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47960" y="3809880"/>
            <a:ext cx="42670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Interfac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ly typ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uage independ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chann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chan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572160" y="3990960"/>
            <a:ext cx="685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F5BC-46F0-4F56-A47F-1D81D52EBF49}" type="slidenum">
              <a:t>14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CC484-DFAD-4C35-93C5-743ED159A2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Wide-Area Path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6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is a first-class entit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icit or automatic 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n change dynam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ge path or op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of authentication: delegate along the pa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t of resource al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719-3140-46DC-8FD1-1683ED5585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B4AE6-1A73-4486-9231-955822BA4639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WAN Paths: Economics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Idea: securely delegate authority to any path compone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your e-mail remot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orized services (subscription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henticated sensor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cas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y-per-use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one-time (or subscrip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89AF-5556-4F11-82EC-BD07586F1D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84C44A-5A5D-4599-AAEE-550248799815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WAN Paths: Optimization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	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505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rt operators into the pat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ward error-correction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for error-prone wireless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ression/decompression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.g., bandwidth constrained lin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parame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ansmission windo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tings for wireless or satelli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route path dynamical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214F-210F-4377-BBDB-9703942F01F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63373-9286-431C-BFEE-5C30E26955D1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onnecting Interfac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al: trivial to conn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 be automat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s are polymorph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res carry a generic ADU of type 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tomatic marshall/unmarshal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de must be created at instanti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ables automated connection and 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145-FA9E-4736-AD26-4E7900E2D6A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11FBC-3750-4F5F-8B5F-EF17D81EDF87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eroperability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apper operators for legacy serv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tBot, Zip2, Patent ser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 wrappers for each MIME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ors use TCP, UDP, multica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rage COM objects as op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 Excel remote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ts of third party compon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DBC/JDBC data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BE8-5C5C-4BA8-A825-7EEDD5A006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10BA1-5E43-4D12-94EF-6D2E22E589E5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498680" y="3178080"/>
            <a:ext cx="428400" cy="2653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70080" y="2971800"/>
            <a:ext cx="457200" cy="322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76560" y="2851200"/>
            <a:ext cx="457200" cy="23652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755360" y="1781280"/>
            <a:ext cx="12600" cy="1355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440080" y="1876320"/>
            <a:ext cx="914400" cy="10670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4030560" y="2049120"/>
            <a:ext cx="534960" cy="23590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Future Internet-Scale Syste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6200" y="1387440"/>
            <a:ext cx="2525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268560" indent="-268560">
              <a:lnSpc>
                <a:spcPct val="90000"/>
              </a:lnSpc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Devic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~10 Bill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nected Stationary Computers (~100 Mill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ct val="90000"/>
              </a:lnSpc>
              <a:spcBef>
                <a:spcPts val="6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 Servers (~Millio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232000" y="2013120"/>
            <a:ext cx="287280" cy="231480"/>
          </a:xfrm>
          <a:prstGeom prst="parallelogram">
            <a:avLst>
              <a:gd name="adj" fmla="val 31026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384280" y="2165400"/>
            <a:ext cx="287640" cy="231840"/>
          </a:xfrm>
          <a:prstGeom prst="parallelogram">
            <a:avLst>
              <a:gd name="adj" fmla="val 31017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59120" y="168912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11400" y="200016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41800" y="148104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394080" y="1792440"/>
            <a:ext cx="287280" cy="231480"/>
          </a:xfrm>
          <a:prstGeom prst="parallelogram">
            <a:avLst>
              <a:gd name="adj" fmla="val 31026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78160" y="1641600"/>
            <a:ext cx="287280" cy="231480"/>
          </a:xfrm>
          <a:prstGeom prst="parallelogram">
            <a:avLst>
              <a:gd name="adj" fmla="val 31026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8480" y="191772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20760" y="207000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95600" y="159372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47880" y="1905120"/>
            <a:ext cx="287280" cy="231480"/>
          </a:xfrm>
          <a:prstGeom prst="parallelogram">
            <a:avLst>
              <a:gd name="adj" fmla="val 31026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18080" y="188280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70360" y="203508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4840" y="1558800"/>
            <a:ext cx="287640" cy="231840"/>
          </a:xfrm>
          <a:prstGeom prst="parallelogram">
            <a:avLst>
              <a:gd name="adj" fmla="val 31017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7480" y="1870200"/>
            <a:ext cx="287280" cy="231480"/>
          </a:xfrm>
          <a:prstGeom prst="parallelogram">
            <a:avLst>
              <a:gd name="adj" fmla="val 31026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815000" y="168264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967280" y="1994040"/>
            <a:ext cx="287280" cy="231480"/>
          </a:xfrm>
          <a:prstGeom prst="parallelogram">
            <a:avLst>
              <a:gd name="adj" fmla="val 31026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292720" y="1712880"/>
            <a:ext cx="287280" cy="231840"/>
          </a:xfrm>
          <a:prstGeom prst="parallelogram">
            <a:avLst>
              <a:gd name="adj" fmla="val 30978"/>
            </a:avLst>
          </a:prstGeom>
          <a:solidFill>
            <a:srgbClr val="114ff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14840" y="3228840"/>
            <a:ext cx="457200" cy="3812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24560" y="2973240"/>
            <a:ext cx="457200" cy="17784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4800" y="4143240"/>
            <a:ext cx="5311800" cy="1818000"/>
          </a:xfrm>
          <a:prstGeom prst="cloudCallout">
            <a:avLst>
              <a:gd name="adj1" fmla="val -36134"/>
              <a:gd name="adj2" fmla="val 66504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44760" y="466236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25760" y="474192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97040" y="481500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78040" y="489420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855800" y="495936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36800" y="503856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08080" y="5111640"/>
            <a:ext cx="34632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089080" y="5191200"/>
            <a:ext cx="34632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46520" y="441000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27520" y="448956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98800" y="4562640"/>
            <a:ext cx="346320" cy="30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9800" y="464184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57560" y="4707000"/>
            <a:ext cx="34632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54160" y="4699080"/>
            <a:ext cx="34632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25800" y="4772160"/>
            <a:ext cx="345960" cy="301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06800" y="4851360"/>
            <a:ext cx="345960" cy="301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1601280" y="3463560"/>
            <a:ext cx="158760" cy="1227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933560" y="3088800"/>
            <a:ext cx="504720" cy="1760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2525400" y="3103560"/>
            <a:ext cx="1312920" cy="135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940200" y="3146040"/>
            <a:ext cx="1023840" cy="1298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5ECD-284B-4846-9FF5-6A56CD4243B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06CD11-F4BA-499F-8922-324D9739EC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rvic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y available program with fixed interface at a fixed loc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ngly Typed Inte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ple services of a given type compe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ete on location, price, robustness, “quality”, brand 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d “best” service of given typ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052D-D066-4C07-9FC5-A3098AF98E7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A7593-20A9-4C83-9AC5-FECF1C31E990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Automatic Path Cre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goal is path cre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logical path of opera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 must type chec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ce operators on no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operators have affin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ce them firs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 connectors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te any authentication key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7D92-6E29-424E-B661-DF5D616490B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13E25-2437-41EA-8B56-7E9376A70AAF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ervice Discovery and Us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43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basic step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a local Active Prox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rvice-discovery servi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path creation, including transform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te UI from interface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80680" y="457200"/>
            <a:ext cx="801684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332b7"/>
                </a:solidFill>
                <a:latin typeface="Arial"/>
              </a:rPr>
              <a:t>Wide-Area Paths (summary)</a:t>
            </a:r>
            <a:endParaRPr b="1" lang="en-US" sz="28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81835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on (explicit or automatic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ry </a:t>
            </a:r>
            <a:r>
              <a:rPr b="0" lang="en-US" sz="1800" spc="-1" strike="noStrike">
                <a:solidFill>
                  <a:srgbClr val="114ffb"/>
                </a:solidFill>
                <a:latin typeface="Arial"/>
              </a:rPr>
              <a:t>Service Discovery Servi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to find logical path of op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perators onto nod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h is unit of resource allocation and authentic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ors are polymorphic: entire path must type check - statical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(or transpose) op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 error-corr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ression/decompres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operators, connectors, locations, or paramet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operabilit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operators for legacy serv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rage COM objects as op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F7F6-83A6-4E98-B59C-2816B9BD62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82D65-3AF8-4912-AB22-16F76116B39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344760" y="2195640"/>
            <a:ext cx="217440" cy="392040"/>
          </a:xfrm>
          <a:custGeom>
            <a:avLst/>
            <a:gdLst/>
            <a:ahLst/>
            <a:rect l="l" t="t" r="r" b="b"/>
            <a:pathLst>
              <a:path w="191" h="390">
                <a:moveTo>
                  <a:pt x="129" y="0"/>
                </a:moveTo>
                <a:cubicBezTo>
                  <a:pt x="64" y="53"/>
                  <a:pt x="0" y="107"/>
                  <a:pt x="9" y="150"/>
                </a:cubicBezTo>
                <a:cubicBezTo>
                  <a:pt x="18" y="193"/>
                  <a:pt x="175" y="218"/>
                  <a:pt x="183" y="258"/>
                </a:cubicBezTo>
                <a:cubicBezTo>
                  <a:pt x="191" y="298"/>
                  <a:pt x="124" y="344"/>
                  <a:pt x="57" y="3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659040" y="2257560"/>
            <a:ext cx="217800" cy="392040"/>
          </a:xfrm>
          <a:custGeom>
            <a:avLst/>
            <a:gdLst/>
            <a:ahLst/>
            <a:rect l="l" t="t" r="r" b="b"/>
            <a:pathLst>
              <a:path w="191" h="390">
                <a:moveTo>
                  <a:pt x="129" y="0"/>
                </a:moveTo>
                <a:cubicBezTo>
                  <a:pt x="64" y="53"/>
                  <a:pt x="0" y="107"/>
                  <a:pt x="9" y="150"/>
                </a:cubicBezTo>
                <a:cubicBezTo>
                  <a:pt x="18" y="193"/>
                  <a:pt x="175" y="218"/>
                  <a:pt x="183" y="258"/>
                </a:cubicBezTo>
                <a:cubicBezTo>
                  <a:pt x="191" y="298"/>
                  <a:pt x="124" y="344"/>
                  <a:pt x="57" y="3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25800" y="2181240"/>
            <a:ext cx="217440" cy="392040"/>
          </a:xfrm>
          <a:custGeom>
            <a:avLst/>
            <a:gdLst/>
            <a:ahLst/>
            <a:rect l="l" t="t" r="r" b="b"/>
            <a:pathLst>
              <a:path w="191" h="390">
                <a:moveTo>
                  <a:pt x="129" y="0"/>
                </a:moveTo>
                <a:cubicBezTo>
                  <a:pt x="64" y="53"/>
                  <a:pt x="0" y="107"/>
                  <a:pt x="9" y="150"/>
                </a:cubicBezTo>
                <a:cubicBezTo>
                  <a:pt x="18" y="193"/>
                  <a:pt x="175" y="218"/>
                  <a:pt x="183" y="258"/>
                </a:cubicBezTo>
                <a:cubicBezTo>
                  <a:pt x="191" y="298"/>
                  <a:pt x="124" y="344"/>
                  <a:pt x="57" y="3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40080" y="2243160"/>
            <a:ext cx="217800" cy="393840"/>
          </a:xfrm>
          <a:custGeom>
            <a:avLst/>
            <a:gdLst/>
            <a:ahLst/>
            <a:rect l="l" t="t" r="r" b="b"/>
            <a:pathLst>
              <a:path w="191" h="390">
                <a:moveTo>
                  <a:pt x="129" y="0"/>
                </a:moveTo>
                <a:cubicBezTo>
                  <a:pt x="64" y="53"/>
                  <a:pt x="0" y="107"/>
                  <a:pt x="9" y="150"/>
                </a:cubicBezTo>
                <a:cubicBezTo>
                  <a:pt x="18" y="193"/>
                  <a:pt x="175" y="218"/>
                  <a:pt x="183" y="258"/>
                </a:cubicBezTo>
                <a:cubicBezTo>
                  <a:pt x="191" y="298"/>
                  <a:pt x="124" y="344"/>
                  <a:pt x="57" y="3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35640" y="2201760"/>
            <a:ext cx="217440" cy="392040"/>
          </a:xfrm>
          <a:custGeom>
            <a:avLst/>
            <a:gdLst/>
            <a:ahLst/>
            <a:rect l="l" t="t" r="r" b="b"/>
            <a:pathLst>
              <a:path w="191" h="390">
                <a:moveTo>
                  <a:pt x="129" y="0"/>
                </a:moveTo>
                <a:cubicBezTo>
                  <a:pt x="64" y="53"/>
                  <a:pt x="0" y="107"/>
                  <a:pt x="9" y="150"/>
                </a:cubicBezTo>
                <a:cubicBezTo>
                  <a:pt x="18" y="193"/>
                  <a:pt x="175" y="218"/>
                  <a:pt x="183" y="258"/>
                </a:cubicBezTo>
                <a:cubicBezTo>
                  <a:pt x="191" y="298"/>
                  <a:pt x="124" y="344"/>
                  <a:pt x="57" y="3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849920" y="2265480"/>
            <a:ext cx="217440" cy="392040"/>
          </a:xfrm>
          <a:custGeom>
            <a:avLst/>
            <a:gdLst/>
            <a:ahLst/>
            <a:rect l="l" t="t" r="r" b="b"/>
            <a:pathLst>
              <a:path w="191" h="390">
                <a:moveTo>
                  <a:pt x="129" y="0"/>
                </a:moveTo>
                <a:cubicBezTo>
                  <a:pt x="64" y="53"/>
                  <a:pt x="0" y="107"/>
                  <a:pt x="9" y="150"/>
                </a:cubicBezTo>
                <a:cubicBezTo>
                  <a:pt x="18" y="193"/>
                  <a:pt x="175" y="218"/>
                  <a:pt x="183" y="258"/>
                </a:cubicBezTo>
                <a:cubicBezTo>
                  <a:pt x="191" y="298"/>
                  <a:pt x="124" y="344"/>
                  <a:pt x="57" y="39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216240" y="2146320"/>
            <a:ext cx="1990800" cy="531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083120" y="197820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2568240" y="196380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092480" y="1963800"/>
            <a:ext cx="0" cy="168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88680" y="16462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requ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02800" y="2049480"/>
            <a:ext cx="14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threa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150080" y="3466800"/>
            <a:ext cx="551520" cy="495720"/>
            <a:chOff x="4150080" y="3466800"/>
            <a:chExt cx="551520" cy="495720"/>
          </a:xfrm>
        </p:grpSpPr>
        <p:sp>
          <p:nvSpPr>
            <p:cNvPr id="399" name=""/>
            <p:cNvSpPr/>
            <p:nvPr/>
          </p:nvSpPr>
          <p:spPr>
            <a:xfrm rot="5008800">
              <a:off x="4205160" y="3462120"/>
              <a:ext cx="441360" cy="504720"/>
            </a:xfrm>
            <a:prstGeom prst="flowChartPunched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4279320" y="354600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4273560" y="362304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4308120" y="371412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325400" y="379836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4336920" y="386820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4816440" y="3495240"/>
            <a:ext cx="551880" cy="495720"/>
            <a:chOff x="4816440" y="3495240"/>
            <a:chExt cx="551880" cy="495720"/>
          </a:xfrm>
        </p:grpSpPr>
        <p:sp>
          <p:nvSpPr>
            <p:cNvPr id="406" name=""/>
            <p:cNvSpPr/>
            <p:nvPr/>
          </p:nvSpPr>
          <p:spPr>
            <a:xfrm rot="5008800">
              <a:off x="4871520" y="3490560"/>
              <a:ext cx="441360" cy="505080"/>
            </a:xfrm>
            <a:prstGeom prst="flowChartPunched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4946040" y="357444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4940640" y="365148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974840" y="374256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992120" y="382680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5003640" y="389664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445000" y="3474720"/>
            <a:ext cx="551880" cy="495720"/>
            <a:chOff x="5445000" y="3474720"/>
            <a:chExt cx="551880" cy="495720"/>
          </a:xfrm>
        </p:grpSpPr>
        <p:sp>
          <p:nvSpPr>
            <p:cNvPr id="413" name=""/>
            <p:cNvSpPr/>
            <p:nvPr/>
          </p:nvSpPr>
          <p:spPr>
            <a:xfrm rot="5008800">
              <a:off x="5500080" y="3470040"/>
              <a:ext cx="441360" cy="505080"/>
            </a:xfrm>
            <a:prstGeom prst="flowChartPunched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5574600" y="355392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569200" y="363096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603400" y="372204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5620680" y="380628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5632200" y="387612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4419360" y="401004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378240" y="3540240"/>
            <a:ext cx="371520" cy="46836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63800" y="3546360"/>
            <a:ext cx="371520" cy="470160"/>
          </a:xfrm>
          <a:prstGeom prst="flowChartMagneticDisk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829240" y="4079880"/>
            <a:ext cx="8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816200" y="2481120"/>
            <a:ext cx="485640" cy="1558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816200" y="2671920"/>
            <a:ext cx="485640" cy="15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816200" y="2881440"/>
            <a:ext cx="485640" cy="15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16200" y="3084480"/>
            <a:ext cx="485640" cy="15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16200" y="3273480"/>
            <a:ext cx="485640" cy="154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816200" y="3470400"/>
            <a:ext cx="485640" cy="153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83120" y="2671920"/>
            <a:ext cx="1219320" cy="674640"/>
          </a:xfrm>
          <a:prstGeom prst="flowChartMagneticDisk">
            <a:avLst/>
          </a:prstGeom>
          <a:solidFill>
            <a:srgbClr val="ffffff"/>
          </a:solidFill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ist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654280" y="2790720"/>
            <a:ext cx="3086280" cy="601920"/>
          </a:xfrm>
          <a:prstGeom prst="roundRect">
            <a:avLst>
              <a:gd name="adj" fmla="val 16667"/>
            </a:avLst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d RMI+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695240" y="3660840"/>
            <a:ext cx="104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21400" y="2552760"/>
            <a:ext cx="35208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111480" y="2425680"/>
            <a:ext cx="1542960" cy="1085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Space Execution Environmen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47280" y="4503240"/>
            <a:ext cx="8312040" cy="177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application framework on Ba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I++ hides complexity of scalability and avail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customization and composi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Space is limited execution environment for 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68760" y="2884320"/>
            <a:ext cx="561960" cy="40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825640" y="296064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4880" y="296064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816280" y="304632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35160" y="304632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16280" y="313200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035160" y="313200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25640" y="320832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4880" y="3208320"/>
            <a:ext cx="16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41880" y="3270240"/>
            <a:ext cx="708120" cy="250920"/>
          </a:xfrm>
          <a:custGeom>
            <a:avLst/>
            <a:gdLst/>
            <a:ahLst/>
            <a:rect l="l" t="t" r="r" b="b"/>
            <a:pathLst>
              <a:path w="446" h="158">
                <a:moveTo>
                  <a:pt x="446" y="131"/>
                </a:moveTo>
                <a:cubicBezTo>
                  <a:pt x="342" y="65"/>
                  <a:pt x="238" y="0"/>
                  <a:pt x="164" y="4"/>
                </a:cubicBezTo>
                <a:cubicBezTo>
                  <a:pt x="90" y="8"/>
                  <a:pt x="27" y="132"/>
                  <a:pt x="0" y="15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33920" y="1552680"/>
            <a:ext cx="6555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633920" y="1579680"/>
            <a:ext cx="1440" cy="560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351400" y="1320480"/>
            <a:ext cx="551880" cy="495720"/>
            <a:chOff x="5351400" y="1320480"/>
            <a:chExt cx="551880" cy="495720"/>
          </a:xfrm>
        </p:grpSpPr>
        <p:sp>
          <p:nvSpPr>
            <p:cNvPr id="449" name=""/>
            <p:cNvSpPr/>
            <p:nvPr/>
          </p:nvSpPr>
          <p:spPr>
            <a:xfrm rot="5008800">
              <a:off x="5406480" y="1315800"/>
              <a:ext cx="441360" cy="505080"/>
            </a:xfrm>
            <a:prstGeom prst="flowChartPunchedTap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481000" y="139968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475600" y="147672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5509800" y="1567800"/>
              <a:ext cx="21816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5527080" y="165204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5538600" y="1721880"/>
              <a:ext cx="217800" cy="2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56200" y="1320840"/>
            <a:ext cx="90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p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E350-4A0A-435E-91F6-70CEB3E7B0D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FEBE5B-DFCB-4F50-9102-F812BF8069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Base Execution Environment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ja RM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n RMI compatible serialization and thread manag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ja remote obje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TCP or UDP or Multicast UDP  (Active Msg so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 Authenticated public ke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-bo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stomizable service V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ire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i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218A-8076-4197-A4BA-D9087285C7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DBC12-F47B-4A80-A879-5C29C682A7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S-box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876920" y="2209680"/>
            <a:ext cx="3581280" cy="2895840"/>
          </a:xfrm>
          <a:prstGeom prst="rect">
            <a:avLst/>
          </a:prstGeom>
          <a:solidFill>
            <a:srgbClr val="ffffff"/>
          </a:solidFill>
          <a:ln w="38160">
            <a:solidFill>
              <a:srgbClr val="033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4527720"/>
            <a:ext cx="3214440" cy="4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JV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4366080" y="3129480"/>
            <a:ext cx="2092320" cy="6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-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4935600" y="3278160"/>
            <a:ext cx="2092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ed-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4038480"/>
            <a:ext cx="205740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 M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4343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er Extends JVM to support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Service (URL, name, arg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st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Service(name) -&gt; svc ob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ll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usted services loaded at startu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ity MGR interposes on method cal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aded as a trusted serv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1D8A-54F4-4A8A-AA41-D46FABA4B1D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E2EF64-B2E8-4EF7-964A-54DB6A7BE4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ush Services into the Infrastru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61760" y="51055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Service returns service objec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amming Model for Service Method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95280" y="1447920"/>
            <a:ext cx="358164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33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523880" y="3765600"/>
            <a:ext cx="321480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JV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784800" y="2367720"/>
            <a:ext cx="2092320" cy="6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S-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rot="16200000">
            <a:off x="1353960" y="2516040"/>
            <a:ext cx="209232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usted-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666880" y="3276720"/>
            <a:ext cx="205740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urity M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666880" y="1676520"/>
            <a:ext cx="91440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114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29200" y="1828800"/>
            <a:ext cx="3733920" cy="297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429000" y="2133720"/>
            <a:ext cx="251460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06960" y="2286000"/>
            <a:ext cx="165240" cy="609480"/>
          </a:xfrm>
          <a:custGeom>
            <a:avLst/>
            <a:gdLst/>
            <a:ahLst/>
            <a:rect l="l" t="t" r="r" b="b"/>
            <a:pathLst>
              <a:path w="104" h="384">
                <a:moveTo>
                  <a:pt x="56" y="0"/>
                </a:moveTo>
                <a:cubicBezTo>
                  <a:pt x="28" y="12"/>
                  <a:pt x="0" y="24"/>
                  <a:pt x="8" y="48"/>
                </a:cubicBezTo>
                <a:cubicBezTo>
                  <a:pt x="16" y="72"/>
                  <a:pt x="104" y="120"/>
                  <a:pt x="104" y="144"/>
                </a:cubicBezTo>
                <a:cubicBezTo>
                  <a:pt x="104" y="168"/>
                  <a:pt x="8" y="168"/>
                  <a:pt x="8" y="192"/>
                </a:cubicBezTo>
                <a:cubicBezTo>
                  <a:pt x="8" y="216"/>
                  <a:pt x="104" y="256"/>
                  <a:pt x="104" y="288"/>
                </a:cubicBezTo>
                <a:cubicBezTo>
                  <a:pt x="104" y="320"/>
                  <a:pt x="56" y="352"/>
                  <a:pt x="8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562720" y="3200400"/>
            <a:ext cx="7617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179320" y="4418280"/>
            <a:ext cx="16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d by R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1752480"/>
            <a:ext cx="9907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172200" y="1676520"/>
            <a:ext cx="1066680" cy="35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62920" y="3809880"/>
            <a:ext cx="164880" cy="609840"/>
          </a:xfrm>
          <a:custGeom>
            <a:avLst/>
            <a:gdLst/>
            <a:ahLst/>
            <a:rect l="l" t="t" r="r" b="b"/>
            <a:pathLst>
              <a:path w="104" h="384">
                <a:moveTo>
                  <a:pt x="56" y="0"/>
                </a:moveTo>
                <a:cubicBezTo>
                  <a:pt x="28" y="12"/>
                  <a:pt x="0" y="24"/>
                  <a:pt x="8" y="48"/>
                </a:cubicBezTo>
                <a:cubicBezTo>
                  <a:pt x="16" y="72"/>
                  <a:pt x="104" y="120"/>
                  <a:pt x="104" y="144"/>
                </a:cubicBezTo>
                <a:cubicBezTo>
                  <a:pt x="104" y="168"/>
                  <a:pt x="8" y="168"/>
                  <a:pt x="8" y="192"/>
                </a:cubicBezTo>
                <a:cubicBezTo>
                  <a:pt x="8" y="216"/>
                  <a:pt x="104" y="256"/>
                  <a:pt x="104" y="288"/>
                </a:cubicBezTo>
                <a:cubicBezTo>
                  <a:pt x="104" y="320"/>
                  <a:pt x="56" y="352"/>
                  <a:pt x="8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91520" y="3733920"/>
            <a:ext cx="164880" cy="609480"/>
          </a:xfrm>
          <a:custGeom>
            <a:avLst/>
            <a:gdLst/>
            <a:ahLst/>
            <a:rect l="l" t="t" r="r" b="b"/>
            <a:pathLst>
              <a:path w="104" h="384">
                <a:moveTo>
                  <a:pt x="56" y="0"/>
                </a:moveTo>
                <a:cubicBezTo>
                  <a:pt x="28" y="12"/>
                  <a:pt x="0" y="24"/>
                  <a:pt x="8" y="48"/>
                </a:cubicBezTo>
                <a:cubicBezTo>
                  <a:pt x="16" y="72"/>
                  <a:pt x="104" y="120"/>
                  <a:pt x="104" y="144"/>
                </a:cubicBezTo>
                <a:cubicBezTo>
                  <a:pt x="104" y="168"/>
                  <a:pt x="8" y="168"/>
                  <a:pt x="8" y="192"/>
                </a:cubicBezTo>
                <a:cubicBezTo>
                  <a:pt x="8" y="216"/>
                  <a:pt x="104" y="256"/>
                  <a:pt x="104" y="288"/>
                </a:cubicBezTo>
                <a:cubicBezTo>
                  <a:pt x="104" y="320"/>
                  <a:pt x="56" y="352"/>
                  <a:pt x="8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086600" y="2133720"/>
            <a:ext cx="45720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238880" y="228600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91520" y="2438280"/>
            <a:ext cx="45720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67840" y="2894400"/>
            <a:ext cx="91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402C-BCAD-4BD5-AC11-35E2F09652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ECDDB-E12E-4FA1-85DB-0DD1BB279A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calable iSpac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440" y="350496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Space services across group of iS-box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st, Get, or Load Service from an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5680" indent="-2656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returns 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redirector stu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609480" y="1523880"/>
            <a:ext cx="6172200" cy="1523880"/>
            <a:chOff x="609480" y="1523880"/>
            <a:chExt cx="6172200" cy="1523880"/>
          </a:xfrm>
        </p:grpSpPr>
        <p:sp>
          <p:nvSpPr>
            <p:cNvPr id="489" name=""/>
            <p:cNvSpPr/>
            <p:nvPr/>
          </p:nvSpPr>
          <p:spPr>
            <a:xfrm>
              <a:off x="609480" y="2438280"/>
              <a:ext cx="6172200" cy="609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ystem Area Net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80560" y="20570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80560" y="18284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S-bo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219680" y="2285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305080" y="20570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305080" y="18284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S-bo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644200" y="2285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933000" y="20570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33000" y="18284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S-bo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271760" y="2285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357160" y="20570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57160" y="1828440"/>
              <a:ext cx="81360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c0128"/>
                  </a:solidFill>
                  <a:latin typeface="Arial"/>
                </a:rPr>
                <a:t>iS-bo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696280" y="228564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80560" y="1523880"/>
              <a:ext cx="5290200" cy="304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14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ulti-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4876920" y="3429000"/>
            <a:ext cx="3581280" cy="2895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332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105520" y="5746680"/>
            <a:ext cx="3214440" cy="476280"/>
          </a:xfrm>
          <a:prstGeom prst="rect">
            <a:avLst/>
          </a:prstGeom>
          <a:solidFill>
            <a:srgbClr val="ffffff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JV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6200000">
            <a:off x="4366080" y="4348800"/>
            <a:ext cx="2092320" cy="677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iS-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4935600" y="4497480"/>
            <a:ext cx="2092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Space Lo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629400" y="5257800"/>
            <a:ext cx="1676520" cy="4762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0128"/>
                </a:solidFill>
                <a:latin typeface="Arial"/>
              </a:rPr>
              <a:t>Security MG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16200000">
            <a:off x="5316480" y="4513320"/>
            <a:ext cx="209232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ulti-Space SV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664E-087D-43ED-9E54-DC06446DAF2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827F5-9A87-4326-B536-34C0545294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Redirector Stub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657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s almost same RMI dynamic code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duces RMI stub that manages load balancing and fail-over across iS-boxes in i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ows full spectrum of smart-client, front-end, flat clust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029200" y="1828800"/>
            <a:ext cx="3733920" cy="29718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006960" y="2286000"/>
            <a:ext cx="165240" cy="609480"/>
          </a:xfrm>
          <a:custGeom>
            <a:avLst/>
            <a:gdLst/>
            <a:ahLst/>
            <a:rect l="l" t="t" r="r" b="b"/>
            <a:pathLst>
              <a:path w="104" h="384">
                <a:moveTo>
                  <a:pt x="56" y="0"/>
                </a:moveTo>
                <a:cubicBezTo>
                  <a:pt x="28" y="12"/>
                  <a:pt x="0" y="24"/>
                  <a:pt x="8" y="48"/>
                </a:cubicBezTo>
                <a:cubicBezTo>
                  <a:pt x="16" y="72"/>
                  <a:pt x="104" y="120"/>
                  <a:pt x="104" y="144"/>
                </a:cubicBezTo>
                <a:cubicBezTo>
                  <a:pt x="104" y="168"/>
                  <a:pt x="8" y="168"/>
                  <a:pt x="8" y="192"/>
                </a:cubicBezTo>
                <a:cubicBezTo>
                  <a:pt x="8" y="216"/>
                  <a:pt x="104" y="256"/>
                  <a:pt x="104" y="288"/>
                </a:cubicBezTo>
                <a:cubicBezTo>
                  <a:pt x="104" y="320"/>
                  <a:pt x="56" y="352"/>
                  <a:pt x="8" y="38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562720" y="3200400"/>
            <a:ext cx="7617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b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179320" y="4875480"/>
            <a:ext cx="169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ted by RM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i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5880" y="1752480"/>
            <a:ext cx="990720" cy="34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172200" y="1676520"/>
            <a:ext cx="1066680" cy="3504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397560" y="2056320"/>
            <a:ext cx="1500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ad Balance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il-over Polic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2895480"/>
            <a:ext cx="4572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848720" y="3200400"/>
            <a:ext cx="4572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848720" y="3505320"/>
            <a:ext cx="4572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315200" y="2971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315200" y="3276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3152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08160" y="563760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Distributed Objects - not just rem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3F9A-B261-4A28-9626-D16809BFFA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AD6C9-40C5-42E4-8D18-1000AB952A0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ernet-Scale System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66720" y="1504800"/>
            <a:ext cx="7886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tremely large, complex, distributed, heterogeneous, with continuous and rapid introduction of new technologi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sible architectu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entralized, scalable algorith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ynamically deployed agents where they are needed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Big infrastructure, small client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mental processing/communications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4920" indent="-2214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eful violation of traditional layer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200" indent="-277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approach based on incremental prototyping, deployment, evaluation, experiment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59F-7AC2-4E7B-BA4D-C4618DEAD7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1842FE-15C8-4F4D-B09F-5D33FF10B111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totype Servic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pace Admin moni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atic forms interf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al econ suppor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ke bo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ja fa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lot pa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cash mi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0 RMI/s on 400 PII w/ j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E6C4-37E1-48A0-80EC-4F0BE152E1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D03AE5-0336-4C9C-8DC2-70E11B922C5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urrent Hot Debat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istent st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e Programming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ful clas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ve Proxy Exec. Conte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s like iS-bo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yering of SDS and iSpa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th Creation methodolog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0535-4CF7-4902-A797-C84C5006782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CD9D98-2AE0-41FF-BEDC-5A2CCDA2BE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9440" y="457200"/>
            <a:ext cx="80917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Campus-wide Testbed (Millennium)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266200" y="1747800"/>
            <a:ext cx="4786560" cy="1602000"/>
            <a:chOff x="2266200" y="1747800"/>
            <a:chExt cx="4786560" cy="1602000"/>
          </a:xfrm>
        </p:grpSpPr>
        <p:sp>
          <p:nvSpPr>
            <p:cNvPr id="531" name=""/>
            <p:cNvSpPr/>
            <p:nvPr/>
          </p:nvSpPr>
          <p:spPr>
            <a:xfrm>
              <a:off x="3149640" y="2670120"/>
              <a:ext cx="2793960" cy="18900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igabit Ethern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340080" y="2335320"/>
              <a:ext cx="0" cy="37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43480" y="2357280"/>
              <a:ext cx="0" cy="3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46520" y="2400480"/>
              <a:ext cx="0" cy="26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924360" y="2430360"/>
              <a:ext cx="0" cy="24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64040" y="252396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254480" y="2538360"/>
              <a:ext cx="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457880" y="2597040"/>
              <a:ext cx="0" cy="87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673520" y="261936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29200" y="2487600"/>
              <a:ext cx="0" cy="18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7800" y="2349360"/>
              <a:ext cx="0" cy="343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473800" y="2146320"/>
              <a:ext cx="0" cy="54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778360" y="1963800"/>
              <a:ext cx="0" cy="76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2527200">
              <a:off x="2301840" y="2433600"/>
              <a:ext cx="101520" cy="14616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527200">
              <a:off x="2301480" y="3184560"/>
              <a:ext cx="112680" cy="14616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2527200">
              <a:off x="3355560" y="3160800"/>
              <a:ext cx="101520" cy="14580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2527200">
              <a:off x="4578480" y="3132000"/>
              <a:ext cx="101520" cy="14616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527200">
              <a:off x="2381040" y="2903040"/>
              <a:ext cx="101520" cy="14472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527200">
              <a:off x="5651640" y="3097080"/>
              <a:ext cx="101520" cy="14616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2527200">
              <a:off x="6591240" y="2911320"/>
              <a:ext cx="101520" cy="14616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2527200">
              <a:off x="6915240" y="2357280"/>
              <a:ext cx="101520" cy="146160"/>
            </a:xfrm>
            <a:prstGeom prst="ellipse">
              <a:avLst/>
            </a:prstGeom>
            <a:solidFill>
              <a:srgbClr val="03fbe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416320" y="2505240"/>
              <a:ext cx="809640" cy="223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454120" y="2827440"/>
              <a:ext cx="1038240" cy="39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3473280" y="2843280"/>
              <a:ext cx="36216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 flipV="1">
              <a:off x="4473720" y="2854080"/>
              <a:ext cx="171360" cy="32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5378040" y="2831760"/>
              <a:ext cx="30492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5883120" y="2766600"/>
              <a:ext cx="733680" cy="19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864040" y="2444760"/>
              <a:ext cx="1028520" cy="28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381400" y="1747800"/>
              <a:ext cx="923760" cy="9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843120" y="3406680"/>
            <a:ext cx="6758640" cy="2421000"/>
            <a:chOff x="843120" y="3406680"/>
            <a:chExt cx="6758640" cy="2421000"/>
          </a:xfrm>
        </p:grpSpPr>
        <p:grpSp>
          <p:nvGrpSpPr>
            <p:cNvPr id="561" name=""/>
            <p:cNvGrpSpPr/>
            <p:nvPr/>
          </p:nvGrpSpPr>
          <p:grpSpPr>
            <a:xfrm>
              <a:off x="2033640" y="4943520"/>
              <a:ext cx="1415520" cy="482400"/>
              <a:chOff x="2033640" y="4943520"/>
              <a:chExt cx="1415520" cy="482400"/>
            </a:xfrm>
          </p:grpSpPr>
          <p:sp>
            <p:nvSpPr>
              <p:cNvPr id="562" name=""/>
              <p:cNvSpPr/>
              <p:nvPr/>
            </p:nvSpPr>
            <p:spPr>
              <a:xfrm>
                <a:off x="2566800" y="522360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636640" y="5303880"/>
                <a:ext cx="131760" cy="122040"/>
              </a:xfrm>
              <a:prstGeom prst="parallelogram">
                <a:avLst>
                  <a:gd name="adj" fmla="val 26991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854440" y="50529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923920" y="52167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29760" y="49435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099600" y="510732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633760" y="50277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033640" y="517320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103120" y="52534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320920" y="50025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390760" y="51667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247920" y="51548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317760" y="52351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2261520" y="5459400"/>
              <a:ext cx="78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3887640" y="4937040"/>
              <a:ext cx="1415880" cy="482760"/>
              <a:chOff x="3887640" y="4937040"/>
              <a:chExt cx="1415880" cy="482760"/>
            </a:xfrm>
          </p:grpSpPr>
          <p:sp>
            <p:nvSpPr>
              <p:cNvPr id="577" name=""/>
              <p:cNvSpPr/>
              <p:nvPr/>
            </p:nvSpPr>
            <p:spPr>
              <a:xfrm>
                <a:off x="4420800" y="521748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4490640" y="5297760"/>
                <a:ext cx="131760" cy="122040"/>
              </a:xfrm>
              <a:prstGeom prst="parallelogram">
                <a:avLst>
                  <a:gd name="adj" fmla="val 26991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4708440" y="50464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78280" y="52106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4884120" y="49370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953960" y="510084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488120" y="50216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3887640" y="51670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957120" y="52473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174920" y="49960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4760" y="51602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102280" y="51487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172120" y="522900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" name=""/>
            <p:cNvSpPr/>
            <p:nvPr/>
          </p:nvSpPr>
          <p:spPr>
            <a:xfrm>
              <a:off x="4114440" y="5452920"/>
              <a:ext cx="148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ell Ph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556240" y="4684680"/>
              <a:ext cx="1415880" cy="482760"/>
              <a:chOff x="5556240" y="4684680"/>
              <a:chExt cx="1415880" cy="482760"/>
            </a:xfrm>
          </p:grpSpPr>
          <p:sp>
            <p:nvSpPr>
              <p:cNvPr id="592" name=""/>
              <p:cNvSpPr/>
              <p:nvPr/>
            </p:nvSpPr>
            <p:spPr>
              <a:xfrm>
                <a:off x="6089400" y="496512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59240" y="5045400"/>
                <a:ext cx="131760" cy="122040"/>
              </a:xfrm>
              <a:prstGeom prst="parallelogram">
                <a:avLst>
                  <a:gd name="adj" fmla="val 26991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377040" y="47941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6446880" y="49582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552720" y="46846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622560" y="484848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156720" y="47692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556240" y="49147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625720" y="499500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43520" y="47437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913360" y="49078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770880" y="48963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840720" y="49766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fc012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5784120" y="5200560"/>
              <a:ext cx="181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uture Devic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208240" y="3406680"/>
              <a:ext cx="2293920" cy="15573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227040" y="3429000"/>
              <a:ext cx="1268280" cy="14860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521800" y="4221000"/>
              <a:ext cx="1665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Wirele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Infra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3949200" y="3848040"/>
              <a:ext cx="763560" cy="11955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707000" y="3870360"/>
              <a:ext cx="406440" cy="11541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843120" y="4533840"/>
              <a:ext cx="1415520" cy="482760"/>
              <a:chOff x="843120" y="4533840"/>
              <a:chExt cx="1415520" cy="482760"/>
            </a:xfrm>
          </p:grpSpPr>
          <p:sp>
            <p:nvSpPr>
              <p:cNvPr id="612" name=""/>
              <p:cNvSpPr/>
              <p:nvPr/>
            </p:nvSpPr>
            <p:spPr>
              <a:xfrm>
                <a:off x="1376280" y="481428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446120" y="4894560"/>
                <a:ext cx="131760" cy="122040"/>
              </a:xfrm>
              <a:prstGeom prst="parallelogram">
                <a:avLst>
                  <a:gd name="adj" fmla="val 26991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663920" y="46432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733400" y="48074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839240" y="45338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909080" y="4697640"/>
                <a:ext cx="131400" cy="121680"/>
              </a:xfrm>
              <a:prstGeom prst="parallelogram">
                <a:avLst>
                  <a:gd name="adj" fmla="val 2699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443240" y="46184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843120" y="47638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912600" y="484416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130400" y="459288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200240" y="475704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057400" y="474552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2127240" y="4825800"/>
                <a:ext cx="131400" cy="122040"/>
              </a:xfrm>
              <a:prstGeom prst="parallelogram">
                <a:avLst>
                  <a:gd name="adj" fmla="val 26917"/>
                </a:avLst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 flipH="1">
              <a:off x="1118880" y="3414600"/>
              <a:ext cx="1500120" cy="134172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852480" y="1254240"/>
            <a:ext cx="7488360" cy="3145680"/>
            <a:chOff x="852480" y="1254240"/>
            <a:chExt cx="7488360" cy="3145680"/>
          </a:xfrm>
        </p:grpSpPr>
        <p:grpSp>
          <p:nvGrpSpPr>
            <p:cNvPr id="627" name=""/>
            <p:cNvGrpSpPr/>
            <p:nvPr/>
          </p:nvGrpSpPr>
          <p:grpSpPr>
            <a:xfrm>
              <a:off x="6591240" y="2984400"/>
              <a:ext cx="507960" cy="269640"/>
              <a:chOff x="6591240" y="2984400"/>
              <a:chExt cx="507960" cy="269640"/>
            </a:xfrm>
          </p:grpSpPr>
          <p:sp>
            <p:nvSpPr>
              <p:cNvPr id="628" name=""/>
              <p:cNvSpPr/>
              <p:nvPr/>
            </p:nvSpPr>
            <p:spPr>
              <a:xfrm>
                <a:off x="6591240" y="3086280"/>
                <a:ext cx="304560" cy="167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667200" y="3049920"/>
                <a:ext cx="30492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6730920" y="3013560"/>
                <a:ext cx="304560" cy="167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794280" y="2984400"/>
                <a:ext cx="304920" cy="167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3225960" y="1461960"/>
              <a:ext cx="2730240" cy="1157040"/>
              <a:chOff x="3225960" y="1461960"/>
              <a:chExt cx="2730240" cy="1157040"/>
            </a:xfrm>
          </p:grpSpPr>
          <p:grpSp>
            <p:nvGrpSpPr>
              <p:cNvPr id="633" name=""/>
              <p:cNvGrpSpPr/>
              <p:nvPr/>
            </p:nvGrpSpPr>
            <p:grpSpPr>
              <a:xfrm>
                <a:off x="3225960" y="1840320"/>
                <a:ext cx="1409040" cy="589320"/>
                <a:chOff x="3225960" y="1840320"/>
                <a:chExt cx="1409040" cy="589320"/>
              </a:xfrm>
            </p:grpSpPr>
            <p:grpSp>
              <p:nvGrpSpPr>
                <p:cNvPr id="634" name=""/>
                <p:cNvGrpSpPr/>
                <p:nvPr/>
              </p:nvGrpSpPr>
              <p:grpSpPr>
                <a:xfrm>
                  <a:off x="3225960" y="1840320"/>
                  <a:ext cx="786600" cy="480240"/>
                  <a:chOff x="3225960" y="1840320"/>
                  <a:chExt cx="786600" cy="480240"/>
                </a:xfrm>
              </p:grpSpPr>
              <p:sp>
                <p:nvSpPr>
                  <p:cNvPr id="635" name=""/>
                  <p:cNvSpPr/>
                  <p:nvPr/>
                </p:nvSpPr>
                <p:spPr>
                  <a:xfrm>
                    <a:off x="3225960" y="217512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3301920" y="212400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3377880" y="208080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>
                    <a:off x="3454200" y="202968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>
                    <a:off x="3517560" y="198576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>
                    <a:off x="3593880" y="193500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>
                    <a:off x="3670200" y="189108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3746160" y="1840320"/>
                    <a:ext cx="26640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3" name=""/>
                <p:cNvGrpSpPr/>
                <p:nvPr/>
              </p:nvGrpSpPr>
              <p:grpSpPr>
                <a:xfrm>
                  <a:off x="3454200" y="1869120"/>
                  <a:ext cx="786600" cy="480240"/>
                  <a:chOff x="3454200" y="1869120"/>
                  <a:chExt cx="786600" cy="480240"/>
                </a:xfrm>
              </p:grpSpPr>
              <p:sp>
                <p:nvSpPr>
                  <p:cNvPr id="644" name=""/>
                  <p:cNvSpPr/>
                  <p:nvPr/>
                </p:nvSpPr>
                <p:spPr>
                  <a:xfrm>
                    <a:off x="3454200" y="220392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>
                    <a:off x="3530160" y="215280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3606120" y="210960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3682440" y="205848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3745800" y="201456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822120" y="196380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898440" y="191988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1" name=""/>
                  <p:cNvSpPr/>
                  <p:nvPr/>
                </p:nvSpPr>
                <p:spPr>
                  <a:xfrm>
                    <a:off x="3974400" y="1869120"/>
                    <a:ext cx="26640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2" name=""/>
                <p:cNvGrpSpPr/>
                <p:nvPr/>
              </p:nvGrpSpPr>
              <p:grpSpPr>
                <a:xfrm>
                  <a:off x="3619080" y="1920240"/>
                  <a:ext cx="787320" cy="480240"/>
                  <a:chOff x="3619080" y="1920240"/>
                  <a:chExt cx="787320" cy="480240"/>
                </a:xfrm>
              </p:grpSpPr>
              <p:sp>
                <p:nvSpPr>
                  <p:cNvPr id="653" name=""/>
                  <p:cNvSpPr/>
                  <p:nvPr/>
                </p:nvSpPr>
                <p:spPr>
                  <a:xfrm>
                    <a:off x="3619080" y="22550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4" name=""/>
                  <p:cNvSpPr/>
                  <p:nvPr/>
                </p:nvSpPr>
                <p:spPr>
                  <a:xfrm>
                    <a:off x="3695400" y="22039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5" name=""/>
                  <p:cNvSpPr/>
                  <p:nvPr/>
                </p:nvSpPr>
                <p:spPr>
                  <a:xfrm>
                    <a:off x="3771360" y="21607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3847680" y="21096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3911040" y="20656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8" name=""/>
                  <p:cNvSpPr/>
                  <p:nvPr/>
                </p:nvSpPr>
                <p:spPr>
                  <a:xfrm>
                    <a:off x="3987360" y="20149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9" name=""/>
                  <p:cNvSpPr/>
                  <p:nvPr/>
                </p:nvSpPr>
                <p:spPr>
                  <a:xfrm>
                    <a:off x="4063680" y="19710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0" name=""/>
                  <p:cNvSpPr/>
                  <p:nvPr/>
                </p:nvSpPr>
                <p:spPr>
                  <a:xfrm>
                    <a:off x="4139640" y="19202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1" name=""/>
                <p:cNvGrpSpPr/>
                <p:nvPr/>
              </p:nvGrpSpPr>
              <p:grpSpPr>
                <a:xfrm>
                  <a:off x="3847680" y="1949400"/>
                  <a:ext cx="787320" cy="480240"/>
                  <a:chOff x="3847680" y="1949400"/>
                  <a:chExt cx="787320" cy="48024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3847680" y="22842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924000" y="22330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3999960" y="21898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5" name=""/>
                  <p:cNvSpPr/>
                  <p:nvPr/>
                </p:nvSpPr>
                <p:spPr>
                  <a:xfrm>
                    <a:off x="4076280" y="21387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6" name=""/>
                  <p:cNvSpPr/>
                  <p:nvPr/>
                </p:nvSpPr>
                <p:spPr>
                  <a:xfrm>
                    <a:off x="4139640" y="20948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7" name=""/>
                  <p:cNvSpPr/>
                  <p:nvPr/>
                </p:nvSpPr>
                <p:spPr>
                  <a:xfrm>
                    <a:off x="4215960" y="20440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4292280" y="20001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4368240" y="19494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70" name=""/>
              <p:cNvGrpSpPr/>
              <p:nvPr/>
            </p:nvGrpSpPr>
            <p:grpSpPr>
              <a:xfrm>
                <a:off x="3822840" y="1461960"/>
                <a:ext cx="1409400" cy="588960"/>
                <a:chOff x="3822840" y="1461960"/>
                <a:chExt cx="1409400" cy="588960"/>
              </a:xfrm>
            </p:grpSpPr>
            <p:grpSp>
              <p:nvGrpSpPr>
                <p:cNvPr id="671" name=""/>
                <p:cNvGrpSpPr/>
                <p:nvPr/>
              </p:nvGrpSpPr>
              <p:grpSpPr>
                <a:xfrm>
                  <a:off x="3822840" y="1461960"/>
                  <a:ext cx="787320" cy="479880"/>
                  <a:chOff x="3822840" y="1461960"/>
                  <a:chExt cx="787320" cy="479880"/>
                </a:xfrm>
              </p:grpSpPr>
              <p:sp>
                <p:nvSpPr>
                  <p:cNvPr id="672" name=""/>
                  <p:cNvSpPr/>
                  <p:nvPr/>
                </p:nvSpPr>
                <p:spPr>
                  <a:xfrm>
                    <a:off x="3822840" y="17964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3899160" y="17456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3975120" y="1702080"/>
                    <a:ext cx="266760" cy="14508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4051440" y="1650960"/>
                    <a:ext cx="266760" cy="14508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4114800" y="16074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4191120" y="15562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4267440" y="15127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9" name=""/>
                  <p:cNvSpPr/>
                  <p:nvPr/>
                </p:nvSpPr>
                <p:spPr>
                  <a:xfrm>
                    <a:off x="4343400" y="14619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0" name=""/>
                <p:cNvGrpSpPr/>
                <p:nvPr/>
              </p:nvGrpSpPr>
              <p:grpSpPr>
                <a:xfrm>
                  <a:off x="4051440" y="1490760"/>
                  <a:ext cx="787320" cy="479880"/>
                  <a:chOff x="4051440" y="1490760"/>
                  <a:chExt cx="787320" cy="479880"/>
                </a:xfrm>
              </p:grpSpPr>
              <p:sp>
                <p:nvSpPr>
                  <p:cNvPr id="681" name=""/>
                  <p:cNvSpPr/>
                  <p:nvPr/>
                </p:nvSpPr>
                <p:spPr>
                  <a:xfrm>
                    <a:off x="4051440" y="18252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2" name=""/>
                  <p:cNvSpPr/>
                  <p:nvPr/>
                </p:nvSpPr>
                <p:spPr>
                  <a:xfrm>
                    <a:off x="4127760" y="17744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3" name=""/>
                  <p:cNvSpPr/>
                  <p:nvPr/>
                </p:nvSpPr>
                <p:spPr>
                  <a:xfrm>
                    <a:off x="4203720" y="1730880"/>
                    <a:ext cx="266760" cy="14508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4280040" y="1679760"/>
                    <a:ext cx="266760" cy="14508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4343400" y="16362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"/>
                  <p:cNvSpPr/>
                  <p:nvPr/>
                </p:nvSpPr>
                <p:spPr>
                  <a:xfrm>
                    <a:off x="4419720" y="15850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7" name=""/>
                  <p:cNvSpPr/>
                  <p:nvPr/>
                </p:nvSpPr>
                <p:spPr>
                  <a:xfrm>
                    <a:off x="4496040" y="154152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8" name=""/>
                  <p:cNvSpPr/>
                  <p:nvPr/>
                </p:nvSpPr>
                <p:spPr>
                  <a:xfrm>
                    <a:off x="4572000" y="14907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89" name=""/>
                <p:cNvGrpSpPr/>
                <p:nvPr/>
              </p:nvGrpSpPr>
              <p:grpSpPr>
                <a:xfrm>
                  <a:off x="4216320" y="1541880"/>
                  <a:ext cx="787320" cy="479880"/>
                  <a:chOff x="4216320" y="1541880"/>
                  <a:chExt cx="787320" cy="47988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4216320" y="18763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4292640" y="18255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4368600" y="1782000"/>
                    <a:ext cx="266760" cy="14508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3" name=""/>
                  <p:cNvSpPr/>
                  <p:nvPr/>
                </p:nvSpPr>
                <p:spPr>
                  <a:xfrm>
                    <a:off x="4444920" y="1730880"/>
                    <a:ext cx="266760" cy="14508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4" name=""/>
                  <p:cNvSpPr/>
                  <p:nvPr/>
                </p:nvSpPr>
                <p:spPr>
                  <a:xfrm>
                    <a:off x="4508280" y="16873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5" name=""/>
                  <p:cNvSpPr/>
                  <p:nvPr/>
                </p:nvSpPr>
                <p:spPr>
                  <a:xfrm>
                    <a:off x="4584600" y="16362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4660920" y="15926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7" name=""/>
                  <p:cNvSpPr/>
                  <p:nvPr/>
                </p:nvSpPr>
                <p:spPr>
                  <a:xfrm>
                    <a:off x="4736880" y="15418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8" name=""/>
                <p:cNvGrpSpPr/>
                <p:nvPr/>
              </p:nvGrpSpPr>
              <p:grpSpPr>
                <a:xfrm>
                  <a:off x="4444920" y="1571040"/>
                  <a:ext cx="787320" cy="479880"/>
                  <a:chOff x="4444920" y="1571040"/>
                  <a:chExt cx="787320" cy="479880"/>
                </a:xfrm>
              </p:grpSpPr>
              <p:sp>
                <p:nvSpPr>
                  <p:cNvPr id="699" name=""/>
                  <p:cNvSpPr/>
                  <p:nvPr/>
                </p:nvSpPr>
                <p:spPr>
                  <a:xfrm>
                    <a:off x="4444920" y="19054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0" name=""/>
                  <p:cNvSpPr/>
                  <p:nvPr/>
                </p:nvSpPr>
                <p:spPr>
                  <a:xfrm>
                    <a:off x="4521240" y="185472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4597200" y="1811160"/>
                    <a:ext cx="266760" cy="14508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2" name=""/>
                  <p:cNvSpPr/>
                  <p:nvPr/>
                </p:nvSpPr>
                <p:spPr>
                  <a:xfrm>
                    <a:off x="4673520" y="1760040"/>
                    <a:ext cx="266760" cy="14508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3" name=""/>
                  <p:cNvSpPr/>
                  <p:nvPr/>
                </p:nvSpPr>
                <p:spPr>
                  <a:xfrm>
                    <a:off x="4736880" y="17164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4813200" y="16653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4889520" y="16218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4965480" y="15710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7" name=""/>
              <p:cNvGrpSpPr/>
              <p:nvPr/>
            </p:nvGrpSpPr>
            <p:grpSpPr>
              <a:xfrm>
                <a:off x="3949560" y="2029680"/>
                <a:ext cx="1409760" cy="589320"/>
                <a:chOff x="3949560" y="2029680"/>
                <a:chExt cx="1409760" cy="589320"/>
              </a:xfrm>
            </p:grpSpPr>
            <p:grpSp>
              <p:nvGrpSpPr>
                <p:cNvPr id="708" name=""/>
                <p:cNvGrpSpPr/>
                <p:nvPr/>
              </p:nvGrpSpPr>
              <p:grpSpPr>
                <a:xfrm>
                  <a:off x="3949560" y="2029680"/>
                  <a:ext cx="787320" cy="480240"/>
                  <a:chOff x="3949560" y="2029680"/>
                  <a:chExt cx="787320" cy="48024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3949560" y="23644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4025880" y="23133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4101840" y="22701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4178160" y="22190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4241520" y="21751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4317840" y="21243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5" name=""/>
                  <p:cNvSpPr/>
                  <p:nvPr/>
                </p:nvSpPr>
                <p:spPr>
                  <a:xfrm>
                    <a:off x="4394160" y="20804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6" name=""/>
                  <p:cNvSpPr/>
                  <p:nvPr/>
                </p:nvSpPr>
                <p:spPr>
                  <a:xfrm>
                    <a:off x="4470120" y="20296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17" name=""/>
                <p:cNvGrpSpPr/>
                <p:nvPr/>
              </p:nvGrpSpPr>
              <p:grpSpPr>
                <a:xfrm>
                  <a:off x="4178160" y="2058480"/>
                  <a:ext cx="787320" cy="480240"/>
                  <a:chOff x="4178160" y="2058480"/>
                  <a:chExt cx="787320" cy="48024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4178160" y="23932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4254480" y="23421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4330440" y="22989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1" name=""/>
                  <p:cNvSpPr/>
                  <p:nvPr/>
                </p:nvSpPr>
                <p:spPr>
                  <a:xfrm>
                    <a:off x="4406760" y="22478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2" name=""/>
                  <p:cNvSpPr/>
                  <p:nvPr/>
                </p:nvSpPr>
                <p:spPr>
                  <a:xfrm>
                    <a:off x="4470120" y="220392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>
                    <a:off x="4546440" y="21531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>
                    <a:off x="4622760" y="21092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5" name=""/>
                  <p:cNvSpPr/>
                  <p:nvPr/>
                </p:nvSpPr>
                <p:spPr>
                  <a:xfrm>
                    <a:off x="4698720" y="20584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6" name=""/>
                <p:cNvGrpSpPr/>
                <p:nvPr/>
              </p:nvGrpSpPr>
              <p:grpSpPr>
                <a:xfrm>
                  <a:off x="4343400" y="2109600"/>
                  <a:ext cx="787320" cy="480240"/>
                  <a:chOff x="4343400" y="2109600"/>
                  <a:chExt cx="787320" cy="48024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4343400" y="24444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4419720" y="23932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9" name=""/>
                  <p:cNvSpPr/>
                  <p:nvPr/>
                </p:nvSpPr>
                <p:spPr>
                  <a:xfrm>
                    <a:off x="4495680" y="23500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0" name=""/>
                  <p:cNvSpPr/>
                  <p:nvPr/>
                </p:nvSpPr>
                <p:spPr>
                  <a:xfrm>
                    <a:off x="4572000" y="22989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1" name=""/>
                  <p:cNvSpPr/>
                  <p:nvPr/>
                </p:nvSpPr>
                <p:spPr>
                  <a:xfrm>
                    <a:off x="4635360" y="22550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2" name=""/>
                  <p:cNvSpPr/>
                  <p:nvPr/>
                </p:nvSpPr>
                <p:spPr>
                  <a:xfrm>
                    <a:off x="4711680" y="22042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4788000" y="21603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4863960" y="21096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35" name=""/>
                <p:cNvGrpSpPr/>
                <p:nvPr/>
              </p:nvGrpSpPr>
              <p:grpSpPr>
                <a:xfrm>
                  <a:off x="4572000" y="2138760"/>
                  <a:ext cx="787320" cy="480240"/>
                  <a:chOff x="4572000" y="2138760"/>
                  <a:chExt cx="787320" cy="480240"/>
                </a:xfrm>
              </p:grpSpPr>
              <p:sp>
                <p:nvSpPr>
                  <p:cNvPr id="736" name=""/>
                  <p:cNvSpPr/>
                  <p:nvPr/>
                </p:nvSpPr>
                <p:spPr>
                  <a:xfrm>
                    <a:off x="4572000" y="24735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7" name=""/>
                  <p:cNvSpPr/>
                  <p:nvPr/>
                </p:nvSpPr>
                <p:spPr>
                  <a:xfrm>
                    <a:off x="4648320" y="24224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8" name=""/>
                  <p:cNvSpPr/>
                  <p:nvPr/>
                </p:nvSpPr>
                <p:spPr>
                  <a:xfrm>
                    <a:off x="4724280" y="23792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9" name=""/>
                  <p:cNvSpPr/>
                  <p:nvPr/>
                </p:nvSpPr>
                <p:spPr>
                  <a:xfrm>
                    <a:off x="4800600" y="232812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4863960" y="22842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4940280" y="22334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5016600" y="218952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5092560" y="21387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44" name=""/>
              <p:cNvGrpSpPr/>
              <p:nvPr/>
            </p:nvGrpSpPr>
            <p:grpSpPr>
              <a:xfrm>
                <a:off x="4546800" y="1607400"/>
                <a:ext cx="1409400" cy="589320"/>
                <a:chOff x="4546800" y="1607400"/>
                <a:chExt cx="1409400" cy="589320"/>
              </a:xfrm>
            </p:grpSpPr>
            <p:grpSp>
              <p:nvGrpSpPr>
                <p:cNvPr id="745" name=""/>
                <p:cNvGrpSpPr/>
                <p:nvPr/>
              </p:nvGrpSpPr>
              <p:grpSpPr>
                <a:xfrm>
                  <a:off x="4546800" y="1607400"/>
                  <a:ext cx="787320" cy="480240"/>
                  <a:chOff x="4546800" y="1607400"/>
                  <a:chExt cx="787320" cy="48024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>
                    <a:off x="4546800" y="19422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4623120" y="18910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4699080" y="18478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4775400" y="17967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4838760" y="17528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1" name=""/>
                  <p:cNvSpPr/>
                  <p:nvPr/>
                </p:nvSpPr>
                <p:spPr>
                  <a:xfrm>
                    <a:off x="4915080" y="17020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4991400" y="16581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3" name=""/>
                  <p:cNvSpPr/>
                  <p:nvPr/>
                </p:nvSpPr>
                <p:spPr>
                  <a:xfrm>
                    <a:off x="5067360" y="16074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4" name=""/>
                <p:cNvGrpSpPr/>
                <p:nvPr/>
              </p:nvGrpSpPr>
              <p:grpSpPr>
                <a:xfrm>
                  <a:off x="4775400" y="1636200"/>
                  <a:ext cx="787320" cy="480240"/>
                  <a:chOff x="4775400" y="1636200"/>
                  <a:chExt cx="787320" cy="48024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>
                    <a:off x="4775400" y="19710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>
                    <a:off x="4851720" y="19198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4927680" y="18766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>
                    <a:off x="5004000" y="18255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>
                    <a:off x="5067360" y="17816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5143680" y="17308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>
                    <a:off x="5220000" y="16869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>
                    <a:off x="5295960" y="163620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3" name=""/>
                <p:cNvGrpSpPr/>
                <p:nvPr/>
              </p:nvGrpSpPr>
              <p:grpSpPr>
                <a:xfrm>
                  <a:off x="4915080" y="1672920"/>
                  <a:ext cx="787320" cy="479880"/>
                  <a:chOff x="4915080" y="1672920"/>
                  <a:chExt cx="787320" cy="479880"/>
                </a:xfrm>
              </p:grpSpPr>
              <p:sp>
                <p:nvSpPr>
                  <p:cNvPr id="764" name=""/>
                  <p:cNvSpPr/>
                  <p:nvPr/>
                </p:nvSpPr>
                <p:spPr>
                  <a:xfrm>
                    <a:off x="4915080" y="20073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>
                    <a:off x="4991400" y="195660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>
                    <a:off x="5067360" y="1913040"/>
                    <a:ext cx="266760" cy="14508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>
                    <a:off x="5143680" y="1861920"/>
                    <a:ext cx="266760" cy="14508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>
                    <a:off x="5207040" y="181836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>
                    <a:off x="5283360" y="176724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>
                    <a:off x="5359680" y="172368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>
                    <a:off x="5435640" y="1672920"/>
                    <a:ext cx="266760" cy="14544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72" name=""/>
                <p:cNvGrpSpPr/>
                <p:nvPr/>
              </p:nvGrpSpPr>
              <p:grpSpPr>
                <a:xfrm>
                  <a:off x="5168880" y="1716480"/>
                  <a:ext cx="787320" cy="480240"/>
                  <a:chOff x="5168880" y="1716480"/>
                  <a:chExt cx="787320" cy="480240"/>
                </a:xfrm>
              </p:grpSpPr>
              <p:sp>
                <p:nvSpPr>
                  <p:cNvPr id="773" name=""/>
                  <p:cNvSpPr/>
                  <p:nvPr/>
                </p:nvSpPr>
                <p:spPr>
                  <a:xfrm>
                    <a:off x="5168880" y="20512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>
                    <a:off x="5245200" y="20001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>
                    <a:off x="5321160" y="19569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5397480" y="19058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5460840" y="186192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5537160" y="181116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5613480" y="176724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5689440" y="1716480"/>
                    <a:ext cx="266760" cy="145440"/>
                  </a:xfrm>
                  <a:prstGeom prst="rect">
                    <a:avLst/>
                  </a:prstGeom>
                  <a:solidFill>
                    <a:srgbClr val="fbba03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781" name=""/>
            <p:cNvGrpSpPr/>
            <p:nvPr/>
          </p:nvGrpSpPr>
          <p:grpSpPr>
            <a:xfrm>
              <a:off x="3349800" y="3198960"/>
              <a:ext cx="507960" cy="269280"/>
              <a:chOff x="3349800" y="3198960"/>
              <a:chExt cx="507960" cy="269280"/>
            </a:xfrm>
          </p:grpSpPr>
          <p:sp>
            <p:nvSpPr>
              <p:cNvPr id="782" name=""/>
              <p:cNvSpPr/>
              <p:nvPr/>
            </p:nvSpPr>
            <p:spPr>
              <a:xfrm>
                <a:off x="3349800" y="3300840"/>
                <a:ext cx="30456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425760" y="3264480"/>
                <a:ext cx="30492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489480" y="3227760"/>
                <a:ext cx="30456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552840" y="3198960"/>
                <a:ext cx="30492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"/>
            <p:cNvGrpSpPr/>
            <p:nvPr/>
          </p:nvGrpSpPr>
          <p:grpSpPr>
            <a:xfrm>
              <a:off x="4587840" y="3176640"/>
              <a:ext cx="507960" cy="267840"/>
              <a:chOff x="4587840" y="3176640"/>
              <a:chExt cx="507960" cy="267840"/>
            </a:xfrm>
          </p:grpSpPr>
          <p:sp>
            <p:nvSpPr>
              <p:cNvPr id="787" name=""/>
              <p:cNvSpPr/>
              <p:nvPr/>
            </p:nvSpPr>
            <p:spPr>
              <a:xfrm>
                <a:off x="4587840" y="3277800"/>
                <a:ext cx="30456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663800" y="3241800"/>
                <a:ext cx="304920" cy="1663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727520" y="3205440"/>
                <a:ext cx="30456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790880" y="3176640"/>
                <a:ext cx="30492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1" name=""/>
            <p:cNvGrpSpPr/>
            <p:nvPr/>
          </p:nvGrpSpPr>
          <p:grpSpPr>
            <a:xfrm>
              <a:off x="6940440" y="2416320"/>
              <a:ext cx="507960" cy="267840"/>
              <a:chOff x="6940440" y="2416320"/>
              <a:chExt cx="507960" cy="267840"/>
            </a:xfrm>
          </p:grpSpPr>
          <p:sp>
            <p:nvSpPr>
              <p:cNvPr id="792" name=""/>
              <p:cNvSpPr/>
              <p:nvPr/>
            </p:nvSpPr>
            <p:spPr>
              <a:xfrm>
                <a:off x="6940440" y="2517480"/>
                <a:ext cx="30456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016400" y="2481480"/>
                <a:ext cx="304920" cy="1663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080120" y="2445120"/>
                <a:ext cx="30456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7143480" y="2416320"/>
                <a:ext cx="30492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"/>
            <p:cNvGrpSpPr/>
            <p:nvPr/>
          </p:nvGrpSpPr>
          <p:grpSpPr>
            <a:xfrm>
              <a:off x="5626080" y="3141720"/>
              <a:ext cx="507960" cy="267840"/>
              <a:chOff x="5626080" y="3141720"/>
              <a:chExt cx="507960" cy="267840"/>
            </a:xfrm>
          </p:grpSpPr>
          <p:sp>
            <p:nvSpPr>
              <p:cNvPr id="797" name=""/>
              <p:cNvSpPr/>
              <p:nvPr/>
            </p:nvSpPr>
            <p:spPr>
              <a:xfrm>
                <a:off x="5626080" y="3242880"/>
                <a:ext cx="30456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702040" y="3206880"/>
                <a:ext cx="304920" cy="16632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765760" y="3170520"/>
                <a:ext cx="30456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29120" y="3141720"/>
                <a:ext cx="30492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"/>
            <p:cNvGrpSpPr/>
            <p:nvPr/>
          </p:nvGrpSpPr>
          <p:grpSpPr>
            <a:xfrm>
              <a:off x="1895400" y="2749680"/>
              <a:ext cx="507960" cy="269280"/>
              <a:chOff x="1895400" y="2749680"/>
              <a:chExt cx="507960" cy="269280"/>
            </a:xfrm>
          </p:grpSpPr>
          <p:sp>
            <p:nvSpPr>
              <p:cNvPr id="802" name=""/>
              <p:cNvSpPr/>
              <p:nvPr/>
            </p:nvSpPr>
            <p:spPr>
              <a:xfrm>
                <a:off x="1895400" y="2851560"/>
                <a:ext cx="30456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971360" y="2815200"/>
                <a:ext cx="30492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035080" y="2778480"/>
                <a:ext cx="30456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098440" y="2749680"/>
                <a:ext cx="30492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6" name=""/>
            <p:cNvGrpSpPr/>
            <p:nvPr/>
          </p:nvGrpSpPr>
          <p:grpSpPr>
            <a:xfrm>
              <a:off x="1843200" y="2496960"/>
              <a:ext cx="507960" cy="268560"/>
              <a:chOff x="1843200" y="2496960"/>
              <a:chExt cx="507960" cy="268560"/>
            </a:xfrm>
          </p:grpSpPr>
          <p:sp>
            <p:nvSpPr>
              <p:cNvPr id="807" name=""/>
              <p:cNvSpPr/>
              <p:nvPr/>
            </p:nvSpPr>
            <p:spPr>
              <a:xfrm>
                <a:off x="1843200" y="2598480"/>
                <a:ext cx="304560" cy="1670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919160" y="2562120"/>
                <a:ext cx="304920" cy="16668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982880" y="2525760"/>
                <a:ext cx="304560" cy="1670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046240" y="2496960"/>
                <a:ext cx="304920" cy="16704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2298600" y="3244680"/>
              <a:ext cx="507960" cy="269640"/>
              <a:chOff x="2298600" y="3244680"/>
              <a:chExt cx="507960" cy="269640"/>
            </a:xfrm>
          </p:grpSpPr>
          <p:sp>
            <p:nvSpPr>
              <p:cNvPr id="812" name=""/>
              <p:cNvSpPr/>
              <p:nvPr/>
            </p:nvSpPr>
            <p:spPr>
              <a:xfrm>
                <a:off x="2298600" y="3346560"/>
                <a:ext cx="304560" cy="167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2374560" y="3310200"/>
                <a:ext cx="304920" cy="16740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438280" y="3273840"/>
                <a:ext cx="304560" cy="167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2501640" y="3244680"/>
                <a:ext cx="304920" cy="167760"/>
              </a:xfrm>
              <a:prstGeom prst="rect">
                <a:avLst/>
              </a:prstGeom>
              <a:solidFill>
                <a:srgbClr val="618ff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"/>
            <p:cNvGrpSpPr/>
            <p:nvPr/>
          </p:nvGrpSpPr>
          <p:grpSpPr>
            <a:xfrm>
              <a:off x="852480" y="2413080"/>
              <a:ext cx="425520" cy="221760"/>
              <a:chOff x="852480" y="2413080"/>
              <a:chExt cx="425520" cy="221760"/>
            </a:xfrm>
          </p:grpSpPr>
          <p:sp>
            <p:nvSpPr>
              <p:cNvPr id="817" name=""/>
              <p:cNvSpPr/>
              <p:nvPr/>
            </p:nvSpPr>
            <p:spPr>
              <a:xfrm>
                <a:off x="1176480" y="24184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024200" y="24130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1166760" y="24948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1014480" y="24894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862200" y="24292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852480" y="250596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1166760" y="25660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014480" y="25606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852480" y="25768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"/>
            <p:cNvGrpSpPr/>
            <p:nvPr/>
          </p:nvGrpSpPr>
          <p:grpSpPr>
            <a:xfrm>
              <a:off x="857160" y="2649600"/>
              <a:ext cx="425520" cy="221760"/>
              <a:chOff x="857160" y="2649600"/>
              <a:chExt cx="425520" cy="221760"/>
            </a:xfrm>
          </p:grpSpPr>
          <p:sp>
            <p:nvSpPr>
              <p:cNvPr id="827" name=""/>
              <p:cNvSpPr/>
              <p:nvPr/>
            </p:nvSpPr>
            <p:spPr>
              <a:xfrm>
                <a:off x="1181160" y="26550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1028880" y="26496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171440" y="27313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1019160" y="27259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866880" y="26658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857160" y="27424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1171440" y="28026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019160" y="27972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57160" y="28134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6" name=""/>
            <p:cNvSpPr/>
            <p:nvPr/>
          </p:nvSpPr>
          <p:spPr>
            <a:xfrm>
              <a:off x="1454040" y="2411280"/>
              <a:ext cx="257400" cy="142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463760" y="2635200"/>
              <a:ext cx="257040" cy="142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8" name=""/>
            <p:cNvGrpSpPr/>
            <p:nvPr/>
          </p:nvGrpSpPr>
          <p:grpSpPr>
            <a:xfrm>
              <a:off x="1219320" y="3228840"/>
              <a:ext cx="424800" cy="222480"/>
              <a:chOff x="1219320" y="3228840"/>
              <a:chExt cx="424800" cy="222480"/>
            </a:xfrm>
          </p:grpSpPr>
          <p:sp>
            <p:nvSpPr>
              <p:cNvPr id="839" name=""/>
              <p:cNvSpPr/>
              <p:nvPr/>
            </p:nvSpPr>
            <p:spPr>
              <a:xfrm>
                <a:off x="1542960" y="3234240"/>
                <a:ext cx="10116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1390680" y="3228840"/>
                <a:ext cx="10116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1533240" y="331092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1380960" y="3305520"/>
                <a:ext cx="10116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1228680" y="3245040"/>
                <a:ext cx="10116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219320" y="332172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1533240" y="338184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380960" y="3376440"/>
                <a:ext cx="10116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1219320" y="33930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8" name=""/>
            <p:cNvGrpSpPr/>
            <p:nvPr/>
          </p:nvGrpSpPr>
          <p:grpSpPr>
            <a:xfrm>
              <a:off x="1257480" y="3502080"/>
              <a:ext cx="424800" cy="220320"/>
              <a:chOff x="1257480" y="3502080"/>
              <a:chExt cx="424800" cy="220320"/>
            </a:xfrm>
          </p:grpSpPr>
          <p:sp>
            <p:nvSpPr>
              <p:cNvPr id="849" name=""/>
              <p:cNvSpPr/>
              <p:nvPr/>
            </p:nvSpPr>
            <p:spPr>
              <a:xfrm>
                <a:off x="1581120" y="350748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428840" y="350208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571400" y="358344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419120" y="357804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266840" y="351828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57480" y="359424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571400" y="365400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419120" y="364860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257480" y="366480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"/>
            <p:cNvSpPr/>
            <p:nvPr/>
          </p:nvSpPr>
          <p:spPr>
            <a:xfrm>
              <a:off x="1758960" y="3378240"/>
              <a:ext cx="257040" cy="141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"/>
            <p:cNvGrpSpPr/>
            <p:nvPr/>
          </p:nvGrpSpPr>
          <p:grpSpPr>
            <a:xfrm>
              <a:off x="2695680" y="3719520"/>
              <a:ext cx="425520" cy="221760"/>
              <a:chOff x="2695680" y="3719520"/>
              <a:chExt cx="425520" cy="221760"/>
            </a:xfrm>
          </p:grpSpPr>
          <p:sp>
            <p:nvSpPr>
              <p:cNvPr id="860" name=""/>
              <p:cNvSpPr/>
              <p:nvPr/>
            </p:nvSpPr>
            <p:spPr>
              <a:xfrm>
                <a:off x="3019680" y="37249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867400" y="37195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009960" y="380124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857680" y="379584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705400" y="37357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695680" y="38124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009960" y="38725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857680" y="38671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695680" y="38833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9" name=""/>
            <p:cNvSpPr/>
            <p:nvPr/>
          </p:nvSpPr>
          <p:spPr>
            <a:xfrm>
              <a:off x="3282840" y="3525840"/>
              <a:ext cx="257400" cy="141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4533840" y="3703680"/>
              <a:ext cx="425520" cy="150480"/>
              <a:chOff x="4533840" y="3703680"/>
              <a:chExt cx="425520" cy="150480"/>
            </a:xfrm>
          </p:grpSpPr>
          <p:sp>
            <p:nvSpPr>
              <p:cNvPr id="871" name=""/>
              <p:cNvSpPr/>
              <p:nvPr/>
            </p:nvSpPr>
            <p:spPr>
              <a:xfrm>
                <a:off x="4857840" y="37090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705560" y="370368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848120" y="37854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695840" y="37800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543560" y="37198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533840" y="37962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4645080" y="3519360"/>
              <a:ext cx="257040" cy="142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8" name=""/>
            <p:cNvGrpSpPr/>
            <p:nvPr/>
          </p:nvGrpSpPr>
          <p:grpSpPr>
            <a:xfrm>
              <a:off x="5553000" y="3665520"/>
              <a:ext cx="425520" cy="221760"/>
              <a:chOff x="5553000" y="3665520"/>
              <a:chExt cx="425520" cy="221760"/>
            </a:xfrm>
          </p:grpSpPr>
          <p:sp>
            <p:nvSpPr>
              <p:cNvPr id="879" name=""/>
              <p:cNvSpPr/>
              <p:nvPr/>
            </p:nvSpPr>
            <p:spPr>
              <a:xfrm>
                <a:off x="5877000" y="36709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724720" y="36655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867280" y="374724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715000" y="374184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562720" y="36817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553000" y="37584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867280" y="38185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715000" y="38131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553000" y="38293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"/>
            <p:cNvGrpSpPr/>
            <p:nvPr/>
          </p:nvGrpSpPr>
          <p:grpSpPr>
            <a:xfrm>
              <a:off x="6070680" y="3778200"/>
              <a:ext cx="425520" cy="222480"/>
              <a:chOff x="6070680" y="3778200"/>
              <a:chExt cx="425520" cy="222480"/>
            </a:xfrm>
          </p:grpSpPr>
          <p:sp>
            <p:nvSpPr>
              <p:cNvPr id="889" name=""/>
              <p:cNvSpPr/>
              <p:nvPr/>
            </p:nvSpPr>
            <p:spPr>
              <a:xfrm>
                <a:off x="6394680" y="37836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6242400" y="37782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6384960" y="386028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232680" y="385488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080400" y="37944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070680" y="387108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6384960" y="393120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6232680" y="39258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070680" y="394236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8" name=""/>
            <p:cNvSpPr/>
            <p:nvPr/>
          </p:nvSpPr>
          <p:spPr>
            <a:xfrm>
              <a:off x="5892840" y="3465360"/>
              <a:ext cx="257040" cy="14148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559640" y="2482920"/>
              <a:ext cx="257040" cy="141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0" name=""/>
            <p:cNvGrpSpPr/>
            <p:nvPr/>
          </p:nvGrpSpPr>
          <p:grpSpPr>
            <a:xfrm>
              <a:off x="7620120" y="2890800"/>
              <a:ext cx="424800" cy="220320"/>
              <a:chOff x="7620120" y="2890800"/>
              <a:chExt cx="424800" cy="220320"/>
            </a:xfrm>
          </p:grpSpPr>
          <p:sp>
            <p:nvSpPr>
              <p:cNvPr id="901" name=""/>
              <p:cNvSpPr/>
              <p:nvPr/>
            </p:nvSpPr>
            <p:spPr>
              <a:xfrm>
                <a:off x="7943760" y="289620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791480" y="289080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7934040" y="297216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781760" y="296676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29480" y="290700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620120" y="298296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7934040" y="304272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7781760" y="3037320"/>
                <a:ext cx="10116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620120" y="305352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0" name=""/>
            <p:cNvGrpSpPr/>
            <p:nvPr/>
          </p:nvGrpSpPr>
          <p:grpSpPr>
            <a:xfrm>
              <a:off x="7562880" y="3294000"/>
              <a:ext cx="425520" cy="222480"/>
              <a:chOff x="7562880" y="3294000"/>
              <a:chExt cx="425520" cy="222480"/>
            </a:xfrm>
          </p:grpSpPr>
          <p:sp>
            <p:nvSpPr>
              <p:cNvPr id="911" name=""/>
              <p:cNvSpPr/>
              <p:nvPr/>
            </p:nvSpPr>
            <p:spPr>
              <a:xfrm>
                <a:off x="7886880" y="32994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734600" y="32940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877160" y="337608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724880" y="337068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572600" y="33102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7562880" y="338688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7877160" y="344700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7724880" y="344160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7562880" y="345816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7245360" y="3060720"/>
              <a:ext cx="257040" cy="142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188120" y="3268800"/>
              <a:ext cx="257400" cy="141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7400880" y="1924200"/>
              <a:ext cx="425520" cy="221760"/>
              <a:chOff x="7400880" y="1924200"/>
              <a:chExt cx="425520" cy="221760"/>
            </a:xfrm>
          </p:grpSpPr>
          <p:sp>
            <p:nvSpPr>
              <p:cNvPr id="923" name=""/>
              <p:cNvSpPr/>
              <p:nvPr/>
            </p:nvSpPr>
            <p:spPr>
              <a:xfrm>
                <a:off x="7724880" y="19296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7572600" y="19242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715160" y="20059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7562880" y="20005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7410600" y="19404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7400880" y="20170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715160" y="20772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562880" y="20718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400880" y="20880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2" name=""/>
            <p:cNvSpPr/>
            <p:nvPr/>
          </p:nvSpPr>
          <p:spPr>
            <a:xfrm>
              <a:off x="6997680" y="2057400"/>
              <a:ext cx="257040" cy="141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3" name=""/>
            <p:cNvGrpSpPr/>
            <p:nvPr/>
          </p:nvGrpSpPr>
          <p:grpSpPr>
            <a:xfrm>
              <a:off x="7010280" y="1552680"/>
              <a:ext cx="425520" cy="221760"/>
              <a:chOff x="7010280" y="1552680"/>
              <a:chExt cx="425520" cy="221760"/>
            </a:xfrm>
          </p:grpSpPr>
          <p:sp>
            <p:nvSpPr>
              <p:cNvPr id="934" name=""/>
              <p:cNvSpPr/>
              <p:nvPr/>
            </p:nvSpPr>
            <p:spPr>
              <a:xfrm>
                <a:off x="7334280" y="15580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182000" y="15526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7324560" y="16344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7172280" y="16290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7020000" y="15688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010280" y="164556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324560" y="17056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7172280" y="17002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7010280" y="17164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3" name=""/>
            <p:cNvGrpSpPr/>
            <p:nvPr/>
          </p:nvGrpSpPr>
          <p:grpSpPr>
            <a:xfrm>
              <a:off x="2314440" y="1471680"/>
              <a:ext cx="425520" cy="221760"/>
              <a:chOff x="2314440" y="1471680"/>
              <a:chExt cx="425520" cy="221760"/>
            </a:xfrm>
          </p:grpSpPr>
          <p:sp>
            <p:nvSpPr>
              <p:cNvPr id="944" name=""/>
              <p:cNvSpPr/>
              <p:nvPr/>
            </p:nvSpPr>
            <p:spPr>
              <a:xfrm>
                <a:off x="2638440" y="14770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2486160" y="14716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628720" y="15534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476440" y="15480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324160" y="14878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314440" y="156456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628720" y="16246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2476440" y="16192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2314440" y="16354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3" name=""/>
            <p:cNvGrpSpPr/>
            <p:nvPr/>
          </p:nvGrpSpPr>
          <p:grpSpPr>
            <a:xfrm>
              <a:off x="1647720" y="1782720"/>
              <a:ext cx="425520" cy="221760"/>
              <a:chOff x="1647720" y="1782720"/>
              <a:chExt cx="425520" cy="221760"/>
            </a:xfrm>
          </p:grpSpPr>
          <p:sp>
            <p:nvSpPr>
              <p:cNvPr id="954" name=""/>
              <p:cNvSpPr/>
              <p:nvPr/>
            </p:nvSpPr>
            <p:spPr>
              <a:xfrm>
                <a:off x="1971720" y="17881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1819440" y="17827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1962000" y="186444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809720" y="185904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1657440" y="17989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1647720" y="18756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962000" y="19357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1809720" y="193032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647720" y="194652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3" name=""/>
            <p:cNvGrpSpPr/>
            <p:nvPr/>
          </p:nvGrpSpPr>
          <p:grpSpPr>
            <a:xfrm>
              <a:off x="1781280" y="3627360"/>
              <a:ext cx="425520" cy="222480"/>
              <a:chOff x="1781280" y="3627360"/>
              <a:chExt cx="425520" cy="222480"/>
            </a:xfrm>
          </p:grpSpPr>
          <p:sp>
            <p:nvSpPr>
              <p:cNvPr id="964" name=""/>
              <p:cNvSpPr/>
              <p:nvPr/>
            </p:nvSpPr>
            <p:spPr>
              <a:xfrm>
                <a:off x="2105280" y="363276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1953000" y="362736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095560" y="370944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943280" y="370404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1791000" y="364356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781280" y="372024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2095560" y="378036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943280" y="3774960"/>
                <a:ext cx="10152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1781280" y="3791520"/>
                <a:ext cx="101880" cy="5832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3" name=""/>
            <p:cNvSpPr/>
            <p:nvPr/>
          </p:nvSpPr>
          <p:spPr>
            <a:xfrm>
              <a:off x="6692760" y="1778040"/>
              <a:ext cx="257400" cy="1429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120760" y="1936800"/>
              <a:ext cx="257400" cy="141120"/>
            </a:xfrm>
            <a:prstGeom prst="rect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5" name=""/>
            <p:cNvGrpSpPr/>
            <p:nvPr/>
          </p:nvGrpSpPr>
          <p:grpSpPr>
            <a:xfrm>
              <a:off x="7553160" y="3529080"/>
              <a:ext cx="425520" cy="221760"/>
              <a:chOff x="7553160" y="3529080"/>
              <a:chExt cx="425520" cy="221760"/>
            </a:xfrm>
          </p:grpSpPr>
          <p:sp>
            <p:nvSpPr>
              <p:cNvPr id="976" name=""/>
              <p:cNvSpPr/>
              <p:nvPr/>
            </p:nvSpPr>
            <p:spPr>
              <a:xfrm>
                <a:off x="7877160" y="35344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24880" y="35290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867440" y="361080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7715160" y="360540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7562880" y="35452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7553160" y="362196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7867440" y="36820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715160" y="3676680"/>
                <a:ext cx="10152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7553160" y="3692880"/>
                <a:ext cx="101880" cy="5796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5" name=""/>
            <p:cNvGrpSpPr/>
            <p:nvPr/>
          </p:nvGrpSpPr>
          <p:grpSpPr>
            <a:xfrm>
              <a:off x="7915320" y="2454120"/>
              <a:ext cx="425520" cy="220320"/>
              <a:chOff x="7915320" y="2454120"/>
              <a:chExt cx="425520" cy="220320"/>
            </a:xfrm>
          </p:grpSpPr>
          <p:sp>
            <p:nvSpPr>
              <p:cNvPr id="986" name=""/>
              <p:cNvSpPr/>
              <p:nvPr/>
            </p:nvSpPr>
            <p:spPr>
              <a:xfrm>
                <a:off x="8239320" y="245952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087040" y="245412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229600" y="2535480"/>
                <a:ext cx="10188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077320" y="253008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7925040" y="247032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7915320" y="2546280"/>
                <a:ext cx="10188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8229600" y="2606040"/>
                <a:ext cx="10188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8077320" y="2600640"/>
                <a:ext cx="10152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915320" y="2616840"/>
                <a:ext cx="101880" cy="57600"/>
              </a:xfrm>
              <a:prstGeom prst="rect">
                <a:avLst/>
              </a:prstGeom>
              <a:solidFill>
                <a:srgbClr val="00ae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7412400" y="3879720"/>
              <a:ext cx="881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skto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C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6689880" y="3349800"/>
              <a:ext cx="83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erv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372360" y="2639880"/>
              <a:ext cx="89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5172840" y="1254240"/>
              <a:ext cx="1538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ssive Clu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ABC5-A8CC-48D3-9764-5CC79744BDB0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6333D-9F9B-4345-82FF-0D2EFF2746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merging Distributed System Architecture Spanning Processing and Acces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1133640" y="5734080"/>
            <a:ext cx="7210440" cy="485640"/>
          </a:xfrm>
          <a:prstGeom prst="rect">
            <a:avLst/>
          </a:prstGeom>
          <a:solidFill>
            <a:srgbClr val="fc0128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ing and Communications Platform: Millennium/N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133640" y="5143680"/>
            <a:ext cx="7210440" cy="485640"/>
          </a:xfrm>
          <a:prstGeom prst="rect">
            <a:avLst/>
          </a:prstGeom>
          <a:solidFill>
            <a:srgbClr val="00ae00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tributed Computing Services: NI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1133640" y="4562640"/>
            <a:ext cx="3781440" cy="485640"/>
          </a:xfrm>
          <a:prstGeom prst="rect">
            <a:avLst/>
          </a:prstGeom>
          <a:solidFill>
            <a:srgbClr val="00ae00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e Services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133640" y="3990960"/>
            <a:ext cx="3790800" cy="485640"/>
          </a:xfrm>
          <a:prstGeom prst="rect">
            <a:avLst/>
          </a:prstGeom>
          <a:solidFill>
            <a:srgbClr val="00ae00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SH Media Processing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1133640" y="2581200"/>
            <a:ext cx="2724120" cy="1409760"/>
          </a:xfrm>
          <a:prstGeom prst="rect">
            <a:avLst/>
          </a:prstGeom>
          <a:solidFill>
            <a:srgbClr val="618ffd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istributed Videoconferen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oom-scale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5038560" y="3981600"/>
            <a:ext cx="3305520" cy="1066680"/>
          </a:xfrm>
          <a:prstGeom prst="rect">
            <a:avLst/>
          </a:prstGeom>
          <a:solidFill>
            <a:srgbClr val="00ae00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end Exten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xy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3952800" y="3247920"/>
            <a:ext cx="4391280" cy="647640"/>
          </a:xfrm>
          <a:prstGeom prst="rect">
            <a:avLst/>
          </a:prstGeom>
          <a:solidFill>
            <a:srgbClr val="00ae00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CEBE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uter-Telephony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52800" y="2590920"/>
            <a:ext cx="4391280" cy="647640"/>
          </a:xfrm>
          <a:prstGeom prst="rect">
            <a:avLst/>
          </a:prstGeom>
          <a:solidFill>
            <a:srgbClr val="618ffd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ech and 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war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1143000" y="1981080"/>
            <a:ext cx="7210440" cy="514440"/>
          </a:xfrm>
          <a:prstGeom prst="rect">
            <a:avLst/>
          </a:prstGeom>
          <a:solidFill>
            <a:srgbClr val="618ffd"/>
          </a:solidFill>
          <a:ln w="93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rsonal Information Management and “Smart Space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365D-5BB0-4E43-9A28-131C1BD105F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455642-7797-4CC6-B52B-32BE6127A85B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NINJA and ICEBERG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JA: Distributed Servic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 model based on Operators, Paths,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tform model based on Units, Active Routers, B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CEBERG: Computer-Telephony Integ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P-based backbone for cellular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bility and service interoperability in the context of diverse access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issues: GPRS scheduling and IP scaling for mobile telephony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services: Smart Spaces and PI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330F-3875-4993-9D76-F64BC58D7DE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5C27E9-4912-4BCE-B2D9-C50536F4E7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xperiment: PDA Bazaar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loy/use pervasive computing infrastructure in Soda Hal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vide Ninja iSp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 initial community (200 PP3 / Workpad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tch and evalua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tion broadcast chann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minars, lecture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s/sports/stoc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d 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ars, room reserv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laborative note-taking and brainstornm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rt spaces and device contro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346-0793-4394-995E-73B67F6BCBB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A99D5-4FA4-453B-B4A8-078F5C6CE4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Berkeley Tradition of Experimental Computing Systems Researc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014" name=""/>
          <p:cNvGrpSpPr/>
          <p:nvPr/>
        </p:nvGrpSpPr>
        <p:grpSpPr>
          <a:xfrm>
            <a:off x="743760" y="1523880"/>
            <a:ext cx="4597920" cy="3468600"/>
            <a:chOff x="743760" y="1523880"/>
            <a:chExt cx="4597920" cy="3468600"/>
          </a:xfrm>
        </p:grpSpPr>
        <p:sp>
          <p:nvSpPr>
            <p:cNvPr id="1015" name=""/>
            <p:cNvSpPr/>
            <p:nvPr/>
          </p:nvSpPr>
          <p:spPr>
            <a:xfrm flipH="1">
              <a:off x="2580480" y="1523880"/>
              <a:ext cx="2760840" cy="3468600"/>
            </a:xfrm>
            <a:custGeom>
              <a:avLst/>
              <a:gdLst/>
              <a:ahLst/>
              <a:rect l="l" t="t" r="r" b="b"/>
              <a:pathLst>
                <a:path w="1739" h="2185">
                  <a:moveTo>
                    <a:pt x="657" y="286"/>
                  </a:moveTo>
                  <a:lnTo>
                    <a:pt x="679" y="297"/>
                  </a:lnTo>
                  <a:lnTo>
                    <a:pt x="710" y="297"/>
                  </a:lnTo>
                  <a:lnTo>
                    <a:pt x="742" y="308"/>
                  </a:lnTo>
                  <a:lnTo>
                    <a:pt x="763" y="308"/>
                  </a:lnTo>
                  <a:lnTo>
                    <a:pt x="795" y="318"/>
                  </a:lnTo>
                  <a:lnTo>
                    <a:pt x="816" y="329"/>
                  </a:lnTo>
                  <a:lnTo>
                    <a:pt x="848" y="329"/>
                  </a:lnTo>
                  <a:lnTo>
                    <a:pt x="870" y="339"/>
                  </a:lnTo>
                  <a:lnTo>
                    <a:pt x="901" y="350"/>
                  </a:lnTo>
                  <a:lnTo>
                    <a:pt x="933" y="361"/>
                  </a:lnTo>
                  <a:lnTo>
                    <a:pt x="954" y="371"/>
                  </a:lnTo>
                  <a:lnTo>
                    <a:pt x="986" y="382"/>
                  </a:lnTo>
                  <a:lnTo>
                    <a:pt x="1018" y="403"/>
                  </a:lnTo>
                  <a:lnTo>
                    <a:pt x="1039" y="414"/>
                  </a:lnTo>
                  <a:lnTo>
                    <a:pt x="1071" y="424"/>
                  </a:lnTo>
                  <a:lnTo>
                    <a:pt x="1092" y="446"/>
                  </a:lnTo>
                  <a:lnTo>
                    <a:pt x="1113" y="456"/>
                  </a:lnTo>
                  <a:lnTo>
                    <a:pt x="1135" y="467"/>
                  </a:lnTo>
                  <a:lnTo>
                    <a:pt x="1167" y="488"/>
                  </a:lnTo>
                  <a:lnTo>
                    <a:pt x="1188" y="509"/>
                  </a:lnTo>
                  <a:lnTo>
                    <a:pt x="1220" y="520"/>
                  </a:lnTo>
                  <a:lnTo>
                    <a:pt x="1241" y="541"/>
                  </a:lnTo>
                  <a:lnTo>
                    <a:pt x="1262" y="562"/>
                  </a:lnTo>
                  <a:lnTo>
                    <a:pt x="1304" y="594"/>
                  </a:lnTo>
                  <a:lnTo>
                    <a:pt x="1336" y="626"/>
                  </a:lnTo>
                  <a:lnTo>
                    <a:pt x="1368" y="647"/>
                  </a:lnTo>
                  <a:lnTo>
                    <a:pt x="1400" y="690"/>
                  </a:lnTo>
                  <a:lnTo>
                    <a:pt x="1421" y="721"/>
                  </a:lnTo>
                  <a:lnTo>
                    <a:pt x="1453" y="753"/>
                  </a:lnTo>
                  <a:lnTo>
                    <a:pt x="1485" y="785"/>
                  </a:lnTo>
                  <a:lnTo>
                    <a:pt x="1506" y="817"/>
                  </a:lnTo>
                  <a:lnTo>
                    <a:pt x="1527" y="859"/>
                  </a:lnTo>
                  <a:lnTo>
                    <a:pt x="1548" y="891"/>
                  </a:lnTo>
                  <a:lnTo>
                    <a:pt x="1570" y="934"/>
                  </a:lnTo>
                  <a:lnTo>
                    <a:pt x="1591" y="965"/>
                  </a:lnTo>
                  <a:lnTo>
                    <a:pt x="1612" y="1008"/>
                  </a:lnTo>
                  <a:lnTo>
                    <a:pt x="1633" y="1050"/>
                  </a:lnTo>
                  <a:lnTo>
                    <a:pt x="1654" y="1093"/>
                  </a:lnTo>
                  <a:lnTo>
                    <a:pt x="1665" y="1135"/>
                  </a:lnTo>
                  <a:lnTo>
                    <a:pt x="1686" y="1199"/>
                  </a:lnTo>
                  <a:lnTo>
                    <a:pt x="1697" y="1252"/>
                  </a:lnTo>
                  <a:lnTo>
                    <a:pt x="1708" y="1305"/>
                  </a:lnTo>
                  <a:lnTo>
                    <a:pt x="1718" y="1358"/>
                  </a:lnTo>
                  <a:lnTo>
                    <a:pt x="1729" y="1422"/>
                  </a:lnTo>
                  <a:lnTo>
                    <a:pt x="1729" y="1496"/>
                  </a:lnTo>
                  <a:lnTo>
                    <a:pt x="1739" y="1560"/>
                  </a:lnTo>
                  <a:lnTo>
                    <a:pt x="1729" y="1613"/>
                  </a:lnTo>
                  <a:lnTo>
                    <a:pt x="1729" y="1666"/>
                  </a:lnTo>
                  <a:lnTo>
                    <a:pt x="1718" y="1719"/>
                  </a:lnTo>
                  <a:lnTo>
                    <a:pt x="1718" y="1782"/>
                  </a:lnTo>
                  <a:lnTo>
                    <a:pt x="1708" y="1835"/>
                  </a:lnTo>
                  <a:lnTo>
                    <a:pt x="1686" y="1899"/>
                  </a:lnTo>
                  <a:lnTo>
                    <a:pt x="1665" y="1963"/>
                  </a:lnTo>
                  <a:lnTo>
                    <a:pt x="1644" y="2016"/>
                  </a:lnTo>
                  <a:lnTo>
                    <a:pt x="1623" y="2079"/>
                  </a:lnTo>
                  <a:lnTo>
                    <a:pt x="1591" y="2132"/>
                  </a:lnTo>
                  <a:lnTo>
                    <a:pt x="1559" y="2185"/>
                  </a:lnTo>
                  <a:lnTo>
                    <a:pt x="1050" y="1888"/>
                  </a:lnTo>
                  <a:lnTo>
                    <a:pt x="1071" y="1835"/>
                  </a:lnTo>
                  <a:lnTo>
                    <a:pt x="1092" y="1793"/>
                  </a:lnTo>
                  <a:lnTo>
                    <a:pt x="1103" y="1750"/>
                  </a:lnTo>
                  <a:lnTo>
                    <a:pt x="1113" y="1697"/>
                  </a:lnTo>
                  <a:lnTo>
                    <a:pt x="1124" y="1655"/>
                  </a:lnTo>
                  <a:lnTo>
                    <a:pt x="1124" y="1623"/>
                  </a:lnTo>
                  <a:lnTo>
                    <a:pt x="1135" y="1581"/>
                  </a:lnTo>
                  <a:lnTo>
                    <a:pt x="1135" y="1538"/>
                  </a:lnTo>
                  <a:lnTo>
                    <a:pt x="1135" y="1485"/>
                  </a:lnTo>
                  <a:lnTo>
                    <a:pt x="1124" y="1443"/>
                  </a:lnTo>
                  <a:lnTo>
                    <a:pt x="1113" y="1390"/>
                  </a:lnTo>
                  <a:lnTo>
                    <a:pt x="1103" y="1347"/>
                  </a:lnTo>
                  <a:lnTo>
                    <a:pt x="1082" y="1294"/>
                  </a:lnTo>
                  <a:lnTo>
                    <a:pt x="1071" y="1252"/>
                  </a:lnTo>
                  <a:lnTo>
                    <a:pt x="1050" y="1220"/>
                  </a:lnTo>
                  <a:lnTo>
                    <a:pt x="1029" y="1188"/>
                  </a:lnTo>
                  <a:lnTo>
                    <a:pt x="1007" y="1156"/>
                  </a:lnTo>
                  <a:lnTo>
                    <a:pt x="986" y="1135"/>
                  </a:lnTo>
                  <a:lnTo>
                    <a:pt x="965" y="1114"/>
                  </a:lnTo>
                  <a:lnTo>
                    <a:pt x="944" y="1082"/>
                  </a:lnTo>
                  <a:lnTo>
                    <a:pt x="923" y="1072"/>
                  </a:lnTo>
                  <a:lnTo>
                    <a:pt x="901" y="1040"/>
                  </a:lnTo>
                  <a:lnTo>
                    <a:pt x="880" y="1029"/>
                  </a:lnTo>
                  <a:lnTo>
                    <a:pt x="859" y="1008"/>
                  </a:lnTo>
                  <a:lnTo>
                    <a:pt x="827" y="987"/>
                  </a:lnTo>
                  <a:lnTo>
                    <a:pt x="795" y="965"/>
                  </a:lnTo>
                  <a:lnTo>
                    <a:pt x="774" y="955"/>
                  </a:lnTo>
                  <a:lnTo>
                    <a:pt x="742" y="934"/>
                  </a:lnTo>
                  <a:lnTo>
                    <a:pt x="710" y="923"/>
                  </a:lnTo>
                  <a:lnTo>
                    <a:pt x="689" y="912"/>
                  </a:lnTo>
                  <a:lnTo>
                    <a:pt x="657" y="902"/>
                  </a:lnTo>
                  <a:lnTo>
                    <a:pt x="615" y="891"/>
                  </a:lnTo>
                  <a:lnTo>
                    <a:pt x="583" y="891"/>
                  </a:lnTo>
                  <a:lnTo>
                    <a:pt x="541" y="881"/>
                  </a:lnTo>
                  <a:lnTo>
                    <a:pt x="509" y="881"/>
                  </a:lnTo>
                  <a:lnTo>
                    <a:pt x="488" y="881"/>
                  </a:lnTo>
                  <a:lnTo>
                    <a:pt x="488" y="1199"/>
                  </a:lnTo>
                  <a:lnTo>
                    <a:pt x="0" y="605"/>
                  </a:lnTo>
                  <a:lnTo>
                    <a:pt x="488" y="0"/>
                  </a:lnTo>
                  <a:lnTo>
                    <a:pt x="488" y="276"/>
                  </a:lnTo>
                  <a:lnTo>
                    <a:pt x="509" y="276"/>
                  </a:lnTo>
                  <a:lnTo>
                    <a:pt x="551" y="276"/>
                  </a:lnTo>
                  <a:lnTo>
                    <a:pt x="583" y="276"/>
                  </a:lnTo>
                  <a:lnTo>
                    <a:pt x="626" y="286"/>
                  </a:lnTo>
                  <a:lnTo>
                    <a:pt x="657" y="2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43760" y="1888920"/>
              <a:ext cx="185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valuat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57800" y="2309400"/>
              <a:ext cx="232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isting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 underst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ts weakness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543600" y="4084560"/>
            <a:ext cx="5608080" cy="2537640"/>
            <a:chOff x="543600" y="4084560"/>
            <a:chExt cx="5608080" cy="2537640"/>
          </a:xfrm>
        </p:grpSpPr>
        <p:sp>
          <p:nvSpPr>
            <p:cNvPr id="1019" name=""/>
            <p:cNvSpPr/>
            <p:nvPr/>
          </p:nvSpPr>
          <p:spPr>
            <a:xfrm flipH="1">
              <a:off x="2479680" y="4084560"/>
              <a:ext cx="3672000" cy="1919160"/>
            </a:xfrm>
            <a:custGeom>
              <a:avLst/>
              <a:gdLst/>
              <a:ahLst/>
              <a:rect l="l" t="t" r="r" b="b"/>
              <a:pathLst>
                <a:path w="2313" h="1209">
                  <a:moveTo>
                    <a:pt x="1157" y="1198"/>
                  </a:moveTo>
                  <a:lnTo>
                    <a:pt x="1189" y="1188"/>
                  </a:lnTo>
                  <a:lnTo>
                    <a:pt x="1220" y="1188"/>
                  </a:lnTo>
                  <a:lnTo>
                    <a:pt x="1252" y="1177"/>
                  </a:lnTo>
                  <a:lnTo>
                    <a:pt x="1273" y="1177"/>
                  </a:lnTo>
                  <a:lnTo>
                    <a:pt x="1295" y="1167"/>
                  </a:lnTo>
                  <a:lnTo>
                    <a:pt x="1326" y="1156"/>
                  </a:lnTo>
                  <a:lnTo>
                    <a:pt x="1348" y="1156"/>
                  </a:lnTo>
                  <a:lnTo>
                    <a:pt x="1369" y="1145"/>
                  </a:lnTo>
                  <a:lnTo>
                    <a:pt x="1401" y="1135"/>
                  </a:lnTo>
                  <a:lnTo>
                    <a:pt x="1433" y="1124"/>
                  </a:lnTo>
                  <a:lnTo>
                    <a:pt x="1464" y="1114"/>
                  </a:lnTo>
                  <a:lnTo>
                    <a:pt x="1486" y="1092"/>
                  </a:lnTo>
                  <a:lnTo>
                    <a:pt x="1517" y="1082"/>
                  </a:lnTo>
                  <a:lnTo>
                    <a:pt x="1549" y="1071"/>
                  </a:lnTo>
                  <a:lnTo>
                    <a:pt x="1570" y="1060"/>
                  </a:lnTo>
                  <a:lnTo>
                    <a:pt x="1592" y="1039"/>
                  </a:lnTo>
                  <a:lnTo>
                    <a:pt x="1623" y="1029"/>
                  </a:lnTo>
                  <a:lnTo>
                    <a:pt x="1645" y="1007"/>
                  </a:lnTo>
                  <a:lnTo>
                    <a:pt x="1666" y="997"/>
                  </a:lnTo>
                  <a:lnTo>
                    <a:pt x="1698" y="976"/>
                  </a:lnTo>
                  <a:lnTo>
                    <a:pt x="1719" y="954"/>
                  </a:lnTo>
                  <a:lnTo>
                    <a:pt x="1740" y="944"/>
                  </a:lnTo>
                  <a:lnTo>
                    <a:pt x="1761" y="923"/>
                  </a:lnTo>
                  <a:lnTo>
                    <a:pt x="1804" y="901"/>
                  </a:lnTo>
                  <a:lnTo>
                    <a:pt x="1836" y="870"/>
                  </a:lnTo>
                  <a:lnTo>
                    <a:pt x="1867" y="838"/>
                  </a:lnTo>
                  <a:lnTo>
                    <a:pt x="1899" y="795"/>
                  </a:lnTo>
                  <a:lnTo>
                    <a:pt x="1931" y="763"/>
                  </a:lnTo>
                  <a:lnTo>
                    <a:pt x="1952" y="732"/>
                  </a:lnTo>
                  <a:lnTo>
                    <a:pt x="1984" y="700"/>
                  </a:lnTo>
                  <a:lnTo>
                    <a:pt x="2005" y="668"/>
                  </a:lnTo>
                  <a:lnTo>
                    <a:pt x="2027" y="626"/>
                  </a:lnTo>
                  <a:lnTo>
                    <a:pt x="2058" y="583"/>
                  </a:lnTo>
                  <a:lnTo>
                    <a:pt x="2313" y="732"/>
                  </a:lnTo>
                  <a:lnTo>
                    <a:pt x="2069" y="0"/>
                  </a:lnTo>
                  <a:lnTo>
                    <a:pt x="1273" y="137"/>
                  </a:lnTo>
                  <a:lnTo>
                    <a:pt x="1539" y="286"/>
                  </a:lnTo>
                  <a:lnTo>
                    <a:pt x="1517" y="318"/>
                  </a:lnTo>
                  <a:lnTo>
                    <a:pt x="1496" y="350"/>
                  </a:lnTo>
                  <a:lnTo>
                    <a:pt x="1475" y="371"/>
                  </a:lnTo>
                  <a:lnTo>
                    <a:pt x="1443" y="403"/>
                  </a:lnTo>
                  <a:lnTo>
                    <a:pt x="1433" y="424"/>
                  </a:lnTo>
                  <a:lnTo>
                    <a:pt x="1411" y="445"/>
                  </a:lnTo>
                  <a:lnTo>
                    <a:pt x="1380" y="456"/>
                  </a:lnTo>
                  <a:lnTo>
                    <a:pt x="1358" y="477"/>
                  </a:lnTo>
                  <a:lnTo>
                    <a:pt x="1326" y="498"/>
                  </a:lnTo>
                  <a:lnTo>
                    <a:pt x="1295" y="519"/>
                  </a:lnTo>
                  <a:lnTo>
                    <a:pt x="1273" y="530"/>
                  </a:lnTo>
                  <a:lnTo>
                    <a:pt x="1242" y="551"/>
                  </a:lnTo>
                  <a:lnTo>
                    <a:pt x="1210" y="562"/>
                  </a:lnTo>
                  <a:lnTo>
                    <a:pt x="1189" y="572"/>
                  </a:lnTo>
                  <a:lnTo>
                    <a:pt x="1157" y="583"/>
                  </a:lnTo>
                  <a:lnTo>
                    <a:pt x="1125" y="594"/>
                  </a:lnTo>
                  <a:lnTo>
                    <a:pt x="1082" y="594"/>
                  </a:lnTo>
                  <a:lnTo>
                    <a:pt x="1051" y="594"/>
                  </a:lnTo>
                  <a:lnTo>
                    <a:pt x="987" y="604"/>
                  </a:lnTo>
                  <a:lnTo>
                    <a:pt x="913" y="604"/>
                  </a:lnTo>
                  <a:lnTo>
                    <a:pt x="860" y="594"/>
                  </a:lnTo>
                  <a:lnTo>
                    <a:pt x="807" y="583"/>
                  </a:lnTo>
                  <a:lnTo>
                    <a:pt x="743" y="562"/>
                  </a:lnTo>
                  <a:lnTo>
                    <a:pt x="690" y="541"/>
                  </a:lnTo>
                  <a:lnTo>
                    <a:pt x="637" y="519"/>
                  </a:lnTo>
                  <a:lnTo>
                    <a:pt x="595" y="488"/>
                  </a:lnTo>
                  <a:lnTo>
                    <a:pt x="552" y="445"/>
                  </a:lnTo>
                  <a:lnTo>
                    <a:pt x="0" y="763"/>
                  </a:lnTo>
                  <a:lnTo>
                    <a:pt x="22" y="785"/>
                  </a:lnTo>
                  <a:lnTo>
                    <a:pt x="54" y="816"/>
                  </a:lnTo>
                  <a:lnTo>
                    <a:pt x="85" y="848"/>
                  </a:lnTo>
                  <a:lnTo>
                    <a:pt x="107" y="870"/>
                  </a:lnTo>
                  <a:lnTo>
                    <a:pt x="138" y="891"/>
                  </a:lnTo>
                  <a:lnTo>
                    <a:pt x="170" y="923"/>
                  </a:lnTo>
                  <a:lnTo>
                    <a:pt x="191" y="944"/>
                  </a:lnTo>
                  <a:lnTo>
                    <a:pt x="223" y="965"/>
                  </a:lnTo>
                  <a:lnTo>
                    <a:pt x="255" y="986"/>
                  </a:lnTo>
                  <a:lnTo>
                    <a:pt x="287" y="1007"/>
                  </a:lnTo>
                  <a:lnTo>
                    <a:pt x="319" y="1029"/>
                  </a:lnTo>
                  <a:lnTo>
                    <a:pt x="351" y="1050"/>
                  </a:lnTo>
                  <a:lnTo>
                    <a:pt x="382" y="1060"/>
                  </a:lnTo>
                  <a:lnTo>
                    <a:pt x="414" y="1082"/>
                  </a:lnTo>
                  <a:lnTo>
                    <a:pt x="446" y="1092"/>
                  </a:lnTo>
                  <a:lnTo>
                    <a:pt x="488" y="1114"/>
                  </a:lnTo>
                  <a:lnTo>
                    <a:pt x="531" y="1124"/>
                  </a:lnTo>
                  <a:lnTo>
                    <a:pt x="563" y="1145"/>
                  </a:lnTo>
                  <a:lnTo>
                    <a:pt x="595" y="1156"/>
                  </a:lnTo>
                  <a:lnTo>
                    <a:pt x="626" y="1167"/>
                  </a:lnTo>
                  <a:lnTo>
                    <a:pt x="658" y="1177"/>
                  </a:lnTo>
                  <a:lnTo>
                    <a:pt x="701" y="1177"/>
                  </a:lnTo>
                  <a:lnTo>
                    <a:pt x="732" y="1188"/>
                  </a:lnTo>
                  <a:lnTo>
                    <a:pt x="775" y="1198"/>
                  </a:lnTo>
                  <a:lnTo>
                    <a:pt x="817" y="1198"/>
                  </a:lnTo>
                  <a:lnTo>
                    <a:pt x="860" y="1209"/>
                  </a:lnTo>
                  <a:lnTo>
                    <a:pt x="892" y="1209"/>
                  </a:lnTo>
                  <a:lnTo>
                    <a:pt x="934" y="1209"/>
                  </a:lnTo>
                  <a:lnTo>
                    <a:pt x="976" y="1209"/>
                  </a:lnTo>
                  <a:lnTo>
                    <a:pt x="1008" y="1209"/>
                  </a:lnTo>
                  <a:lnTo>
                    <a:pt x="1051" y="1209"/>
                  </a:lnTo>
                  <a:lnTo>
                    <a:pt x="1093" y="1198"/>
                  </a:lnTo>
                  <a:lnTo>
                    <a:pt x="1125" y="1198"/>
                  </a:lnTo>
                  <a:lnTo>
                    <a:pt x="1157" y="1198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43600" y="5243400"/>
              <a:ext cx="15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plo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44320" y="5705280"/>
              <a:ext cx="325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derstand implement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plexities and sources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erformance gain/los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2" name=""/>
          <p:cNvGrpSpPr/>
          <p:nvPr/>
        </p:nvGrpSpPr>
        <p:grpSpPr>
          <a:xfrm>
            <a:off x="6514560" y="1701720"/>
            <a:ext cx="2628000" cy="1614960"/>
            <a:chOff x="6514560" y="1701720"/>
            <a:chExt cx="2628000" cy="1614960"/>
          </a:xfrm>
        </p:grpSpPr>
        <p:sp>
          <p:nvSpPr>
            <p:cNvPr id="1023" name=""/>
            <p:cNvSpPr/>
            <p:nvPr/>
          </p:nvSpPr>
          <p:spPr>
            <a:xfrm>
              <a:off x="6514560" y="1701720"/>
              <a:ext cx="243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Arial"/>
                </a:rPr>
                <a:t>Time Tra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573600" y="2125440"/>
              <a:ext cx="256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ing today’s to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xpensive technolog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 prototyp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omorrow’s sys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5" name=""/>
          <p:cNvGrpSpPr/>
          <p:nvPr/>
        </p:nvGrpSpPr>
        <p:grpSpPr>
          <a:xfrm>
            <a:off x="2580840" y="1523880"/>
            <a:ext cx="6059520" cy="3906720"/>
            <a:chOff x="2580840" y="1523880"/>
            <a:chExt cx="6059520" cy="3906720"/>
          </a:xfrm>
        </p:grpSpPr>
        <p:sp>
          <p:nvSpPr>
            <p:cNvPr id="1026" name=""/>
            <p:cNvSpPr/>
            <p:nvPr/>
          </p:nvSpPr>
          <p:spPr>
            <a:xfrm flipH="1">
              <a:off x="4920480" y="1995120"/>
              <a:ext cx="1870200" cy="3435480"/>
            </a:xfrm>
            <a:custGeom>
              <a:avLst/>
              <a:gdLst/>
              <a:ahLst/>
              <a:rect l="l" t="t" r="r" b="b"/>
              <a:pathLst>
                <a:path w="1178" h="2164">
                  <a:moveTo>
                    <a:pt x="1178" y="0"/>
                  </a:moveTo>
                  <a:lnTo>
                    <a:pt x="1146" y="0"/>
                  </a:lnTo>
                  <a:lnTo>
                    <a:pt x="1125" y="11"/>
                  </a:lnTo>
                  <a:lnTo>
                    <a:pt x="1093" y="11"/>
                  </a:lnTo>
                  <a:lnTo>
                    <a:pt x="1061" y="21"/>
                  </a:lnTo>
                  <a:lnTo>
                    <a:pt x="1040" y="32"/>
                  </a:lnTo>
                  <a:lnTo>
                    <a:pt x="1019" y="32"/>
                  </a:lnTo>
                  <a:lnTo>
                    <a:pt x="987" y="42"/>
                  </a:lnTo>
                  <a:lnTo>
                    <a:pt x="966" y="53"/>
                  </a:lnTo>
                  <a:lnTo>
                    <a:pt x="934" y="64"/>
                  </a:lnTo>
                  <a:lnTo>
                    <a:pt x="902" y="74"/>
                  </a:lnTo>
                  <a:lnTo>
                    <a:pt x="881" y="85"/>
                  </a:lnTo>
                  <a:lnTo>
                    <a:pt x="849" y="96"/>
                  </a:lnTo>
                  <a:lnTo>
                    <a:pt x="817" y="106"/>
                  </a:lnTo>
                  <a:lnTo>
                    <a:pt x="796" y="127"/>
                  </a:lnTo>
                  <a:lnTo>
                    <a:pt x="764" y="138"/>
                  </a:lnTo>
                  <a:lnTo>
                    <a:pt x="743" y="149"/>
                  </a:lnTo>
                  <a:lnTo>
                    <a:pt x="722" y="170"/>
                  </a:lnTo>
                  <a:lnTo>
                    <a:pt x="701" y="180"/>
                  </a:lnTo>
                  <a:lnTo>
                    <a:pt x="669" y="191"/>
                  </a:lnTo>
                  <a:lnTo>
                    <a:pt x="647" y="212"/>
                  </a:lnTo>
                  <a:lnTo>
                    <a:pt x="616" y="233"/>
                  </a:lnTo>
                  <a:lnTo>
                    <a:pt x="594" y="255"/>
                  </a:lnTo>
                  <a:lnTo>
                    <a:pt x="573" y="265"/>
                  </a:lnTo>
                  <a:lnTo>
                    <a:pt x="531" y="297"/>
                  </a:lnTo>
                  <a:lnTo>
                    <a:pt x="499" y="340"/>
                  </a:lnTo>
                  <a:lnTo>
                    <a:pt x="467" y="361"/>
                  </a:lnTo>
                  <a:lnTo>
                    <a:pt x="435" y="403"/>
                  </a:lnTo>
                  <a:lnTo>
                    <a:pt x="414" y="424"/>
                  </a:lnTo>
                  <a:lnTo>
                    <a:pt x="382" y="456"/>
                  </a:lnTo>
                  <a:lnTo>
                    <a:pt x="350" y="499"/>
                  </a:lnTo>
                  <a:lnTo>
                    <a:pt x="329" y="531"/>
                  </a:lnTo>
                  <a:lnTo>
                    <a:pt x="308" y="562"/>
                  </a:lnTo>
                  <a:lnTo>
                    <a:pt x="287" y="605"/>
                  </a:lnTo>
                  <a:lnTo>
                    <a:pt x="255" y="647"/>
                  </a:lnTo>
                  <a:lnTo>
                    <a:pt x="234" y="679"/>
                  </a:lnTo>
                  <a:lnTo>
                    <a:pt x="223" y="721"/>
                  </a:lnTo>
                  <a:lnTo>
                    <a:pt x="202" y="764"/>
                  </a:lnTo>
                  <a:lnTo>
                    <a:pt x="181" y="806"/>
                  </a:lnTo>
                  <a:lnTo>
                    <a:pt x="170" y="849"/>
                  </a:lnTo>
                  <a:lnTo>
                    <a:pt x="149" y="902"/>
                  </a:lnTo>
                  <a:lnTo>
                    <a:pt x="138" y="955"/>
                  </a:lnTo>
                  <a:lnTo>
                    <a:pt x="128" y="1008"/>
                  </a:lnTo>
                  <a:lnTo>
                    <a:pt x="117" y="1061"/>
                  </a:lnTo>
                  <a:lnTo>
                    <a:pt x="106" y="1125"/>
                  </a:lnTo>
                  <a:lnTo>
                    <a:pt x="96" y="1199"/>
                  </a:lnTo>
                  <a:lnTo>
                    <a:pt x="96" y="1263"/>
                  </a:lnTo>
                  <a:lnTo>
                    <a:pt x="96" y="1326"/>
                  </a:lnTo>
                  <a:lnTo>
                    <a:pt x="106" y="1379"/>
                  </a:lnTo>
                  <a:lnTo>
                    <a:pt x="117" y="1432"/>
                  </a:lnTo>
                  <a:lnTo>
                    <a:pt x="117" y="1485"/>
                  </a:lnTo>
                  <a:lnTo>
                    <a:pt x="128" y="1549"/>
                  </a:lnTo>
                  <a:lnTo>
                    <a:pt x="149" y="1602"/>
                  </a:lnTo>
                  <a:lnTo>
                    <a:pt x="170" y="1666"/>
                  </a:lnTo>
                  <a:lnTo>
                    <a:pt x="191" y="1729"/>
                  </a:lnTo>
                  <a:lnTo>
                    <a:pt x="213" y="1782"/>
                  </a:lnTo>
                  <a:lnTo>
                    <a:pt x="234" y="1835"/>
                  </a:lnTo>
                  <a:lnTo>
                    <a:pt x="266" y="1888"/>
                  </a:lnTo>
                  <a:lnTo>
                    <a:pt x="0" y="2037"/>
                  </a:lnTo>
                  <a:lnTo>
                    <a:pt x="807" y="2164"/>
                  </a:lnTo>
                  <a:lnTo>
                    <a:pt x="1104" y="1422"/>
                  </a:lnTo>
                  <a:lnTo>
                    <a:pt x="796" y="1591"/>
                  </a:lnTo>
                  <a:lnTo>
                    <a:pt x="764" y="1538"/>
                  </a:lnTo>
                  <a:lnTo>
                    <a:pt x="743" y="1496"/>
                  </a:lnTo>
                  <a:lnTo>
                    <a:pt x="732" y="1453"/>
                  </a:lnTo>
                  <a:lnTo>
                    <a:pt x="722" y="1411"/>
                  </a:lnTo>
                  <a:lnTo>
                    <a:pt x="711" y="1369"/>
                  </a:lnTo>
                  <a:lnTo>
                    <a:pt x="711" y="1326"/>
                  </a:lnTo>
                  <a:lnTo>
                    <a:pt x="701" y="1284"/>
                  </a:lnTo>
                  <a:lnTo>
                    <a:pt x="701" y="1241"/>
                  </a:lnTo>
                  <a:lnTo>
                    <a:pt x="701" y="1199"/>
                  </a:lnTo>
                  <a:lnTo>
                    <a:pt x="711" y="1146"/>
                  </a:lnTo>
                  <a:lnTo>
                    <a:pt x="722" y="1093"/>
                  </a:lnTo>
                  <a:lnTo>
                    <a:pt x="732" y="1050"/>
                  </a:lnTo>
                  <a:lnTo>
                    <a:pt x="754" y="1008"/>
                  </a:lnTo>
                  <a:lnTo>
                    <a:pt x="764" y="965"/>
                  </a:lnTo>
                  <a:lnTo>
                    <a:pt x="785" y="923"/>
                  </a:lnTo>
                  <a:lnTo>
                    <a:pt x="807" y="891"/>
                  </a:lnTo>
                  <a:lnTo>
                    <a:pt x="828" y="870"/>
                  </a:lnTo>
                  <a:lnTo>
                    <a:pt x="849" y="849"/>
                  </a:lnTo>
                  <a:lnTo>
                    <a:pt x="870" y="817"/>
                  </a:lnTo>
                  <a:lnTo>
                    <a:pt x="891" y="796"/>
                  </a:lnTo>
                  <a:lnTo>
                    <a:pt x="913" y="775"/>
                  </a:lnTo>
                  <a:lnTo>
                    <a:pt x="934" y="753"/>
                  </a:lnTo>
                  <a:lnTo>
                    <a:pt x="955" y="732"/>
                  </a:lnTo>
                  <a:lnTo>
                    <a:pt x="976" y="711"/>
                  </a:lnTo>
                  <a:lnTo>
                    <a:pt x="1008" y="690"/>
                  </a:lnTo>
                  <a:lnTo>
                    <a:pt x="1040" y="679"/>
                  </a:lnTo>
                  <a:lnTo>
                    <a:pt x="1061" y="658"/>
                  </a:lnTo>
                  <a:lnTo>
                    <a:pt x="1093" y="647"/>
                  </a:lnTo>
                  <a:lnTo>
                    <a:pt x="1125" y="626"/>
                  </a:lnTo>
                  <a:lnTo>
                    <a:pt x="1178" y="615"/>
                  </a:lnTo>
                  <a:lnTo>
                    <a:pt x="1178" y="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780960" y="4012920"/>
              <a:ext cx="153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780240" y="4454280"/>
              <a:ext cx="1860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w compu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rchitect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2580480" y="1523880"/>
              <a:ext cx="2760840" cy="3116160"/>
            </a:xfrm>
            <a:custGeom>
              <a:avLst/>
              <a:gdLst/>
              <a:ahLst/>
              <a:rect l="l" t="t" r="r" b="b"/>
              <a:pathLst>
                <a:path w="1739" h="1963">
                  <a:moveTo>
                    <a:pt x="657" y="286"/>
                  </a:moveTo>
                  <a:lnTo>
                    <a:pt x="679" y="297"/>
                  </a:lnTo>
                  <a:lnTo>
                    <a:pt x="710" y="297"/>
                  </a:lnTo>
                  <a:lnTo>
                    <a:pt x="742" y="308"/>
                  </a:lnTo>
                  <a:lnTo>
                    <a:pt x="763" y="308"/>
                  </a:lnTo>
                  <a:lnTo>
                    <a:pt x="795" y="318"/>
                  </a:lnTo>
                  <a:lnTo>
                    <a:pt x="816" y="329"/>
                  </a:lnTo>
                  <a:lnTo>
                    <a:pt x="848" y="329"/>
                  </a:lnTo>
                  <a:lnTo>
                    <a:pt x="870" y="339"/>
                  </a:lnTo>
                  <a:lnTo>
                    <a:pt x="901" y="350"/>
                  </a:lnTo>
                  <a:lnTo>
                    <a:pt x="933" y="361"/>
                  </a:lnTo>
                  <a:lnTo>
                    <a:pt x="954" y="371"/>
                  </a:lnTo>
                  <a:lnTo>
                    <a:pt x="986" y="382"/>
                  </a:lnTo>
                  <a:lnTo>
                    <a:pt x="1018" y="403"/>
                  </a:lnTo>
                  <a:lnTo>
                    <a:pt x="1039" y="414"/>
                  </a:lnTo>
                  <a:lnTo>
                    <a:pt x="1071" y="424"/>
                  </a:lnTo>
                  <a:lnTo>
                    <a:pt x="1092" y="446"/>
                  </a:lnTo>
                  <a:lnTo>
                    <a:pt x="1113" y="456"/>
                  </a:lnTo>
                  <a:lnTo>
                    <a:pt x="1135" y="467"/>
                  </a:lnTo>
                  <a:lnTo>
                    <a:pt x="1167" y="488"/>
                  </a:lnTo>
                  <a:lnTo>
                    <a:pt x="1188" y="509"/>
                  </a:lnTo>
                  <a:lnTo>
                    <a:pt x="1220" y="520"/>
                  </a:lnTo>
                  <a:lnTo>
                    <a:pt x="1241" y="541"/>
                  </a:lnTo>
                  <a:lnTo>
                    <a:pt x="1262" y="562"/>
                  </a:lnTo>
                  <a:lnTo>
                    <a:pt x="1304" y="594"/>
                  </a:lnTo>
                  <a:lnTo>
                    <a:pt x="1336" y="626"/>
                  </a:lnTo>
                  <a:lnTo>
                    <a:pt x="1368" y="647"/>
                  </a:lnTo>
                  <a:lnTo>
                    <a:pt x="1400" y="690"/>
                  </a:lnTo>
                  <a:lnTo>
                    <a:pt x="1421" y="721"/>
                  </a:lnTo>
                  <a:lnTo>
                    <a:pt x="1453" y="753"/>
                  </a:lnTo>
                  <a:lnTo>
                    <a:pt x="1485" y="785"/>
                  </a:lnTo>
                  <a:lnTo>
                    <a:pt x="1506" y="817"/>
                  </a:lnTo>
                  <a:lnTo>
                    <a:pt x="1527" y="859"/>
                  </a:lnTo>
                  <a:lnTo>
                    <a:pt x="1548" y="891"/>
                  </a:lnTo>
                  <a:lnTo>
                    <a:pt x="1570" y="934"/>
                  </a:lnTo>
                  <a:lnTo>
                    <a:pt x="1591" y="965"/>
                  </a:lnTo>
                  <a:lnTo>
                    <a:pt x="1612" y="1008"/>
                  </a:lnTo>
                  <a:lnTo>
                    <a:pt x="1633" y="1050"/>
                  </a:lnTo>
                  <a:lnTo>
                    <a:pt x="1654" y="1093"/>
                  </a:lnTo>
                  <a:lnTo>
                    <a:pt x="1665" y="1135"/>
                  </a:lnTo>
                  <a:lnTo>
                    <a:pt x="1686" y="1199"/>
                  </a:lnTo>
                  <a:lnTo>
                    <a:pt x="1697" y="1252"/>
                  </a:lnTo>
                  <a:lnTo>
                    <a:pt x="1708" y="1305"/>
                  </a:lnTo>
                  <a:lnTo>
                    <a:pt x="1718" y="1358"/>
                  </a:lnTo>
                  <a:lnTo>
                    <a:pt x="1729" y="1422"/>
                  </a:lnTo>
                  <a:lnTo>
                    <a:pt x="1729" y="1496"/>
                  </a:lnTo>
                  <a:lnTo>
                    <a:pt x="1739" y="1549"/>
                  </a:lnTo>
                  <a:lnTo>
                    <a:pt x="1729" y="1613"/>
                  </a:lnTo>
                  <a:lnTo>
                    <a:pt x="1729" y="1666"/>
                  </a:lnTo>
                  <a:lnTo>
                    <a:pt x="1718" y="1719"/>
                  </a:lnTo>
                  <a:lnTo>
                    <a:pt x="1718" y="1782"/>
                  </a:lnTo>
                  <a:lnTo>
                    <a:pt x="1708" y="1835"/>
                  </a:lnTo>
                  <a:lnTo>
                    <a:pt x="1686" y="1899"/>
                  </a:lnTo>
                  <a:lnTo>
                    <a:pt x="1665" y="1963"/>
                  </a:lnTo>
                  <a:lnTo>
                    <a:pt x="1559" y="1602"/>
                  </a:lnTo>
                  <a:lnTo>
                    <a:pt x="1124" y="1676"/>
                  </a:lnTo>
                  <a:lnTo>
                    <a:pt x="1124" y="1613"/>
                  </a:lnTo>
                  <a:lnTo>
                    <a:pt x="1135" y="1581"/>
                  </a:lnTo>
                  <a:lnTo>
                    <a:pt x="1135" y="1538"/>
                  </a:lnTo>
                  <a:lnTo>
                    <a:pt x="1135" y="1485"/>
                  </a:lnTo>
                  <a:lnTo>
                    <a:pt x="1124" y="1443"/>
                  </a:lnTo>
                  <a:lnTo>
                    <a:pt x="1113" y="1390"/>
                  </a:lnTo>
                  <a:lnTo>
                    <a:pt x="1103" y="1347"/>
                  </a:lnTo>
                  <a:lnTo>
                    <a:pt x="1082" y="1294"/>
                  </a:lnTo>
                  <a:lnTo>
                    <a:pt x="1071" y="1252"/>
                  </a:lnTo>
                  <a:lnTo>
                    <a:pt x="1050" y="1220"/>
                  </a:lnTo>
                  <a:lnTo>
                    <a:pt x="1029" y="1188"/>
                  </a:lnTo>
                  <a:lnTo>
                    <a:pt x="1007" y="1156"/>
                  </a:lnTo>
                  <a:lnTo>
                    <a:pt x="986" y="1135"/>
                  </a:lnTo>
                  <a:lnTo>
                    <a:pt x="965" y="1114"/>
                  </a:lnTo>
                  <a:lnTo>
                    <a:pt x="944" y="1082"/>
                  </a:lnTo>
                  <a:lnTo>
                    <a:pt x="923" y="1072"/>
                  </a:lnTo>
                  <a:lnTo>
                    <a:pt x="901" y="1040"/>
                  </a:lnTo>
                  <a:lnTo>
                    <a:pt x="880" y="1029"/>
                  </a:lnTo>
                  <a:lnTo>
                    <a:pt x="859" y="1008"/>
                  </a:lnTo>
                  <a:lnTo>
                    <a:pt x="827" y="987"/>
                  </a:lnTo>
                  <a:lnTo>
                    <a:pt x="795" y="965"/>
                  </a:lnTo>
                  <a:lnTo>
                    <a:pt x="774" y="955"/>
                  </a:lnTo>
                  <a:lnTo>
                    <a:pt x="742" y="934"/>
                  </a:lnTo>
                  <a:lnTo>
                    <a:pt x="710" y="923"/>
                  </a:lnTo>
                  <a:lnTo>
                    <a:pt x="689" y="912"/>
                  </a:lnTo>
                  <a:lnTo>
                    <a:pt x="657" y="902"/>
                  </a:lnTo>
                  <a:lnTo>
                    <a:pt x="615" y="891"/>
                  </a:lnTo>
                  <a:lnTo>
                    <a:pt x="583" y="891"/>
                  </a:lnTo>
                  <a:lnTo>
                    <a:pt x="541" y="881"/>
                  </a:lnTo>
                  <a:lnTo>
                    <a:pt x="509" y="881"/>
                  </a:lnTo>
                  <a:lnTo>
                    <a:pt x="488" y="881"/>
                  </a:lnTo>
                  <a:lnTo>
                    <a:pt x="488" y="1199"/>
                  </a:lnTo>
                  <a:lnTo>
                    <a:pt x="0" y="605"/>
                  </a:lnTo>
                  <a:lnTo>
                    <a:pt x="488" y="0"/>
                  </a:lnTo>
                  <a:lnTo>
                    <a:pt x="488" y="276"/>
                  </a:lnTo>
                  <a:lnTo>
                    <a:pt x="509" y="276"/>
                  </a:lnTo>
                  <a:lnTo>
                    <a:pt x="551" y="276"/>
                  </a:lnTo>
                  <a:lnTo>
                    <a:pt x="583" y="276"/>
                  </a:lnTo>
                  <a:lnTo>
                    <a:pt x="626" y="286"/>
                  </a:lnTo>
                  <a:lnTo>
                    <a:pt x="657" y="2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9/98</a:t>
            </a:r>
          </a:p>
        </p:txBody>
      </p:sp>
    </p:spTree>
  </p:cSld>
  <p:transition>
    <p:pull dir="l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nternet-Scale Systems Research Grou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8326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d the evolution of the Internet through long-term research combined with the deployment of novel real-world large-scale systems and protocol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fy on-going and future research projects in distributed computing, network protocols, services, access, new applic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cilitate technology transfer and standardiz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rk closely with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ndustrial partne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n open laboratory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8ffd"/>
                </a:solidFill>
                <a:latin typeface="Arial"/>
              </a:rPr>
              <a:t>AT&amp;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coming a charter memb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2" name="att" descr=""/>
          <p:cNvPicPr/>
          <p:nvPr/>
        </p:nvPicPr>
        <p:blipFill>
          <a:blip r:embed="rId1"/>
          <a:stretch/>
        </p:blipFill>
        <p:spPr>
          <a:xfrm>
            <a:off x="5638680" y="5105520"/>
            <a:ext cx="2629080" cy="121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3859-4C4B-4B2A-BF68-D71DE32688F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B325A-47F4-4D8D-AF90-4F6665D6139E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Benefits of Sponsorship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043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ement with outstanding Berkeley graduate stud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icipation in large-scale, inter-disciplinary, pre-competitive research efforts with only modest investment, leveraging investment of other industrial partn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to all ISRG-developed software, prototypes, simulation tools, and testbed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rly access to group’s research results through on-campus participation and retrea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pport the expansion of cadre of researchers with expertise in Internet-scale sys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DE77-32B3-4EDF-82D0-BFCA4467FBB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787DE9-EA50-46DD-89DB-21A6F061D7DE}" type="datetime1">
              <a:rPr lang="en-US"/>
              <a:t>07/28/26</a:t>
            </a:fld>
          </a:p>
        </p:txBody>
      </p:sp>
    </p:spTree>
  </p:cSld>
  <p:transition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Emerging Communications Infrastructure of the Fu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800280" y="1490760"/>
            <a:ext cx="758160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halle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-based applications becoming increasingly service intens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ational resources embedded in the switching fabri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aling with heterogeneity, true utility functionality, security, service discove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rful services on “small clients” because the intelligence is in the infra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124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andwidth backbones plus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erse access networ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generation cellular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0/19/98</a:t>
            </a: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Imagin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23720" y="1437840"/>
            <a:ext cx="5437440" cy="55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lk into a ro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515360" y="1446120"/>
            <a:ext cx="984240" cy="2068560"/>
            <a:chOff x="7515360" y="1446120"/>
            <a:chExt cx="984240" cy="2068560"/>
          </a:xfrm>
        </p:grpSpPr>
        <p:grpSp>
          <p:nvGrpSpPr>
            <p:cNvPr id="106" name=""/>
            <p:cNvGrpSpPr/>
            <p:nvPr/>
          </p:nvGrpSpPr>
          <p:grpSpPr>
            <a:xfrm>
              <a:off x="7792920" y="1446120"/>
              <a:ext cx="706680" cy="1811520"/>
              <a:chOff x="7792920" y="1446120"/>
              <a:chExt cx="706680" cy="1811520"/>
            </a:xfrm>
          </p:grpSpPr>
          <p:sp>
            <p:nvSpPr>
              <p:cNvPr id="107" name=""/>
              <p:cNvSpPr/>
              <p:nvPr/>
            </p:nvSpPr>
            <p:spPr>
              <a:xfrm flipV="1">
                <a:off x="8029440" y="2054160"/>
                <a:ext cx="444600" cy="28800"/>
              </a:xfrm>
              <a:prstGeom prst="line">
                <a:avLst/>
              </a:prstGeom>
              <a:ln w="28440">
                <a:solidFill>
                  <a:srgbClr val="0332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067600" y="3257640"/>
                <a:ext cx="432000" cy="0"/>
              </a:xfrm>
              <a:prstGeom prst="line">
                <a:avLst/>
              </a:prstGeom>
              <a:ln w="28440">
                <a:solidFill>
                  <a:srgbClr val="0332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9" name=""/>
              <p:cNvGrpSpPr/>
              <p:nvPr/>
            </p:nvGrpSpPr>
            <p:grpSpPr>
              <a:xfrm>
                <a:off x="7792920" y="1446120"/>
                <a:ext cx="444240" cy="825480"/>
                <a:chOff x="7792920" y="1446120"/>
                <a:chExt cx="444240" cy="82548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7792920" y="1446120"/>
                  <a:ext cx="444240" cy="825480"/>
                </a:xfrm>
                <a:prstGeom prst="rect">
                  <a:avLst/>
                </a:prstGeom>
                <a:solidFill>
                  <a:srgbClr val="790015"/>
                </a:solidFill>
                <a:ln w="12600">
                  <a:solidFill>
                    <a:srgbClr val="919191"/>
                  </a:solidFill>
                  <a:miter/>
                </a:ln>
                <a:effectLst>
                  <a:outerShdw dist="107932" dir="2700000" blurRad="0" rotWithShape="0">
                    <a:srgbClr val="919191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7945200" y="1598400"/>
                  <a:ext cx="139680" cy="520560"/>
                </a:xfrm>
                <a:prstGeom prst="rect">
                  <a:avLst/>
                </a:prstGeom>
                <a:solidFill>
                  <a:srgbClr val="919191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868880" y="1827000"/>
                  <a:ext cx="216000" cy="216000"/>
                </a:xfrm>
                <a:prstGeom prst="cube">
                  <a:avLst>
                    <a:gd name="adj" fmla="val 43694"/>
                  </a:avLst>
                </a:prstGeom>
                <a:solidFill>
                  <a:srgbClr val="919191"/>
                </a:solidFill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" name=""/>
              <p:cNvSpPr/>
              <p:nvPr/>
            </p:nvSpPr>
            <p:spPr>
              <a:xfrm flipV="1">
                <a:off x="8496360" y="2057400"/>
                <a:ext cx="0" cy="1200240"/>
              </a:xfrm>
              <a:prstGeom prst="line">
                <a:avLst/>
              </a:prstGeom>
              <a:ln w="28440">
                <a:solidFill>
                  <a:srgbClr val="0332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"/>
            <p:cNvGrpSpPr/>
            <p:nvPr/>
          </p:nvGrpSpPr>
          <p:grpSpPr>
            <a:xfrm>
              <a:off x="7515360" y="2599920"/>
              <a:ext cx="655560" cy="914760"/>
              <a:chOff x="7515360" y="2599920"/>
              <a:chExt cx="655560" cy="914760"/>
            </a:xfrm>
          </p:grpSpPr>
          <p:sp>
            <p:nvSpPr>
              <p:cNvPr id="115" name=""/>
              <p:cNvSpPr/>
              <p:nvPr/>
            </p:nvSpPr>
            <p:spPr>
              <a:xfrm flipV="1">
                <a:off x="7972560" y="2599920"/>
                <a:ext cx="0" cy="2286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515360" y="2828880"/>
                <a:ext cx="655560" cy="685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" name=""/>
          <p:cNvSpPr/>
          <p:nvPr/>
        </p:nvSpPr>
        <p:spPr>
          <a:xfrm>
            <a:off x="6708600" y="1414440"/>
            <a:ext cx="1184400" cy="1212840"/>
          </a:xfrm>
          <a:prstGeom prst="line">
            <a:avLst/>
          </a:prstGeom>
          <a:ln w="28440">
            <a:solidFill>
              <a:srgbClr val="0332b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728640" y="5014080"/>
            <a:ext cx="6738840" cy="1922760"/>
            <a:chOff x="728640" y="5014080"/>
            <a:chExt cx="6738840" cy="1922760"/>
          </a:xfrm>
        </p:grpSpPr>
        <p:grpSp>
          <p:nvGrpSpPr>
            <p:cNvPr id="119" name=""/>
            <p:cNvGrpSpPr/>
            <p:nvPr/>
          </p:nvGrpSpPr>
          <p:grpSpPr>
            <a:xfrm>
              <a:off x="6149880" y="5381640"/>
              <a:ext cx="1317600" cy="1230120"/>
              <a:chOff x="6149880" y="5381640"/>
              <a:chExt cx="1317600" cy="1230120"/>
            </a:xfrm>
          </p:grpSpPr>
          <p:pic>
            <p:nvPicPr>
              <p:cNvPr id="120" name="remote-controls" descr=""/>
              <p:cNvPicPr/>
              <p:nvPr/>
            </p:nvPicPr>
            <p:blipFill>
              <a:blip r:embed="rId2"/>
              <a:stretch/>
            </p:blipFill>
            <p:spPr>
              <a:xfrm>
                <a:off x="6149880" y="5381640"/>
                <a:ext cx="1317600" cy="1230120"/>
              </a:xfrm>
              <a:prstGeom prst="rect">
                <a:avLst/>
              </a:prstGeom>
              <a:ln w="9360">
                <a:solidFill>
                  <a:srgbClr val="919191"/>
                </a:solidFill>
                <a:miter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6152040" y="5388840"/>
                <a:ext cx="1278360" cy="1213920"/>
              </a:xfrm>
              <a:prstGeom prst="ellipse">
                <a:avLst/>
              </a:prstGeom>
              <a:noFill/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6393240" y="5507640"/>
                <a:ext cx="774360" cy="930600"/>
              </a:xfrm>
              <a:prstGeom prst="line">
                <a:avLst/>
              </a:prstGeom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728640" y="5014080"/>
              <a:ext cx="50133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c0128"/>
                  </a:solidFill>
                  <a:latin typeface="Arial"/>
                </a:rPr>
                <a:t>You have complete, secure, optimized access to local devices and your private resour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23720" y="1207080"/>
            <a:ext cx="6477120" cy="2004480"/>
            <a:chOff x="423720" y="1207080"/>
            <a:chExt cx="6477120" cy="2004480"/>
          </a:xfrm>
        </p:grpSpPr>
        <p:grpSp>
          <p:nvGrpSpPr>
            <p:cNvPr id="125" name=""/>
            <p:cNvGrpSpPr/>
            <p:nvPr/>
          </p:nvGrpSpPr>
          <p:grpSpPr>
            <a:xfrm>
              <a:off x="6068520" y="1207080"/>
              <a:ext cx="832320" cy="1716840"/>
              <a:chOff x="6068520" y="1207080"/>
              <a:chExt cx="832320" cy="1716840"/>
            </a:xfrm>
          </p:grpSpPr>
          <p:pic>
            <p:nvPicPr>
              <p:cNvPr id="126" name="pilot2" descr=""/>
              <p:cNvPicPr/>
              <p:nvPr/>
            </p:nvPicPr>
            <p:blipFill>
              <a:blip r:embed="rId3"/>
              <a:stretch/>
            </p:blipFill>
            <p:spPr>
              <a:xfrm>
                <a:off x="6114960" y="1693800"/>
                <a:ext cx="785880" cy="123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" name=""/>
              <p:cNvSpPr/>
              <p:nvPr/>
            </p:nvSpPr>
            <p:spPr>
              <a:xfrm flipV="1">
                <a:off x="6207480" y="1374840"/>
                <a:ext cx="0" cy="318960"/>
              </a:xfrm>
              <a:prstGeom prst="line">
                <a:avLst/>
              </a:prstGeom>
              <a:ln w="57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253920" y="1207080"/>
                <a:ext cx="370440" cy="25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884" y="2648"/>
                    </a:moveTo>
                    <a:arcTo wR="10800" hR="10800" stAng="-2940762" swAng="5394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884" y="2648"/>
                    </a:moveTo>
                    <a:arcTo wR="10800" hR="10800" stAng="-2940762" swAng="5394848"/>
                  </a:path>
                </a:pathLst>
              </a:cu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161400" y="1207080"/>
                <a:ext cx="370440" cy="25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884" y="2648"/>
                    </a:moveTo>
                    <a:arcTo wR="10800" hR="10800" stAng="-2940762" swAng="5394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884" y="2648"/>
                    </a:moveTo>
                    <a:arcTo wR="10800" hR="10800" stAng="-2940762" swAng="5394848"/>
                  </a:path>
                </a:pathLst>
              </a:cu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068520" y="1207080"/>
                <a:ext cx="370440" cy="25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7884" y="2648"/>
                    </a:moveTo>
                    <a:arcTo wR="10800" hR="10800" stAng="-2940762" swAng="539484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7884" y="2648"/>
                    </a:moveTo>
                    <a:arcTo wR="10800" hR="10800" stAng="-2940762" swAng="5394848"/>
                  </a:path>
                </a:pathLst>
              </a:cu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23720" y="1949400"/>
              <a:ext cx="5437440" cy="12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85840" indent="-28584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our PDA connects to the local infrastructure and asks it to build a </a:t>
              </a:r>
              <a:r>
                <a:rPr b="0" lang="en-US" sz="2400" spc="-1" strike="noStrike">
                  <a:solidFill>
                    <a:srgbClr val="114ffb"/>
                  </a:solidFill>
                  <a:latin typeface="Arial"/>
                </a:rPr>
                <a:t>custom GU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23720" y="3098880"/>
            <a:ext cx="8539200" cy="1879560"/>
            <a:chOff x="423720" y="3098880"/>
            <a:chExt cx="8539200" cy="1879560"/>
          </a:xfrm>
        </p:grpSpPr>
        <p:grpSp>
          <p:nvGrpSpPr>
            <p:cNvPr id="133" name=""/>
            <p:cNvGrpSpPr/>
            <p:nvPr/>
          </p:nvGrpSpPr>
          <p:grpSpPr>
            <a:xfrm>
              <a:off x="6810480" y="3286080"/>
              <a:ext cx="2152440" cy="1514160"/>
              <a:chOff x="6810480" y="3286080"/>
              <a:chExt cx="2152440" cy="1514160"/>
            </a:xfrm>
          </p:grpSpPr>
          <p:sp>
            <p:nvSpPr>
              <p:cNvPr id="134" name=""/>
              <p:cNvSpPr/>
              <p:nvPr/>
            </p:nvSpPr>
            <p:spPr>
              <a:xfrm flipV="1">
                <a:off x="6810480" y="3647520"/>
                <a:ext cx="2152440" cy="1152360"/>
              </a:xfrm>
              <a:prstGeom prst="cloudCallout">
                <a:avLst>
                  <a:gd name="adj1" fmla="val -1106"/>
                  <a:gd name="adj2" fmla="val 233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7238880" y="3286080"/>
                <a:ext cx="371520" cy="428760"/>
              </a:xfrm>
              <a:prstGeom prst="line">
                <a:avLst/>
              </a:prstGeom>
              <a:ln w="38160">
                <a:solidFill>
                  <a:srgbClr val="0332b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36" name=""/>
              <p:cNvGraphicFramePr/>
              <p:nvPr/>
            </p:nvGraphicFramePr>
            <p:xfrm>
              <a:off x="7248600" y="3782880"/>
              <a:ext cx="1190520" cy="9208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37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248600" y="3782880"/>
                        <a:ext cx="1190520" cy="920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138" name=""/>
            <p:cNvSpPr/>
            <p:nvPr/>
          </p:nvSpPr>
          <p:spPr>
            <a:xfrm>
              <a:off x="423720" y="3098880"/>
              <a:ext cx="5437440" cy="187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76000"/>
            </a:bodyPr>
            <a:p>
              <a:pPr marL="217080" indent="-217080">
                <a:lnSpc>
                  <a:spcPct val="9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xt, your PDA asks the infrastructure for a path out to </a:t>
              </a:r>
              <a:br>
                <a:rPr sz="2400"/>
              </a:br>
              <a:r>
                <a:rPr b="0" lang="en-US" sz="2400" spc="-1" strike="noStrike">
                  <a:solidFill>
                    <a:srgbClr val="114ffb"/>
                  </a:solidFill>
                  <a:latin typeface="Arial"/>
                </a:rPr>
                <a:t>your personal information spac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, where agents are processing your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-mail, v-mail, faxes, and pages</a:t>
              </a:r>
              <a:br>
                <a:rPr sz="2400"/>
              </a:b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E16B-5A45-4C6D-BDAE-C1909B7188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15A84F-9857-445C-B3D7-7864E5D0F3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Vision </a:t>
            </a:r>
            <a:r>
              <a:rPr b="1" lang="en-US" sz="3200" spc="-1" strike="noStrike">
                <a:solidFill>
                  <a:srgbClr val="0332b7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 Goal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15800" y="1407960"/>
            <a:ext cx="8382240" cy="443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internet revolution will come from enabling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component servi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ervasive ac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vertically integrated Information Technolog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, programmatic creation / composition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scalable, highly available, &amp; customizable serv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daptation to end device characteristics and network connectiv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bitrarily powerful services on arbitrarily small clients using a </a:t>
            </a:r>
            <a:r>
              <a:rPr b="0" lang="en-US" sz="2400" spc="-1" strike="noStrike">
                <a:solidFill>
                  <a:srgbClr val="fc0128"/>
                </a:solidFill>
                <a:latin typeface="Arial"/>
              </a:rPr>
              <a:t>proactive infrastru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52E-2F06-4FF9-AB99-8BE1665689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03763E-CDED-4641-A680-CC83B25743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Outline of the Presentation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nja Service Architectu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de-Area Path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 Service Programming Framewor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ject Context at Berkele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86FD-2E69-4F8A-B267-D7F2232F2A2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112F99-B66D-445E-817A-BFC6969367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tarting Point: Transcoding Proxies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886040" y="1378080"/>
            <a:ext cx="3549600" cy="3790800"/>
            <a:chOff x="1886040" y="1378080"/>
            <a:chExt cx="3549600" cy="3790800"/>
          </a:xfrm>
        </p:grpSpPr>
        <p:pic>
          <p:nvPicPr>
            <p:cNvPr id="145" name="left" descr=""/>
            <p:cNvPicPr/>
            <p:nvPr/>
          </p:nvPicPr>
          <p:blipFill>
            <a:blip r:embed="rId1"/>
            <a:stretch/>
          </p:blipFill>
          <p:spPr>
            <a:xfrm>
              <a:off x="2473200" y="2081160"/>
              <a:ext cx="2517840" cy="28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886040" y="1878120"/>
              <a:ext cx="3549600" cy="329076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4560" y="1378080"/>
              <a:ext cx="261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calable Serve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153040" y="1260360"/>
            <a:ext cx="3990960" cy="3939480"/>
            <a:chOff x="5153040" y="1260360"/>
            <a:chExt cx="3990960" cy="3939480"/>
          </a:xfrm>
        </p:grpSpPr>
        <p:sp>
          <p:nvSpPr>
            <p:cNvPr id="149" name=""/>
            <p:cNvSpPr/>
            <p:nvPr/>
          </p:nvSpPr>
          <p:spPr>
            <a:xfrm flipV="1">
              <a:off x="5257800" y="1580760"/>
              <a:ext cx="743040" cy="59076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391000" y="180972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391000" y="196200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391000" y="219060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391000" y="234324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5391000" y="2571840"/>
              <a:ext cx="609840" cy="45720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5" name="map" descr=""/>
            <p:cNvPicPr/>
            <p:nvPr/>
          </p:nvPicPr>
          <p:blipFill>
            <a:blip r:embed="rId2"/>
            <a:stretch/>
          </p:blipFill>
          <p:spPr>
            <a:xfrm>
              <a:off x="6764400" y="1932120"/>
              <a:ext cx="148284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6396120" y="4734000"/>
              <a:ext cx="274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ptops, Desktop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155560" y="4145760"/>
              <a:ext cx="1269360" cy="1054080"/>
              <a:chOff x="5155560" y="4145760"/>
              <a:chExt cx="1269360" cy="1054080"/>
            </a:xfrm>
          </p:grpSpPr>
          <p:sp>
            <p:nvSpPr>
              <p:cNvPr id="158" name=""/>
              <p:cNvSpPr/>
              <p:nvPr/>
            </p:nvSpPr>
            <p:spPr>
              <a:xfrm rot="11457000">
                <a:off x="6082200" y="5027040"/>
                <a:ext cx="228600" cy="15228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5186880" y="4908240"/>
                <a:ext cx="897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11457000">
                <a:off x="6050880" y="4788360"/>
                <a:ext cx="228600" cy="15228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5155560" y="4669560"/>
                <a:ext cx="89784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11457000">
                <a:off x="6183720" y="4503240"/>
                <a:ext cx="228600" cy="15264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5288040" y="4384440"/>
                <a:ext cx="897840" cy="17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11457000">
                <a:off x="6152760" y="4264560"/>
                <a:ext cx="228600" cy="152640"/>
              </a:xfrm>
              <a:prstGeom prst="rect">
                <a:avLst/>
              </a:prstGeom>
              <a:solidFill>
                <a:srgbClr val="114ffb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5257080" y="4145760"/>
                <a:ext cx="897840" cy="173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000840" y="1504800"/>
              <a:ext cx="152280" cy="1526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00840" y="1733400"/>
              <a:ext cx="152280" cy="15264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000840" y="1886040"/>
              <a:ext cx="152280" cy="152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00840" y="2114640"/>
              <a:ext cx="152280" cy="152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00840" y="2266920"/>
              <a:ext cx="152280" cy="152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00840" y="2495520"/>
              <a:ext cx="152280" cy="152280"/>
            </a:xfrm>
            <a:prstGeom prst="rect">
              <a:avLst/>
            </a:prstGeom>
            <a:solidFill>
              <a:srgbClr val="00ae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251400" y="1260360"/>
              <a:ext cx="2892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nfo. Applianc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Network Comput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5153040" y="2930400"/>
              <a:ext cx="1585800" cy="19368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700680" y="4111560"/>
              <a:ext cx="209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4ffb"/>
                  </a:solidFill>
                  <a:latin typeface="Arial"/>
                </a:rPr>
                <a:t>Spoon feed web pages to P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009800" y="5329080"/>
            <a:ext cx="7851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Transformation, Aggregation, Caching, and Customization (TA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lability and avail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mited customizability and locality and no persist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240" y="2476440"/>
            <a:ext cx="2174400" cy="2635200"/>
            <a:chOff x="3240" y="2476440"/>
            <a:chExt cx="2174400" cy="2635200"/>
          </a:xfrm>
        </p:grpSpPr>
        <p:sp>
          <p:nvSpPr>
            <p:cNvPr id="177" name=""/>
            <p:cNvSpPr/>
            <p:nvPr/>
          </p:nvSpPr>
          <p:spPr>
            <a:xfrm>
              <a:off x="461880" y="4157640"/>
              <a:ext cx="841320" cy="9540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2680" y="2476440"/>
              <a:ext cx="841320" cy="9540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40" y="3522600"/>
              <a:ext cx="186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gacy Serv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00320" y="2900520"/>
              <a:ext cx="806400" cy="33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1383840" y="4386240"/>
              <a:ext cx="79380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4A3-8A75-4F3E-B8DB-37B4F7D8B08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D65EEA-3000-40F5-9F2E-C7C56B054C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ProActive Approach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6197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framework that enables programmatic generation and composition of services out of strongly typed reusable compon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Elem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Structured architectu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a careful</a:t>
            </a: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 partitioning of 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Bases, Active Routers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 Un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114f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Wide-area path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med out of</a:t>
            </a:r>
            <a:r>
              <a:rPr b="0" lang="en-US" sz="2000" spc="-1" strike="noStrike">
                <a:solidFill>
                  <a:srgbClr val="114ffb"/>
                </a:solidFill>
                <a:latin typeface="Arial"/>
              </a:rPr>
              <a:t> strongly-typed componen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Operato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Conne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51"/>
              </a:spcBef>
              <a:buClr>
                <a:srgbClr val="0332b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332b7"/>
                </a:solidFill>
                <a:latin typeface="Arial"/>
              </a:rPr>
              <a:t>Execution environ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ith efficient, but powerful communication primiti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Active Messages + caps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51"/>
              </a:spcBef>
              <a:buClr>
                <a:srgbClr val="fc0128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Arial"/>
              </a:rPr>
              <a:t>TACC + persistence + custom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9F2F-5414-4CA7-AD15-981DDB63B55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CFA951-200D-43C5-8504-CCD7C10D8C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181080" y="1290600"/>
            <a:ext cx="8783640" cy="1920960"/>
            <a:chOff x="181080" y="1290600"/>
            <a:chExt cx="8783640" cy="1920960"/>
          </a:xfrm>
        </p:grpSpPr>
        <p:sp>
          <p:nvSpPr>
            <p:cNvPr id="185" name=""/>
            <p:cNvSpPr/>
            <p:nvPr/>
          </p:nvSpPr>
          <p:spPr>
            <a:xfrm>
              <a:off x="181080" y="1290600"/>
              <a:ext cx="5045040" cy="19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85840" indent="-285840">
                <a:lnSpc>
                  <a:spcPct val="8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a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7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ly availab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7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ersistent state (safe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atabases, ag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me” base per us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7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 programming environ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652920" y="1461600"/>
              <a:ext cx="5311800" cy="1443240"/>
              <a:chOff x="3652920" y="1461600"/>
              <a:chExt cx="5311800" cy="1443240"/>
            </a:xfrm>
          </p:grpSpPr>
          <p:sp>
            <p:nvSpPr>
              <p:cNvPr id="187" name=""/>
              <p:cNvSpPr/>
              <p:nvPr/>
            </p:nvSpPr>
            <p:spPr>
              <a:xfrm flipV="1">
                <a:off x="3652920" y="1460880"/>
                <a:ext cx="5311800" cy="1443240"/>
              </a:xfrm>
              <a:prstGeom prst="cloudCallout">
                <a:avLst>
                  <a:gd name="adj1" fmla="val -17125"/>
                  <a:gd name="adj2" fmla="val 3459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4592520" y="2200320"/>
                <a:ext cx="3463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4673520" y="2120760"/>
                <a:ext cx="3463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4745160" y="2047320"/>
                <a:ext cx="345960" cy="30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4826160" y="196848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4903920" y="190332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4984920" y="182412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5056200" y="175104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5137200" y="167148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6794640" y="245268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6875640" y="2372760"/>
                <a:ext cx="345960" cy="30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6946920" y="230040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7027920" y="222084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7105680" y="215568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6002280" y="2163600"/>
                <a:ext cx="34596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6073920" y="2090160"/>
                <a:ext cx="345960" cy="301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154560" y="2011320"/>
                <a:ext cx="346320" cy="3016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457200"/>
            <a:ext cx="76741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332b7"/>
                </a:solidFill>
                <a:latin typeface="Arial"/>
              </a:rPr>
              <a:t>Structured Architecture</a:t>
            </a:r>
            <a:endParaRPr b="1" lang="en-US" sz="3200" spc="-1" strike="noStrike">
              <a:solidFill>
                <a:srgbClr val="0332b7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81080" y="2314440"/>
            <a:ext cx="7948440" cy="2595600"/>
            <a:chOff x="181080" y="2314440"/>
            <a:chExt cx="7948440" cy="2595600"/>
          </a:xfrm>
        </p:grpSpPr>
        <p:sp>
          <p:nvSpPr>
            <p:cNvPr id="206" name=""/>
            <p:cNvSpPr/>
            <p:nvPr/>
          </p:nvSpPr>
          <p:spPr>
            <a:xfrm flipV="1">
              <a:off x="4546440" y="3720240"/>
              <a:ext cx="428760" cy="2653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6118200" y="3869640"/>
              <a:ext cx="457200" cy="32220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5224320" y="4075920"/>
              <a:ext cx="457200" cy="23652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762600" y="3553560"/>
              <a:ext cx="457200" cy="3812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7672320" y="4013280"/>
              <a:ext cx="457200" cy="177840"/>
            </a:xfrm>
            <a:prstGeom prst="rect">
              <a:avLst/>
            </a:prstGeom>
            <a:solidFill>
              <a:srgbClr val="66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649400" y="2473200"/>
              <a:ext cx="158760" cy="122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81680" y="2314440"/>
              <a:ext cx="504720" cy="176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5573880" y="2705040"/>
              <a:ext cx="1312560" cy="1355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88320" y="2719440"/>
              <a:ext cx="1023840" cy="1298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1080" y="3220920"/>
              <a:ext cx="5045040" cy="168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85840" indent="-285840">
                <a:lnSpc>
                  <a:spcPct val="8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ctive Prox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7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ot packet routers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ft-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ell-connect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ization (any to any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181080" y="2755800"/>
            <a:ext cx="8447040" cy="3657600"/>
            <a:chOff x="181080" y="2755800"/>
            <a:chExt cx="8447040" cy="3657600"/>
          </a:xfrm>
        </p:grpSpPr>
        <p:sp>
          <p:nvSpPr>
            <p:cNvPr id="217" name=""/>
            <p:cNvSpPr/>
            <p:nvPr/>
          </p:nvSpPr>
          <p:spPr>
            <a:xfrm flipH="1">
              <a:off x="4803480" y="4027320"/>
              <a:ext cx="12600" cy="135576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87840" y="4221000"/>
              <a:ext cx="914400" cy="10670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78680" y="2755800"/>
              <a:ext cx="534960" cy="2359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5280120" y="491976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432400" y="476712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907240" y="524340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059520" y="493236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289560" y="545148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6442200" y="514044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5425920" y="5290560"/>
              <a:ext cx="287640" cy="231480"/>
            </a:xfrm>
            <a:prstGeom prst="parallelogram">
              <a:avLst>
                <a:gd name="adj" fmla="val 31065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116240" y="5014800"/>
              <a:ext cx="287640" cy="231840"/>
            </a:xfrm>
            <a:prstGeom prst="parallelogram">
              <a:avLst>
                <a:gd name="adj" fmla="val 31017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268880" y="486252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743360" y="533880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896000" y="5027040"/>
              <a:ext cx="287280" cy="231480"/>
            </a:xfrm>
            <a:prstGeom prst="parallelogram">
              <a:avLst>
                <a:gd name="adj" fmla="val 31026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6765840" y="504972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6918480" y="489744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7392960" y="537372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545240" y="5061960"/>
              <a:ext cx="287640" cy="231480"/>
            </a:xfrm>
            <a:prstGeom prst="parallelogram">
              <a:avLst>
                <a:gd name="adj" fmla="val 31065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7862760" y="5249880"/>
              <a:ext cx="287640" cy="231840"/>
            </a:xfrm>
            <a:prstGeom prst="parallelogram">
              <a:avLst>
                <a:gd name="adj" fmla="val 31017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8015400" y="4938120"/>
              <a:ext cx="287280" cy="231480"/>
            </a:xfrm>
            <a:prstGeom prst="parallelogram">
              <a:avLst>
                <a:gd name="adj" fmla="val 31026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8340840" y="5219640"/>
              <a:ext cx="287280" cy="231840"/>
            </a:xfrm>
            <a:prstGeom prst="parallelogram">
              <a:avLst>
                <a:gd name="adj" fmla="val 30978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7399440" y="5379480"/>
              <a:ext cx="287280" cy="231480"/>
            </a:xfrm>
            <a:prstGeom prst="parallelogram">
              <a:avLst>
                <a:gd name="adj" fmla="val 31026"/>
              </a:avLst>
            </a:prstGeom>
            <a:solidFill>
              <a:srgbClr val="114ff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1080" y="4768920"/>
              <a:ext cx="5045040" cy="164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marL="285840" indent="-285840">
                <a:lnSpc>
                  <a:spcPct val="80000"/>
                </a:lnSpc>
                <a:spcBef>
                  <a:spcPts val="9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ni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7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nsors / actuato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DAs / smartphones / PC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terogeneou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685800" indent="-228600">
                <a:lnSpc>
                  <a:spcPct val="80000"/>
                </a:lnSpc>
                <a:spcBef>
                  <a:spcPts val="675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imal functionality: “Smart Clients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6478920" y="1762200"/>
            <a:ext cx="1678680" cy="3749760"/>
            <a:chOff x="6478920" y="1762200"/>
            <a:chExt cx="1678680" cy="3749760"/>
          </a:xfrm>
        </p:grpSpPr>
        <p:sp>
          <p:nvSpPr>
            <p:cNvPr id="241" name=""/>
            <p:cNvSpPr/>
            <p:nvPr/>
          </p:nvSpPr>
          <p:spPr>
            <a:xfrm flipV="1">
              <a:off x="6850080" y="2262960"/>
              <a:ext cx="554040" cy="35244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6958080" y="3700440"/>
              <a:ext cx="129960" cy="1144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7361280" y="4168800"/>
              <a:ext cx="396720" cy="1255680"/>
            </a:xfrm>
            <a:custGeom>
              <a:avLst/>
              <a:gdLst/>
              <a:ahLst/>
              <a:rect l="l" t="t" r="r" b="b"/>
              <a:pathLst>
                <a:path w="250" h="791">
                  <a:moveTo>
                    <a:pt x="114" y="0"/>
                  </a:moveTo>
                  <a:cubicBezTo>
                    <a:pt x="57" y="166"/>
                    <a:pt x="0" y="332"/>
                    <a:pt x="23" y="464"/>
                  </a:cubicBezTo>
                  <a:cubicBezTo>
                    <a:pt x="46" y="596"/>
                    <a:pt x="148" y="693"/>
                    <a:pt x="250" y="791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 rot="17734800">
              <a:off x="7210800" y="3690720"/>
              <a:ext cx="230040" cy="717840"/>
            </a:xfrm>
            <a:custGeom>
              <a:avLst/>
              <a:gdLst/>
              <a:ahLst/>
              <a:rect l="l" t="t" r="r" b="b"/>
              <a:pathLst>
                <a:path w="250" h="791">
                  <a:moveTo>
                    <a:pt x="114" y="0"/>
                  </a:moveTo>
                  <a:cubicBezTo>
                    <a:pt x="57" y="166"/>
                    <a:pt x="0" y="332"/>
                    <a:pt x="23" y="464"/>
                  </a:cubicBezTo>
                  <a:cubicBezTo>
                    <a:pt x="46" y="596"/>
                    <a:pt x="148" y="693"/>
                    <a:pt x="250" y="791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821640" y="2340720"/>
              <a:ext cx="555480" cy="1428840"/>
            </a:xfrm>
            <a:custGeom>
              <a:avLst/>
              <a:gdLst/>
              <a:ahLst/>
              <a:rect l="l" t="t" r="r" b="b"/>
              <a:pathLst>
                <a:path w="250" h="791">
                  <a:moveTo>
                    <a:pt x="114" y="0"/>
                  </a:moveTo>
                  <a:cubicBezTo>
                    <a:pt x="57" y="166"/>
                    <a:pt x="0" y="332"/>
                    <a:pt x="23" y="464"/>
                  </a:cubicBezTo>
                  <a:cubicBezTo>
                    <a:pt x="46" y="596"/>
                    <a:pt x="148" y="693"/>
                    <a:pt x="250" y="791"/>
                  </a:cubicBezTo>
                </a:path>
              </a:pathLst>
            </a:custGeom>
            <a:noFill/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469280" y="5397480"/>
              <a:ext cx="129960" cy="1144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8920" y="1762200"/>
              <a:ext cx="167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c0128"/>
                  </a:solidFill>
                  <a:latin typeface="Arial"/>
                </a:rPr>
                <a:t>Wide-Area Pat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737480" y="4060800"/>
              <a:ext cx="130320" cy="114480"/>
            </a:xfrm>
            <a:prstGeom prst="ellipse">
              <a:avLst/>
            </a:prstGeom>
            <a:solidFill>
              <a:srgbClr val="fc012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nja Overview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9D7-8136-419A-B4E0-D17F2A77457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1FBD1-D9A8-4A89-9DA7-EF0DFD8448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1T07:49:33Z</dcterms:created>
  <dc:creator>David E. Culler</dc:creator>
  <dc:description/>
  <dc:language>en-US</dc:language>
  <cp:lastModifiedBy>David E. Culler</cp:lastModifiedBy>
  <cp:lastPrinted>1998-07-14T21:04:32Z</cp:lastPrinted>
  <dcterms:modified xsi:type="dcterms:W3CDTF">1998-10-20T17:58:11Z</dcterms:modified>
  <cp:revision>135</cp:revision>
  <dc:subject/>
  <dc:title>Berkeley NOW</dc:title>
</cp:coreProperties>
</file>