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9.xml.rels" ContentType="application/vnd.openxmlformats-package.relationships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22680" y="21960"/>
            <a:ext cx="2978280" cy="409320"/>
          </a:xfrm>
          <a:prstGeom prst="rect">
            <a:avLst/>
          </a:prstGeom>
          <a:noFill/>
          <a:ln w="0">
            <a:noFill/>
          </a:ln>
        </p:spPr>
        <p:txBody>
          <a:bodyPr lIns="16920" rIns="16920" tIns="0" bIns="0" anchor="t">
            <a:noAutofit/>
          </a:bodyPr>
          <a:p>
            <a:pPr indent="0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01680" y="21960"/>
            <a:ext cx="2978280" cy="409320"/>
          </a:xfrm>
          <a:prstGeom prst="rect">
            <a:avLst/>
          </a:prstGeom>
          <a:noFill/>
          <a:ln w="0">
            <a:noFill/>
          </a:ln>
        </p:spPr>
        <p:txBody>
          <a:bodyPr lIns="16920" rIns="16920" tIns="0" bIns="0" anchor="t">
            <a:noAutofit/>
          </a:bodyPr>
          <a:lstStyle>
            <a:lvl1pPr indent="0" algn="r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-22680" y="8767800"/>
            <a:ext cx="2978280" cy="409680"/>
          </a:xfrm>
          <a:prstGeom prst="rect">
            <a:avLst/>
          </a:prstGeom>
          <a:noFill/>
          <a:ln w="0">
            <a:noFill/>
          </a:ln>
        </p:spPr>
        <p:txBody>
          <a:bodyPr lIns="16920" rIns="16920" tIns="0" bIns="0" anchor="b">
            <a:noAutofit/>
          </a:bodyPr>
          <a:lstStyle>
            <a:lvl1pPr indent="0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3901680" y="8767800"/>
            <a:ext cx="2978280" cy="409680"/>
          </a:xfrm>
          <a:prstGeom prst="rect">
            <a:avLst/>
          </a:prstGeom>
          <a:noFill/>
          <a:ln w="0">
            <a:noFill/>
          </a:ln>
        </p:spPr>
        <p:txBody>
          <a:bodyPr lIns="16920" rIns="16920" tIns="0" bIns="0" anchor="b">
            <a:noAutofit/>
          </a:bodyPr>
          <a:lstStyle>
            <a:lvl1pPr indent="0" algn="r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fld id="{6F9879B0-9A6B-4059-8A0A-BF023E648234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93960" y="8766000"/>
            <a:ext cx="1271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4A88176-F702-4ECC-9F9E-F3F73629E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Img"/>
          </p:nvPr>
        </p:nvSpPr>
        <p:spPr>
          <a:xfrm>
            <a:off x="1387440" y="883800"/>
            <a:ext cx="4083120" cy="306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3884760" y="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3884760" y="8739360"/>
            <a:ext cx="29732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7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ldImg"/>
          </p:nvPr>
        </p:nvSpPr>
        <p:spPr>
          <a:xfrm>
            <a:off x="1136520" y="695160"/>
            <a:ext cx="4584960" cy="34387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6B00-43A9-4937-9CD7-A8A1B3399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799800"/>
            <a:ext cx="76197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B55B-9BB5-45B8-977B-B2902F0F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6320" y="13716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7998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6320" y="37998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F779-B35F-4F43-ADD1-FD43FF8D5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8640" y="13716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5160" y="13716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7998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8640" y="37998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5160" y="37998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D70C-61BB-45CE-9639-B166A6AD0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67E4-29C4-4FEF-B743-FE59F6CF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A330-8AA1-43F8-A96F-43A2E256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718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6320" y="1371600"/>
            <a:ext cx="3718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D485-34AF-4AA4-AFBC-2955BEF7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85BE-B385-4CD7-9D6E-95611259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457200"/>
            <a:ext cx="767412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01F7-97E4-4F84-A6C7-5C74213E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6320" y="1371600"/>
            <a:ext cx="3718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7998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D109-0221-45F1-8E32-73B224A4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718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6320" y="13716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6320" y="37998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0697-CC01-443C-BB14-6255AAE0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6320" y="13716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799800"/>
            <a:ext cx="76197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A832-806B-4FAA-935A-E898F7DF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C2A7-AA83-43FE-AD67-CD2EC0864930}" type="datetime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14ff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E773-2FD3-4789-9DD6-B59F2C176F23}" type="slidenum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93720" y="1219320"/>
            <a:ext cx="7651800" cy="0"/>
          </a:xfrm>
          <a:prstGeom prst="line">
            <a:avLst/>
          </a:prstGeom>
          <a:ln w="47520">
            <a:solidFill>
              <a:srgbClr val="fbb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040" y="1348920"/>
            <a:ext cx="7829640" cy="19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owards a Service Architecture for Internet-Scale System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71520" y="3250800"/>
            <a:ext cx="6400800" cy="209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vid E. Cull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Science Divi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.C. Berkel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inja.cs.berkeley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 flipH="1" flipV="1">
            <a:off x="6400440" y="1904760"/>
            <a:ext cx="1600200" cy="152280"/>
          </a:xfrm>
          <a:prstGeom prst="line">
            <a:avLst/>
          </a:prstGeom>
          <a:ln cap="sq"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4190760" y="5181120"/>
            <a:ext cx="990360" cy="685800"/>
          </a:xfrm>
          <a:prstGeom prst="line">
            <a:avLst/>
          </a:prstGeom>
          <a:ln cap="sq"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743200" y="5105160"/>
            <a:ext cx="1295280" cy="609480"/>
          </a:xfrm>
          <a:prstGeom prst="line">
            <a:avLst/>
          </a:prstGeom>
          <a:ln cap="sq"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447920" y="3504960"/>
            <a:ext cx="0" cy="1600200"/>
          </a:xfrm>
          <a:prstGeom prst="line">
            <a:avLst/>
          </a:prstGeom>
          <a:ln w="38160">
            <a:solidFill>
              <a:srgbClr val="00ae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6095880" y="4723920"/>
            <a:ext cx="1905120" cy="685800"/>
          </a:xfrm>
          <a:prstGeom prst="line">
            <a:avLst/>
          </a:prstGeom>
          <a:ln cap="sq"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: Thin Client Access to Legacy Server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971800"/>
            <a:ext cx="990720" cy="762120"/>
          </a:xfrm>
          <a:prstGeom prst="rect">
            <a:avLst/>
          </a:prstGeom>
          <a:solidFill>
            <a:srgbClr val="91919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33920" y="4724280"/>
            <a:ext cx="685800" cy="685800"/>
          </a:xfrm>
          <a:prstGeom prst="ellipse">
            <a:avLst/>
          </a:prstGeom>
          <a:solidFill>
            <a:srgbClr val="618ff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5029200"/>
            <a:ext cx="838080" cy="3049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66680" y="3124080"/>
            <a:ext cx="685800" cy="685800"/>
          </a:xfrm>
          <a:prstGeom prst="ellipse">
            <a:avLst/>
          </a:prstGeom>
          <a:solidFill>
            <a:srgbClr val="618ff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15000" y="4343400"/>
            <a:ext cx="685800" cy="685800"/>
          </a:xfrm>
          <a:prstGeom prst="ellipse">
            <a:avLst/>
          </a:prstGeom>
          <a:solidFill>
            <a:srgbClr val="618ff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133720" y="5638680"/>
            <a:ext cx="838080" cy="3049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19920" y="1752480"/>
            <a:ext cx="838080" cy="3049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76920" y="5715000"/>
            <a:ext cx="838080" cy="3049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05320" y="3200400"/>
            <a:ext cx="990360" cy="762120"/>
          </a:xfrm>
          <a:prstGeom prst="rect">
            <a:avLst/>
          </a:prstGeom>
          <a:solidFill>
            <a:srgbClr val="91919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20120" y="5181480"/>
            <a:ext cx="838080" cy="3049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96080" y="1676520"/>
            <a:ext cx="685800" cy="685800"/>
          </a:xfrm>
          <a:prstGeom prst="ellipse">
            <a:avLst/>
          </a:prstGeom>
          <a:solidFill>
            <a:srgbClr val="618ff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05120" y="2209680"/>
            <a:ext cx="914400" cy="6098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gacy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63720" y="3340080"/>
            <a:ext cx="2651040" cy="1722600"/>
          </a:xfrm>
          <a:custGeom>
            <a:avLst/>
            <a:gdLst/>
            <a:ahLst/>
            <a:rect l="l" t="t" r="r" b="b"/>
            <a:pathLst>
              <a:path w="3609" h="1258">
                <a:moveTo>
                  <a:pt x="256" y="1258"/>
                </a:moveTo>
                <a:cubicBezTo>
                  <a:pt x="128" y="906"/>
                  <a:pt x="0" y="554"/>
                  <a:pt x="256" y="370"/>
                </a:cubicBezTo>
                <a:cubicBezTo>
                  <a:pt x="512" y="186"/>
                  <a:pt x="1234" y="218"/>
                  <a:pt x="1793" y="156"/>
                </a:cubicBezTo>
                <a:cubicBezTo>
                  <a:pt x="2352" y="94"/>
                  <a:pt x="2980" y="47"/>
                  <a:pt x="3609" y="0"/>
                </a:cubicBezTo>
              </a:path>
            </a:pathLst>
          </a:custGeom>
          <a:noFill/>
          <a:ln cap="sq" w="38160">
            <a:solidFill>
              <a:srgbClr val="fc012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934760" y="2979720"/>
            <a:ext cx="8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Home</a:t>
            </a:r>
            <a:br>
              <a:rPr sz="1800"/>
            </a:b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533760" y="3236760"/>
            <a:ext cx="228600" cy="228600"/>
          </a:xfrm>
          <a:prstGeom prst="ellipse">
            <a:avLst/>
          </a:prstGeom>
          <a:solidFill>
            <a:srgbClr val="fc012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752560" y="2700360"/>
            <a:ext cx="822600" cy="600120"/>
          </a:xfrm>
          <a:prstGeom prst="line">
            <a:avLst/>
          </a:prstGeom>
          <a:ln cap="sq"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705120" y="2808360"/>
            <a:ext cx="3157560" cy="531360"/>
            <a:chOff x="3705120" y="2808360"/>
            <a:chExt cx="3157560" cy="531360"/>
          </a:xfrm>
        </p:grpSpPr>
        <p:sp>
          <p:nvSpPr>
            <p:cNvPr id="272" name=""/>
            <p:cNvSpPr/>
            <p:nvPr/>
          </p:nvSpPr>
          <p:spPr>
            <a:xfrm flipV="1">
              <a:off x="3705120" y="3104640"/>
              <a:ext cx="3157560" cy="235080"/>
            </a:xfrm>
            <a:prstGeom prst="line">
              <a:avLst/>
            </a:prstGeom>
            <a:ln w="38160">
              <a:solidFill>
                <a:srgbClr val="fc0128"/>
              </a:solidFill>
              <a:prstDash val="dash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782600" y="2808360"/>
              <a:ext cx="187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Personaliz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8DFA-67A7-4172-A9B4-155D4067B5A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2A033D-CBAA-4257-9023-07540C27E7C8}" type="datetime1">
              <a:rPr lang="en-US"/>
              <a:t>07/29/26</a:t>
            </a:fld>
          </a:p>
        </p:txBody>
      </p:sp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 flipH="1" flipV="1">
            <a:off x="6400440" y="1904760"/>
            <a:ext cx="1600200" cy="152280"/>
          </a:xfrm>
          <a:prstGeom prst="line">
            <a:avLst/>
          </a:prstGeom>
          <a:ln cap="sq"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4190760" y="5181120"/>
            <a:ext cx="990360" cy="685800"/>
          </a:xfrm>
          <a:prstGeom prst="line">
            <a:avLst/>
          </a:prstGeom>
          <a:ln cap="sq"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2743200" y="5105160"/>
            <a:ext cx="1295280" cy="609480"/>
          </a:xfrm>
          <a:prstGeom prst="line">
            <a:avLst/>
          </a:prstGeom>
          <a:ln cap="sq"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1447920" y="3504960"/>
            <a:ext cx="0" cy="1600200"/>
          </a:xfrm>
          <a:prstGeom prst="line">
            <a:avLst/>
          </a:prstGeom>
          <a:ln w="38160">
            <a:solidFill>
              <a:srgbClr val="00ae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6095880" y="4723920"/>
            <a:ext cx="1905120" cy="685800"/>
          </a:xfrm>
          <a:prstGeom prst="line">
            <a:avLst/>
          </a:prstGeom>
          <a:ln cap="sq"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: Sensor Aggregation 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81680" y="2971800"/>
            <a:ext cx="990720" cy="762120"/>
          </a:xfrm>
          <a:prstGeom prst="rect">
            <a:avLst/>
          </a:prstGeom>
          <a:solidFill>
            <a:srgbClr val="91919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33920" y="4724280"/>
            <a:ext cx="685800" cy="685800"/>
          </a:xfrm>
          <a:prstGeom prst="ellipse">
            <a:avLst/>
          </a:prstGeom>
          <a:solidFill>
            <a:srgbClr val="618ff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14400" y="5029200"/>
            <a:ext cx="838080" cy="3049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6680" y="3124080"/>
            <a:ext cx="685800" cy="685800"/>
          </a:xfrm>
          <a:prstGeom prst="ellipse">
            <a:avLst/>
          </a:prstGeom>
          <a:solidFill>
            <a:srgbClr val="618ff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715000" y="4343400"/>
            <a:ext cx="685800" cy="685800"/>
          </a:xfrm>
          <a:prstGeom prst="ellipse">
            <a:avLst/>
          </a:prstGeom>
          <a:solidFill>
            <a:srgbClr val="618ff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33720" y="5638680"/>
            <a:ext cx="838080" cy="3049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19920" y="1752480"/>
            <a:ext cx="838080" cy="3049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76920" y="5715000"/>
            <a:ext cx="838080" cy="3049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505320" y="3200400"/>
            <a:ext cx="990360" cy="762120"/>
          </a:xfrm>
          <a:prstGeom prst="rect">
            <a:avLst/>
          </a:prstGeom>
          <a:solidFill>
            <a:srgbClr val="91919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620120" y="5181480"/>
            <a:ext cx="838080" cy="3049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96080" y="1676520"/>
            <a:ext cx="685800" cy="685800"/>
          </a:xfrm>
          <a:prstGeom prst="ellipse">
            <a:avLst/>
          </a:prstGeom>
          <a:solidFill>
            <a:srgbClr val="618ff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05120" y="2209680"/>
            <a:ext cx="914400" cy="6098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gacy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3998880" y="3813120"/>
            <a:ext cx="318960" cy="1023840"/>
          </a:xfrm>
          <a:prstGeom prst="line">
            <a:avLst/>
          </a:prstGeom>
          <a:ln cap="sq" w="38160">
            <a:solidFill>
              <a:srgbClr val="fc012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44840" y="1790640"/>
            <a:ext cx="3837240" cy="2044800"/>
          </a:xfrm>
          <a:custGeom>
            <a:avLst/>
            <a:gdLst/>
            <a:ahLst/>
            <a:rect l="l" t="t" r="r" b="b"/>
            <a:pathLst>
              <a:path w="2417" h="1288">
                <a:moveTo>
                  <a:pt x="0" y="1288"/>
                </a:moveTo>
                <a:cubicBezTo>
                  <a:pt x="952" y="856"/>
                  <a:pt x="1905" y="424"/>
                  <a:pt x="2161" y="212"/>
                </a:cubicBezTo>
                <a:cubicBezTo>
                  <a:pt x="2417" y="0"/>
                  <a:pt x="1977" y="7"/>
                  <a:pt x="1537" y="14"/>
                </a:cubicBezTo>
              </a:path>
            </a:pathLst>
          </a:custGeom>
          <a:noFill/>
          <a:ln w="38160">
            <a:solidFill>
              <a:srgbClr val="fc0128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4" name=""/>
          <p:cNvCxnSpPr>
            <a:stCxn id="285" idx="0"/>
            <a:endCxn id="295" idx="2"/>
          </p:cNvCxnSpPr>
          <p:nvPr/>
        </p:nvCxnSpPr>
        <p:spPr>
          <a:xfrm flipH="1" flipV="1" rot="5400000">
            <a:off x="2819160" y="4571640"/>
            <a:ext cx="800640" cy="1334160"/>
          </a:xfrm>
          <a:prstGeom prst="curvedConnector2">
            <a:avLst/>
          </a:prstGeom>
          <a:ln cap="sq" w="38160">
            <a:solidFill>
              <a:srgbClr val="fc0128"/>
            </a:solidFill>
            <a:miter/>
            <a:tailEnd len="med" type="arrow" w="med"/>
          </a:ln>
        </p:spPr>
      </p:cxnSp>
      <p:cxnSp>
        <p:nvCxnSpPr>
          <p:cNvPr id="296" name=""/>
          <p:cNvCxnSpPr>
            <a:stCxn id="287" idx="0"/>
            <a:endCxn id="295" idx="6"/>
          </p:cNvCxnSpPr>
          <p:nvPr/>
        </p:nvCxnSpPr>
        <p:spPr>
          <a:xfrm flipV="1" rot="16200000">
            <a:off x="4266720" y="4685760"/>
            <a:ext cx="876960" cy="1181880"/>
          </a:xfrm>
          <a:prstGeom prst="curvedConnector2">
            <a:avLst/>
          </a:prstGeom>
          <a:ln cap="sq" w="38160">
            <a:solidFill>
              <a:srgbClr val="fc0128"/>
            </a:solidFill>
            <a:miter/>
            <a:tailEnd len="med" type="arrow" w="med"/>
          </a:ln>
        </p:spPr>
      </p:cxnSp>
      <p:grpSp>
        <p:nvGrpSpPr>
          <p:cNvPr id="297" name=""/>
          <p:cNvGrpSpPr/>
          <p:nvPr/>
        </p:nvGrpSpPr>
        <p:grpSpPr>
          <a:xfrm>
            <a:off x="4216320" y="3708360"/>
            <a:ext cx="1274040" cy="496080"/>
            <a:chOff x="4216320" y="3708360"/>
            <a:chExt cx="1274040" cy="496080"/>
          </a:xfrm>
        </p:grpSpPr>
        <p:sp>
          <p:nvSpPr>
            <p:cNvPr id="298" name=""/>
            <p:cNvSpPr/>
            <p:nvPr/>
          </p:nvSpPr>
          <p:spPr>
            <a:xfrm>
              <a:off x="4216320" y="3708360"/>
              <a:ext cx="228600" cy="228600"/>
            </a:xfrm>
            <a:prstGeom prst="ellipse">
              <a:avLst/>
            </a:prstGeom>
            <a:solidFill>
              <a:srgbClr val="fc0128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736520" y="3867120"/>
              <a:ext cx="75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c0128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 flipV="1">
              <a:off x="4474800" y="3913200"/>
              <a:ext cx="299880" cy="131760"/>
            </a:xfrm>
            <a:prstGeom prst="line">
              <a:avLst/>
            </a:prstGeom>
            <a:ln cap="sq" w="284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2247480" y="4255920"/>
            <a:ext cx="1867320" cy="696960"/>
            <a:chOff x="2247480" y="4255920"/>
            <a:chExt cx="1867320" cy="696960"/>
          </a:xfrm>
        </p:grpSpPr>
        <p:sp>
          <p:nvSpPr>
            <p:cNvPr id="295" name=""/>
            <p:cNvSpPr/>
            <p:nvPr/>
          </p:nvSpPr>
          <p:spPr>
            <a:xfrm>
              <a:off x="3886200" y="4724280"/>
              <a:ext cx="228600" cy="228600"/>
            </a:xfrm>
            <a:prstGeom prst="ellipse">
              <a:avLst/>
            </a:prstGeom>
            <a:solidFill>
              <a:srgbClr val="fc0128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247480" y="4255920"/>
              <a:ext cx="127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c0128"/>
                  </a:solidFill>
                  <a:latin typeface="Arial"/>
                </a:rPr>
                <a:t>Aggreg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352680" y="4540320"/>
              <a:ext cx="547920" cy="222120"/>
            </a:xfrm>
            <a:prstGeom prst="line">
              <a:avLst/>
            </a:prstGeom>
            <a:ln cap="sq" w="284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7D92-F8BA-4C5A-90EE-20E67A2A569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E39016-A636-4B04-BF3A-FC04530F5C86}" type="datetime1">
              <a:rPr lang="en-US"/>
              <a:t>07/29/26</a:t>
            </a:fld>
          </a:p>
        </p:txBody>
      </p:sp>
    </p:spTree>
  </p:cSld>
  <p:transition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 flipH="1" flipV="1">
            <a:off x="4190760" y="5181120"/>
            <a:ext cx="990360" cy="685800"/>
          </a:xfrm>
          <a:prstGeom prst="line">
            <a:avLst/>
          </a:prstGeom>
          <a:ln cap="sq"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2743200" y="5105160"/>
            <a:ext cx="1295280" cy="609480"/>
          </a:xfrm>
          <a:prstGeom prst="line">
            <a:avLst/>
          </a:prstGeom>
          <a:ln cap="sq"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13960" y="290160"/>
            <a:ext cx="7581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: TopGun WingMan/Mediaboard Operat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809880" y="4572000"/>
            <a:ext cx="685800" cy="685800"/>
          </a:xfrm>
          <a:prstGeom prst="ellipse">
            <a:avLst/>
          </a:prstGeom>
          <a:solidFill>
            <a:srgbClr val="618ff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133720" y="5638680"/>
            <a:ext cx="838080" cy="3049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19920" y="1752480"/>
            <a:ext cx="838080" cy="3049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76920" y="5715000"/>
            <a:ext cx="1047600" cy="3240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05320" y="3200400"/>
            <a:ext cx="990360" cy="762120"/>
          </a:xfrm>
          <a:prstGeom prst="rect">
            <a:avLst/>
          </a:prstGeom>
          <a:solidFill>
            <a:srgbClr val="91919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38880" y="4038480"/>
            <a:ext cx="838440" cy="3049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96080" y="1676520"/>
            <a:ext cx="685800" cy="685800"/>
          </a:xfrm>
          <a:prstGeom prst="ellipse">
            <a:avLst/>
          </a:prstGeom>
          <a:solidFill>
            <a:srgbClr val="618ff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05120" y="2209680"/>
            <a:ext cx="914400" cy="6098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gacy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8" idx="0"/>
            <a:endCxn id="316" idx="2"/>
          </p:cNvCxnSpPr>
          <p:nvPr/>
        </p:nvCxnSpPr>
        <p:spPr>
          <a:xfrm flipH="1" flipV="1" rot="5400000">
            <a:off x="2819160" y="4571640"/>
            <a:ext cx="800640" cy="1334160"/>
          </a:xfrm>
          <a:prstGeom prst="curvedConnector2">
            <a:avLst/>
          </a:prstGeom>
          <a:ln cap="sq" w="38160">
            <a:solidFill>
              <a:srgbClr val="00ae00"/>
            </a:solidFill>
            <a:miter/>
          </a:ln>
        </p:spPr>
      </p:cxnSp>
      <p:cxnSp>
        <p:nvCxnSpPr>
          <p:cNvPr id="317" name=""/>
          <p:cNvCxnSpPr>
            <a:stCxn id="310" idx="0"/>
            <a:endCxn id="316" idx="6"/>
          </p:cNvCxnSpPr>
          <p:nvPr/>
        </p:nvCxnSpPr>
        <p:spPr>
          <a:xfrm flipV="1" rot="16200000">
            <a:off x="4319280" y="4633200"/>
            <a:ext cx="876960" cy="1286640"/>
          </a:xfrm>
          <a:prstGeom prst="curvedConnector2">
            <a:avLst/>
          </a:prstGeom>
          <a:ln cap="sq" w="38160">
            <a:solidFill>
              <a:srgbClr val="00ae00"/>
            </a:solidFill>
            <a:miter/>
          </a:ln>
        </p:spPr>
      </p:cxnSp>
      <p:sp>
        <p:nvSpPr>
          <p:cNvPr id="318" name=""/>
          <p:cNvSpPr/>
          <p:nvPr/>
        </p:nvSpPr>
        <p:spPr>
          <a:xfrm flipH="1">
            <a:off x="4495320" y="3657600"/>
            <a:ext cx="762120" cy="15228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47480" y="425592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greg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352680" y="4540320"/>
            <a:ext cx="547920" cy="22212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257800" y="5562720"/>
            <a:ext cx="228600" cy="2286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67080" y="4114800"/>
            <a:ext cx="2971800" cy="0"/>
          </a:xfrm>
          <a:prstGeom prst="line">
            <a:avLst/>
          </a:prstGeom>
          <a:ln cap="sq" w="284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74880" y="4114800"/>
            <a:ext cx="119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c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n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77960" y="3429000"/>
            <a:ext cx="134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diaBo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477120" y="3733920"/>
            <a:ext cx="609480" cy="30456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438280" y="5486400"/>
            <a:ext cx="228600" cy="2286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680480" y="3273480"/>
            <a:ext cx="177948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Conve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-Z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1680" y="1752480"/>
            <a:ext cx="1067040" cy="152640"/>
          </a:xfrm>
          <a:prstGeom prst="line">
            <a:avLst/>
          </a:prstGeom>
          <a:ln w="28440">
            <a:solidFill>
              <a:srgbClr val="00ae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4419360" y="1905120"/>
            <a:ext cx="3352680" cy="1676160"/>
          </a:xfrm>
          <a:prstGeom prst="line">
            <a:avLst/>
          </a:prstGeom>
          <a:ln cap="sq" w="284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666880" y="2514600"/>
            <a:ext cx="1676520" cy="1066680"/>
          </a:xfrm>
          <a:prstGeom prst="line">
            <a:avLst/>
          </a:prstGeom>
          <a:ln cap="sq" w="284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039560" y="251460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A Prox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4419360" y="2895480"/>
            <a:ext cx="152280" cy="533520"/>
          </a:xfrm>
          <a:prstGeom prst="line">
            <a:avLst/>
          </a:prstGeom>
          <a:ln cap="sq" w="28440">
            <a:solidFill>
              <a:srgbClr val="919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3580920" y="3581280"/>
            <a:ext cx="838440" cy="228600"/>
          </a:xfrm>
          <a:prstGeom prst="line">
            <a:avLst/>
          </a:prstGeom>
          <a:ln cap="sq" w="284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580920" y="3581280"/>
            <a:ext cx="838440" cy="0"/>
          </a:xfrm>
          <a:prstGeom prst="line">
            <a:avLst/>
          </a:prstGeom>
          <a:ln cap="sq" w="284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4038480" y="3580920"/>
            <a:ext cx="381240" cy="1219320"/>
          </a:xfrm>
          <a:prstGeom prst="line">
            <a:avLst/>
          </a:prstGeom>
          <a:ln cap="sq"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62520" y="4495680"/>
            <a:ext cx="228600" cy="2286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86200" y="4724280"/>
            <a:ext cx="228600" cy="2286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216320" y="3708360"/>
            <a:ext cx="228600" cy="2286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429000" y="3429000"/>
            <a:ext cx="228600" cy="2286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429000" y="3733920"/>
            <a:ext cx="228600" cy="2286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267080" y="3505320"/>
            <a:ext cx="228600" cy="2286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162920" y="4038480"/>
            <a:ext cx="228600" cy="2286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696080" y="1752480"/>
            <a:ext cx="228600" cy="2286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705720" y="1676520"/>
            <a:ext cx="228600" cy="2286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2A13-2079-45C2-953E-E32591E6186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5E7188-1EA0-4D0E-BC6D-474AC90BA4B2}" type="datetime1">
              <a:rPr lang="en-US"/>
              <a:t>07/29/26</a:t>
            </a:fld>
          </a:p>
        </p:txBody>
      </p:sp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NINJA Service Architectur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ors/Connectors/Interfa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de-Area Path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 Interconn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h Optimiz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ts, Active Proxies, and Ba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 Discove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ic Path Gen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versal remote control/smart spa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versal In-Box/Personal Information 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C093-3E12-4803-A461-679E707242A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31452E-3968-4712-9D87-7512722E193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perators/Connector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7353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4ffb"/>
                </a:solidFill>
                <a:latin typeface="Arial"/>
              </a:rPr>
              <a:t>Operator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greg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 provides secure execution environ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4ffb"/>
                </a:solidFill>
                <a:latin typeface="Arial"/>
              </a:rPr>
              <a:t>Connector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 wi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ying semanti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/multica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86080" y="1781280"/>
            <a:ext cx="520920" cy="520560"/>
          </a:xfrm>
          <a:prstGeom prst="ellipse">
            <a:avLst/>
          </a:prstGeom>
          <a:solidFill>
            <a:srgbClr val="fc012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090960" y="3619440"/>
            <a:ext cx="838080" cy="228600"/>
          </a:xfrm>
          <a:prstGeom prst="rect">
            <a:avLst/>
          </a:prstGeom>
          <a:solidFill>
            <a:srgbClr val="00ae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15000" y="2819520"/>
            <a:ext cx="520560" cy="520560"/>
          </a:xfrm>
          <a:prstGeom prst="ellipse">
            <a:avLst/>
          </a:prstGeom>
          <a:solidFill>
            <a:srgbClr val="fc012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20120" y="2819520"/>
            <a:ext cx="520560" cy="520560"/>
          </a:xfrm>
          <a:prstGeom prst="ellipse">
            <a:avLst/>
          </a:prstGeom>
          <a:solidFill>
            <a:srgbClr val="fc012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086600" y="2819520"/>
            <a:ext cx="520560" cy="520560"/>
          </a:xfrm>
          <a:prstGeom prst="ellipse">
            <a:avLst/>
          </a:prstGeom>
          <a:solidFill>
            <a:srgbClr val="fc012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76920" y="2971800"/>
            <a:ext cx="838080" cy="228600"/>
          </a:xfrm>
          <a:prstGeom prst="rect">
            <a:avLst/>
          </a:prstGeom>
          <a:solidFill>
            <a:srgbClr val="00ae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248520" y="2971800"/>
            <a:ext cx="838080" cy="228600"/>
          </a:xfrm>
          <a:prstGeom prst="rect">
            <a:avLst/>
          </a:prstGeom>
          <a:solidFill>
            <a:srgbClr val="00ae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77320" y="2971800"/>
            <a:ext cx="838080" cy="228600"/>
          </a:xfrm>
          <a:prstGeom prst="rect">
            <a:avLst/>
          </a:prstGeom>
          <a:solidFill>
            <a:srgbClr val="00ae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715000" y="274320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248520" y="274320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086600" y="274320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20120" y="274320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077320" y="274320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rot="16200000">
            <a:off x="7467480" y="2285640"/>
            <a:ext cx="838440" cy="228600"/>
          </a:xfrm>
          <a:prstGeom prst="rect">
            <a:avLst/>
          </a:prstGeom>
          <a:solidFill>
            <a:srgbClr val="00ae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rot="16200000">
            <a:off x="6248160" y="2438280"/>
            <a:ext cx="838080" cy="228600"/>
          </a:xfrm>
          <a:prstGeom prst="rect">
            <a:avLst/>
          </a:prstGeom>
          <a:solidFill>
            <a:srgbClr val="00ae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400800" y="1676520"/>
            <a:ext cx="520560" cy="520560"/>
          </a:xfrm>
          <a:prstGeom prst="ellipse">
            <a:avLst/>
          </a:prstGeom>
          <a:solidFill>
            <a:srgbClr val="fc012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324480" y="2209680"/>
            <a:ext cx="685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543800" y="2819520"/>
            <a:ext cx="685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47960" y="3809880"/>
            <a:ext cx="42670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4ffb"/>
                </a:solidFill>
                <a:latin typeface="Arial"/>
              </a:rPr>
              <a:t>Interfac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ly typ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 independ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chann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h chan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572160" y="3990960"/>
            <a:ext cx="685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BA1F-ED8A-4450-9BD7-3584CE37B1D0}" type="slidenum">
              <a:t>1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4B55C3-2158-415C-85E2-2C81672028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Wide-Area Path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638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 is a first-class ent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icit or automatic cre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change dynamical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 path or op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t of authentication: delegate along the pa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t of resource allo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DD5D-EAC2-433A-BC6C-BF872F86AA2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8C1899-BEFE-4684-8F0F-7673FBF57648}" type="datetime1">
              <a:rPr lang="en-US"/>
              <a:t>07/29/26</a:t>
            </a:fld>
          </a:p>
        </p:txBody>
      </p:sp>
    </p:spTree>
  </p:cSld>
  <p:transition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WAN Paths: Economics</a:t>
            </a: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Idea: securely delegate authority to any path compon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your e-mail remote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horized services (subscription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henticated sensor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gicash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y-per-use serv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be one-time (or subscrip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39A8-068C-4F13-85A3-CF0A43C2DC1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775C1A-3DFA-4BBA-923B-A65BA8FA960E}" type="datetime1">
              <a:rPr lang="en-US"/>
              <a:t>07/29/26</a:t>
            </a:fld>
          </a:p>
        </p:txBody>
      </p:sp>
    </p:spTree>
  </p:cSld>
  <p:transition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WAN Paths: Optimization</a:t>
            </a: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05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 operators into the path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ward error-correction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for error-prone wireless lin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ression/decompression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bandwidth constrained lin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ransmission window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tings for wireless or satelli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route path dynamical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7969-2AA9-489E-8CAF-D1BCA0BD331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90F3F4-43A8-4BC8-BB92-29363178AF3E}" type="datetime1">
              <a:rPr lang="en-US"/>
              <a:t>07/29/26</a:t>
            </a:fld>
          </a:p>
        </p:txBody>
      </p:sp>
    </p:spTree>
  </p:cSld>
  <p:transition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onnecting Interfac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: trivial to conn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be automa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ors are polymorph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res carry a generic ADU of type 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ic marshall/unmarsha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 must be created at instanti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ables automated connection and u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C5C5-2097-461D-9CEB-6B9B5D38CEA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F66928-8C53-410D-97D5-B5D6BE63A99C}" type="datetime1">
              <a:rPr lang="en-US"/>
              <a:t>07/29/26</a:t>
            </a:fld>
          </a:p>
        </p:txBody>
      </p:sp>
    </p:spTree>
  </p:cSld>
  <p:transition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nteroperabilit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apper operators for legacy serv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tBot, Zip2, Patent 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ic wrappers for each MIME ty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ors use TCP, UDP, multica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rage COM objects as opera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 Excel remote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ts of third party compon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DBC/JDBC databa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939F-593A-4642-81AC-3F28C68B7BB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A41EDC-5638-43DB-9DF7-CD0A76841876}" type="datetime1">
              <a:rPr lang="en-US"/>
              <a:t>07/29/26</a:t>
            </a:fld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498680" y="3178080"/>
            <a:ext cx="428400" cy="26532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70080" y="2971800"/>
            <a:ext cx="457200" cy="32220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76560" y="2851200"/>
            <a:ext cx="457200" cy="23652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1755360" y="1781280"/>
            <a:ext cx="12600" cy="1355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440080" y="1876320"/>
            <a:ext cx="914400" cy="1067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030560" y="2049120"/>
            <a:ext cx="534960" cy="2359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Future Internet-Scale System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56200" y="1387440"/>
            <a:ext cx="2525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268560" indent="-268560">
              <a:lnSpc>
                <a:spcPct val="90000"/>
              </a:lnSpc>
              <a:spcBef>
                <a:spcPts val="6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 Devic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~10 Bill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90000"/>
              </a:lnSpc>
              <a:spcBef>
                <a:spcPts val="6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ed Stationary Computers (~100 Mill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90000"/>
              </a:lnSpc>
              <a:spcBef>
                <a:spcPts val="6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lable Servers (~Mill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32000" y="2013120"/>
            <a:ext cx="287280" cy="231480"/>
          </a:xfrm>
          <a:prstGeom prst="parallelogram">
            <a:avLst>
              <a:gd name="adj" fmla="val 31026"/>
            </a:avLst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84280" y="2165400"/>
            <a:ext cx="287640" cy="231840"/>
          </a:xfrm>
          <a:prstGeom prst="parallelogram">
            <a:avLst>
              <a:gd name="adj" fmla="val 31017"/>
            </a:avLst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59120" y="1689120"/>
            <a:ext cx="287280" cy="231840"/>
          </a:xfrm>
          <a:prstGeom prst="parallelogram">
            <a:avLst>
              <a:gd name="adj" fmla="val 30978"/>
            </a:avLst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11400" y="2000160"/>
            <a:ext cx="287280" cy="231840"/>
          </a:xfrm>
          <a:prstGeom prst="parallelogram">
            <a:avLst>
              <a:gd name="adj" fmla="val 30978"/>
            </a:avLst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41800" y="1481040"/>
            <a:ext cx="287280" cy="231840"/>
          </a:xfrm>
          <a:prstGeom prst="parallelogram">
            <a:avLst>
              <a:gd name="adj" fmla="val 30978"/>
            </a:avLst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94080" y="1792440"/>
            <a:ext cx="287280" cy="231480"/>
          </a:xfrm>
          <a:prstGeom prst="parallelogram">
            <a:avLst>
              <a:gd name="adj" fmla="val 31026"/>
            </a:avLst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78160" y="1641600"/>
            <a:ext cx="287280" cy="231480"/>
          </a:xfrm>
          <a:prstGeom prst="parallelogram">
            <a:avLst>
              <a:gd name="adj" fmla="val 31026"/>
            </a:avLst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8480" y="1917720"/>
            <a:ext cx="287280" cy="231840"/>
          </a:xfrm>
          <a:prstGeom prst="parallelogram">
            <a:avLst>
              <a:gd name="adj" fmla="val 30978"/>
            </a:avLst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20760" y="2070000"/>
            <a:ext cx="287280" cy="231840"/>
          </a:xfrm>
          <a:prstGeom prst="parallelogram">
            <a:avLst>
              <a:gd name="adj" fmla="val 30978"/>
            </a:avLst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95600" y="1593720"/>
            <a:ext cx="287280" cy="231840"/>
          </a:xfrm>
          <a:prstGeom prst="parallelogram">
            <a:avLst>
              <a:gd name="adj" fmla="val 30978"/>
            </a:avLst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47880" y="1905120"/>
            <a:ext cx="287280" cy="231480"/>
          </a:xfrm>
          <a:prstGeom prst="parallelogram">
            <a:avLst>
              <a:gd name="adj" fmla="val 31026"/>
            </a:avLst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18080" y="1882800"/>
            <a:ext cx="287280" cy="231840"/>
          </a:xfrm>
          <a:prstGeom prst="parallelogram">
            <a:avLst>
              <a:gd name="adj" fmla="val 30978"/>
            </a:avLst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70360" y="2035080"/>
            <a:ext cx="287280" cy="231840"/>
          </a:xfrm>
          <a:prstGeom prst="parallelogram">
            <a:avLst>
              <a:gd name="adj" fmla="val 30978"/>
            </a:avLst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4840" y="1558800"/>
            <a:ext cx="287640" cy="231840"/>
          </a:xfrm>
          <a:prstGeom prst="parallelogram">
            <a:avLst>
              <a:gd name="adj" fmla="val 31017"/>
            </a:avLst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97480" y="1870200"/>
            <a:ext cx="287280" cy="231480"/>
          </a:xfrm>
          <a:prstGeom prst="parallelogram">
            <a:avLst>
              <a:gd name="adj" fmla="val 31026"/>
            </a:avLst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15000" y="1682640"/>
            <a:ext cx="287280" cy="231840"/>
          </a:xfrm>
          <a:prstGeom prst="parallelogram">
            <a:avLst>
              <a:gd name="adj" fmla="val 30978"/>
            </a:avLst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67280" y="1994040"/>
            <a:ext cx="287280" cy="231480"/>
          </a:xfrm>
          <a:prstGeom prst="parallelogram">
            <a:avLst>
              <a:gd name="adj" fmla="val 31026"/>
            </a:avLst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92720" y="1712880"/>
            <a:ext cx="287280" cy="231840"/>
          </a:xfrm>
          <a:prstGeom prst="parallelogram">
            <a:avLst>
              <a:gd name="adj" fmla="val 30978"/>
            </a:avLst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14840" y="3228840"/>
            <a:ext cx="457200" cy="3812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24560" y="2973240"/>
            <a:ext cx="457200" cy="1778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4800" y="4143240"/>
            <a:ext cx="5311800" cy="1818000"/>
          </a:xfrm>
          <a:prstGeom prst="cloudCallout">
            <a:avLst>
              <a:gd name="adj1" fmla="val -36134"/>
              <a:gd name="adj2" fmla="val 6650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44760" y="4662360"/>
            <a:ext cx="34596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25760" y="4741920"/>
            <a:ext cx="34596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97040" y="4815000"/>
            <a:ext cx="34596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78040" y="4894200"/>
            <a:ext cx="34596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55800" y="4959360"/>
            <a:ext cx="34596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36800" y="5038560"/>
            <a:ext cx="34596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08080" y="5111640"/>
            <a:ext cx="34632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89080" y="5191200"/>
            <a:ext cx="34632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46520" y="4410000"/>
            <a:ext cx="34596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27520" y="4489560"/>
            <a:ext cx="34596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98800" y="4562640"/>
            <a:ext cx="346320" cy="30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79800" y="4641840"/>
            <a:ext cx="34596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57560" y="4707000"/>
            <a:ext cx="34632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54160" y="4699080"/>
            <a:ext cx="34632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25800" y="4772160"/>
            <a:ext cx="345960" cy="30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06800" y="4851360"/>
            <a:ext cx="34596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1601280" y="3463560"/>
            <a:ext cx="158760" cy="1227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933560" y="3088800"/>
            <a:ext cx="504720" cy="1760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2525400" y="3103560"/>
            <a:ext cx="1312920" cy="1355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940200" y="3146040"/>
            <a:ext cx="1023840" cy="1298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98EA-3392-4837-906D-C25D96059CF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7A6FF7-8E97-454A-B249-7B80D1AE28B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ervic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ly available program with fixed interface at a fixed lo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ongly Typed Interfa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e services of a given type compe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ete on location, price, robustness, “quality”, brand na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rvice Discove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 “best” service of given ty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39D3-33C1-4AFB-9D83-DB3E1773D31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4445CB-A69D-4489-A111-C26F58B43AC8}" type="datetime1">
              <a:rPr lang="en-US"/>
              <a:t>07/29/26</a:t>
            </a:fld>
          </a:p>
        </p:txBody>
      </p:sp>
    </p:spTree>
  </p:cSld>
  <p:transition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utomatic Path Creat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ry goal is path cre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logical path of opera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h must type che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ce operators on nod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operators have affin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ce them fir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connectors as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any authentication ke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A276-343B-4418-942F-5F7DD77F6AD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D38158-24D5-453D-9781-0EE5867EC2BC}" type="datetime1">
              <a:rPr lang="en-US"/>
              <a:t>07/29/26</a:t>
            </a:fld>
          </a:p>
        </p:txBody>
      </p:sp>
    </p:spTree>
  </p:cSld>
  <p:transition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ervice Discovery and Us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 basic step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a local Active Prox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ry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rvice-discovery serv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matic path creation, including transform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te UI from interface specif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80680" y="457200"/>
            <a:ext cx="801684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Wide-Area Paths (summary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81835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on (explicit or automatic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y </a:t>
            </a:r>
            <a:r>
              <a:rPr b="0" lang="en-US" sz="1800" spc="-1" strike="noStrike">
                <a:solidFill>
                  <a:srgbClr val="114ffb"/>
                </a:solidFill>
                <a:latin typeface="Arial"/>
              </a:rPr>
              <a:t>Service Discovery Serv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o find logical path of op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operators onto nod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h is unit of resource allocation and authenticat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ors are polymorphic: entire path must type check - statical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(or transpose) op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ward error-corr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ession/decompres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operators, connectors, locations, or parame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operabilit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operators for legacy serv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rage COM objects as op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F60E-2B57-4CED-8529-72255612B07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6B5D3C-D9C7-4AF2-878C-CB528182C65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344760" y="2195640"/>
            <a:ext cx="217440" cy="392040"/>
          </a:xfrm>
          <a:custGeom>
            <a:avLst/>
            <a:gdLst/>
            <a:ahLst/>
            <a:rect l="l" t="t" r="r" b="b"/>
            <a:pathLst>
              <a:path w="191" h="390">
                <a:moveTo>
                  <a:pt x="129" y="0"/>
                </a:moveTo>
                <a:cubicBezTo>
                  <a:pt x="64" y="53"/>
                  <a:pt x="0" y="107"/>
                  <a:pt x="9" y="150"/>
                </a:cubicBezTo>
                <a:cubicBezTo>
                  <a:pt x="18" y="193"/>
                  <a:pt x="175" y="218"/>
                  <a:pt x="183" y="258"/>
                </a:cubicBezTo>
                <a:cubicBezTo>
                  <a:pt x="191" y="298"/>
                  <a:pt x="124" y="344"/>
                  <a:pt x="57" y="39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659040" y="2257560"/>
            <a:ext cx="217800" cy="392040"/>
          </a:xfrm>
          <a:custGeom>
            <a:avLst/>
            <a:gdLst/>
            <a:ahLst/>
            <a:rect l="l" t="t" r="r" b="b"/>
            <a:pathLst>
              <a:path w="191" h="390">
                <a:moveTo>
                  <a:pt x="129" y="0"/>
                </a:moveTo>
                <a:cubicBezTo>
                  <a:pt x="64" y="53"/>
                  <a:pt x="0" y="107"/>
                  <a:pt x="9" y="150"/>
                </a:cubicBezTo>
                <a:cubicBezTo>
                  <a:pt x="18" y="193"/>
                  <a:pt x="175" y="218"/>
                  <a:pt x="183" y="258"/>
                </a:cubicBezTo>
                <a:cubicBezTo>
                  <a:pt x="191" y="298"/>
                  <a:pt x="124" y="344"/>
                  <a:pt x="57" y="39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925800" y="2181240"/>
            <a:ext cx="217440" cy="392040"/>
          </a:xfrm>
          <a:custGeom>
            <a:avLst/>
            <a:gdLst/>
            <a:ahLst/>
            <a:rect l="l" t="t" r="r" b="b"/>
            <a:pathLst>
              <a:path w="191" h="390">
                <a:moveTo>
                  <a:pt x="129" y="0"/>
                </a:moveTo>
                <a:cubicBezTo>
                  <a:pt x="64" y="53"/>
                  <a:pt x="0" y="107"/>
                  <a:pt x="9" y="150"/>
                </a:cubicBezTo>
                <a:cubicBezTo>
                  <a:pt x="18" y="193"/>
                  <a:pt x="175" y="218"/>
                  <a:pt x="183" y="258"/>
                </a:cubicBezTo>
                <a:cubicBezTo>
                  <a:pt x="191" y="298"/>
                  <a:pt x="124" y="344"/>
                  <a:pt x="57" y="39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240080" y="2243160"/>
            <a:ext cx="217800" cy="393840"/>
          </a:xfrm>
          <a:custGeom>
            <a:avLst/>
            <a:gdLst/>
            <a:ahLst/>
            <a:rect l="l" t="t" r="r" b="b"/>
            <a:pathLst>
              <a:path w="191" h="390">
                <a:moveTo>
                  <a:pt x="129" y="0"/>
                </a:moveTo>
                <a:cubicBezTo>
                  <a:pt x="64" y="53"/>
                  <a:pt x="0" y="107"/>
                  <a:pt x="9" y="150"/>
                </a:cubicBezTo>
                <a:cubicBezTo>
                  <a:pt x="18" y="193"/>
                  <a:pt x="175" y="218"/>
                  <a:pt x="183" y="258"/>
                </a:cubicBezTo>
                <a:cubicBezTo>
                  <a:pt x="191" y="298"/>
                  <a:pt x="124" y="344"/>
                  <a:pt x="57" y="39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535640" y="2201760"/>
            <a:ext cx="217440" cy="392040"/>
          </a:xfrm>
          <a:custGeom>
            <a:avLst/>
            <a:gdLst/>
            <a:ahLst/>
            <a:rect l="l" t="t" r="r" b="b"/>
            <a:pathLst>
              <a:path w="191" h="390">
                <a:moveTo>
                  <a:pt x="129" y="0"/>
                </a:moveTo>
                <a:cubicBezTo>
                  <a:pt x="64" y="53"/>
                  <a:pt x="0" y="107"/>
                  <a:pt x="9" y="150"/>
                </a:cubicBezTo>
                <a:cubicBezTo>
                  <a:pt x="18" y="193"/>
                  <a:pt x="175" y="218"/>
                  <a:pt x="183" y="258"/>
                </a:cubicBezTo>
                <a:cubicBezTo>
                  <a:pt x="191" y="298"/>
                  <a:pt x="124" y="344"/>
                  <a:pt x="57" y="39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849920" y="2265480"/>
            <a:ext cx="217440" cy="392040"/>
          </a:xfrm>
          <a:custGeom>
            <a:avLst/>
            <a:gdLst/>
            <a:ahLst/>
            <a:rect l="l" t="t" r="r" b="b"/>
            <a:pathLst>
              <a:path w="191" h="390">
                <a:moveTo>
                  <a:pt x="129" y="0"/>
                </a:moveTo>
                <a:cubicBezTo>
                  <a:pt x="64" y="53"/>
                  <a:pt x="0" y="107"/>
                  <a:pt x="9" y="150"/>
                </a:cubicBezTo>
                <a:cubicBezTo>
                  <a:pt x="18" y="193"/>
                  <a:pt x="175" y="218"/>
                  <a:pt x="183" y="258"/>
                </a:cubicBezTo>
                <a:cubicBezTo>
                  <a:pt x="191" y="298"/>
                  <a:pt x="124" y="344"/>
                  <a:pt x="57" y="39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16240" y="2146320"/>
            <a:ext cx="1990800" cy="531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083120" y="19782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2568240" y="196380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092480" y="1963800"/>
            <a:ext cx="0" cy="16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488680" y="1646280"/>
            <a:ext cx="15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ice 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02800" y="2049480"/>
            <a:ext cx="14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ice threa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150080" y="3466800"/>
            <a:ext cx="551520" cy="495720"/>
            <a:chOff x="4150080" y="3466800"/>
            <a:chExt cx="551520" cy="495720"/>
          </a:xfrm>
        </p:grpSpPr>
        <p:sp>
          <p:nvSpPr>
            <p:cNvPr id="399" name=""/>
            <p:cNvSpPr/>
            <p:nvPr/>
          </p:nvSpPr>
          <p:spPr>
            <a:xfrm rot="5008800">
              <a:off x="4205160" y="3462120"/>
              <a:ext cx="441360" cy="504720"/>
            </a:xfrm>
            <a:prstGeom prst="flowChartPunchedTap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4279320" y="3546000"/>
              <a:ext cx="218160" cy="2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4273560" y="3623040"/>
              <a:ext cx="217800" cy="2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4308120" y="3714120"/>
              <a:ext cx="218160" cy="2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4325400" y="3798360"/>
              <a:ext cx="217800" cy="2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4336920" y="3868200"/>
              <a:ext cx="217800" cy="2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4816440" y="3495240"/>
            <a:ext cx="551880" cy="495720"/>
            <a:chOff x="4816440" y="3495240"/>
            <a:chExt cx="551880" cy="495720"/>
          </a:xfrm>
        </p:grpSpPr>
        <p:sp>
          <p:nvSpPr>
            <p:cNvPr id="406" name=""/>
            <p:cNvSpPr/>
            <p:nvPr/>
          </p:nvSpPr>
          <p:spPr>
            <a:xfrm rot="5008800">
              <a:off x="4871520" y="3490560"/>
              <a:ext cx="441360" cy="505080"/>
            </a:xfrm>
            <a:prstGeom prst="flowChartPunchedTap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4946040" y="3574440"/>
              <a:ext cx="218160" cy="2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4940640" y="3651480"/>
              <a:ext cx="217800" cy="2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4974840" y="3742560"/>
              <a:ext cx="218160" cy="2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4992120" y="3826800"/>
              <a:ext cx="217800" cy="2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5003640" y="3896640"/>
              <a:ext cx="217800" cy="2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445000" y="3474720"/>
            <a:ext cx="551880" cy="495720"/>
            <a:chOff x="5445000" y="3474720"/>
            <a:chExt cx="551880" cy="495720"/>
          </a:xfrm>
        </p:grpSpPr>
        <p:sp>
          <p:nvSpPr>
            <p:cNvPr id="413" name=""/>
            <p:cNvSpPr/>
            <p:nvPr/>
          </p:nvSpPr>
          <p:spPr>
            <a:xfrm rot="5008800">
              <a:off x="5500080" y="3470040"/>
              <a:ext cx="441360" cy="505080"/>
            </a:xfrm>
            <a:prstGeom prst="flowChartPunchedTap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5574600" y="3553920"/>
              <a:ext cx="218160" cy="2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5569200" y="3630960"/>
              <a:ext cx="217800" cy="2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5603400" y="3722040"/>
              <a:ext cx="218160" cy="2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5620680" y="3806280"/>
              <a:ext cx="217800" cy="2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5632200" y="3876120"/>
              <a:ext cx="217800" cy="2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4419360" y="4010040"/>
            <a:ext cx="103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378240" y="3540240"/>
            <a:ext cx="371520" cy="468360"/>
          </a:xfrm>
          <a:prstGeom prst="flowChartMagneticDisk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863800" y="3546360"/>
            <a:ext cx="371520" cy="470160"/>
          </a:xfrm>
          <a:prstGeom prst="flowChartMagneticDisk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829240" y="4079880"/>
            <a:ext cx="81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816200" y="2481120"/>
            <a:ext cx="485640" cy="155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816200" y="2671920"/>
            <a:ext cx="485640" cy="153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816200" y="2881440"/>
            <a:ext cx="485640" cy="153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816200" y="3084480"/>
            <a:ext cx="485640" cy="154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816200" y="3273480"/>
            <a:ext cx="485640" cy="154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816200" y="3470400"/>
            <a:ext cx="485640" cy="153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83120" y="2671920"/>
            <a:ext cx="1219320" cy="674640"/>
          </a:xfrm>
          <a:prstGeom prst="flowChartMagneticDisk">
            <a:avLst/>
          </a:prstGeom>
          <a:solidFill>
            <a:srgbClr val="ffffff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ist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654280" y="2790720"/>
            <a:ext cx="3086280" cy="601920"/>
          </a:xfrm>
          <a:prstGeom prst="roundRect">
            <a:avLst>
              <a:gd name="adj" fmla="val 16667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aged RMI+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695240" y="3660840"/>
            <a:ext cx="104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721400" y="2552760"/>
            <a:ext cx="352080" cy="952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3111480" y="2425680"/>
            <a:ext cx="1542960" cy="1085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Space Execution Environmen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47280" y="4503240"/>
            <a:ext cx="8312040" cy="17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application framework on Ba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I++ hides complexity of scalability and avail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customization and compos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Space is limited execution environment for 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768760" y="2884320"/>
            <a:ext cx="561960" cy="409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825640" y="2960640"/>
            <a:ext cx="16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044880" y="2960640"/>
            <a:ext cx="16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816280" y="3046320"/>
            <a:ext cx="16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035160" y="3046320"/>
            <a:ext cx="16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816280" y="3132000"/>
            <a:ext cx="16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035160" y="3132000"/>
            <a:ext cx="16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25640" y="3208320"/>
            <a:ext cx="16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4880" y="3208320"/>
            <a:ext cx="16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241880" y="3270240"/>
            <a:ext cx="708120" cy="250920"/>
          </a:xfrm>
          <a:custGeom>
            <a:avLst/>
            <a:gdLst/>
            <a:ahLst/>
            <a:rect l="l" t="t" r="r" b="b"/>
            <a:pathLst>
              <a:path w="446" h="158">
                <a:moveTo>
                  <a:pt x="446" y="131"/>
                </a:moveTo>
                <a:cubicBezTo>
                  <a:pt x="342" y="65"/>
                  <a:pt x="238" y="0"/>
                  <a:pt x="164" y="4"/>
                </a:cubicBezTo>
                <a:cubicBezTo>
                  <a:pt x="90" y="8"/>
                  <a:pt x="27" y="132"/>
                  <a:pt x="0" y="15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633920" y="1552680"/>
            <a:ext cx="655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633920" y="1579680"/>
            <a:ext cx="1440" cy="560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5351400" y="1320480"/>
            <a:ext cx="551880" cy="495720"/>
            <a:chOff x="5351400" y="1320480"/>
            <a:chExt cx="551880" cy="495720"/>
          </a:xfrm>
        </p:grpSpPr>
        <p:sp>
          <p:nvSpPr>
            <p:cNvPr id="449" name=""/>
            <p:cNvSpPr/>
            <p:nvPr/>
          </p:nvSpPr>
          <p:spPr>
            <a:xfrm rot="5008800">
              <a:off x="5406480" y="1315800"/>
              <a:ext cx="441360" cy="505080"/>
            </a:xfrm>
            <a:prstGeom prst="flowChartPunchedTap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481000" y="1399680"/>
              <a:ext cx="218160" cy="2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5475600" y="1476720"/>
              <a:ext cx="217800" cy="2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5509800" y="1567800"/>
              <a:ext cx="218160" cy="2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5527080" y="1652040"/>
              <a:ext cx="217800" cy="2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5538600" y="1721880"/>
              <a:ext cx="217800" cy="2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56200" y="1320840"/>
            <a:ext cx="90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C7EF-5E46-4A28-9E92-63A0802CEA4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4C9DDD-4607-454B-BFBC-2E78DF3B8B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Base Execution Environmen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nja RM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n RMI compatible serialization and thread 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nja remote obj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TCP or UDP or Multicast UDP  (Active Msg so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Authenticated public ke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-bo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stomizable service V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ire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iSp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EC46-7126-4D38-97DE-5EDB41F452F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1F4C5B-6A76-4C53-8825-47CBCA56D2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S-box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876920" y="2209680"/>
            <a:ext cx="3581280" cy="2895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332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4527720"/>
            <a:ext cx="3214440" cy="47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JV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6200000">
            <a:off x="4366080" y="3129480"/>
            <a:ext cx="2092320" cy="677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-Lo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rot="16200000">
            <a:off x="4935600" y="3278160"/>
            <a:ext cx="20923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usted-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248520" y="4038480"/>
            <a:ext cx="2057400" cy="47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urity MG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343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ader Extends JVM to support ser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adService (URL, name, arg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stServ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Service(name) -&gt; svc obj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llServ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usted services loaded at start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ity MGR interposes on method cal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aded as a trusted serv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8D35-7EEB-4EA3-A1E4-610EFE583AA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96AC86-7A28-451C-BA71-7767D9F082A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ush Services into the Infrastructur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61760" y="51055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Service returns service o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ming Model for Service Method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95280" y="1447920"/>
            <a:ext cx="3581640" cy="289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332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523880" y="3765600"/>
            <a:ext cx="3214800" cy="47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JV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rot="16200000">
            <a:off x="784800" y="2367720"/>
            <a:ext cx="2092320" cy="677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-Lo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rot="16200000">
            <a:off x="1353960" y="2516040"/>
            <a:ext cx="209232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usted-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666880" y="3276720"/>
            <a:ext cx="2057400" cy="47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urity MG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666880" y="1676520"/>
            <a:ext cx="91440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29200" y="1828800"/>
            <a:ext cx="3733920" cy="2971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29000" y="2133720"/>
            <a:ext cx="25146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06960" y="2286000"/>
            <a:ext cx="165240" cy="609480"/>
          </a:xfrm>
          <a:custGeom>
            <a:avLst/>
            <a:gdLst/>
            <a:ahLst/>
            <a:rect l="l" t="t" r="r" b="b"/>
            <a:pathLst>
              <a:path w="104" h="384">
                <a:moveTo>
                  <a:pt x="56" y="0"/>
                </a:moveTo>
                <a:cubicBezTo>
                  <a:pt x="28" y="12"/>
                  <a:pt x="0" y="24"/>
                  <a:pt x="8" y="48"/>
                </a:cubicBezTo>
                <a:cubicBezTo>
                  <a:pt x="16" y="72"/>
                  <a:pt x="104" y="120"/>
                  <a:pt x="104" y="144"/>
                </a:cubicBezTo>
                <a:cubicBezTo>
                  <a:pt x="104" y="168"/>
                  <a:pt x="8" y="168"/>
                  <a:pt x="8" y="192"/>
                </a:cubicBezTo>
                <a:cubicBezTo>
                  <a:pt x="8" y="216"/>
                  <a:pt x="104" y="256"/>
                  <a:pt x="104" y="288"/>
                </a:cubicBezTo>
                <a:cubicBezTo>
                  <a:pt x="104" y="320"/>
                  <a:pt x="56" y="352"/>
                  <a:pt x="8" y="38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562720" y="3200400"/>
            <a:ext cx="76176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u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179320" y="4418280"/>
            <a:ext cx="169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ted by R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i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1752480"/>
            <a:ext cx="990720" cy="342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172200" y="1676520"/>
            <a:ext cx="1066680" cy="350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62920" y="3809880"/>
            <a:ext cx="164880" cy="609840"/>
          </a:xfrm>
          <a:custGeom>
            <a:avLst/>
            <a:gdLst/>
            <a:ahLst/>
            <a:rect l="l" t="t" r="r" b="b"/>
            <a:pathLst>
              <a:path w="104" h="384">
                <a:moveTo>
                  <a:pt x="56" y="0"/>
                </a:moveTo>
                <a:cubicBezTo>
                  <a:pt x="28" y="12"/>
                  <a:pt x="0" y="24"/>
                  <a:pt x="8" y="48"/>
                </a:cubicBezTo>
                <a:cubicBezTo>
                  <a:pt x="16" y="72"/>
                  <a:pt x="104" y="120"/>
                  <a:pt x="104" y="144"/>
                </a:cubicBezTo>
                <a:cubicBezTo>
                  <a:pt x="104" y="168"/>
                  <a:pt x="8" y="168"/>
                  <a:pt x="8" y="192"/>
                </a:cubicBezTo>
                <a:cubicBezTo>
                  <a:pt x="8" y="216"/>
                  <a:pt x="104" y="256"/>
                  <a:pt x="104" y="288"/>
                </a:cubicBezTo>
                <a:cubicBezTo>
                  <a:pt x="104" y="320"/>
                  <a:pt x="56" y="352"/>
                  <a:pt x="8" y="38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391520" y="3733920"/>
            <a:ext cx="164880" cy="609480"/>
          </a:xfrm>
          <a:custGeom>
            <a:avLst/>
            <a:gdLst/>
            <a:ahLst/>
            <a:rect l="l" t="t" r="r" b="b"/>
            <a:pathLst>
              <a:path w="104" h="384">
                <a:moveTo>
                  <a:pt x="56" y="0"/>
                </a:moveTo>
                <a:cubicBezTo>
                  <a:pt x="28" y="12"/>
                  <a:pt x="0" y="24"/>
                  <a:pt x="8" y="48"/>
                </a:cubicBezTo>
                <a:cubicBezTo>
                  <a:pt x="16" y="72"/>
                  <a:pt x="104" y="120"/>
                  <a:pt x="104" y="144"/>
                </a:cubicBezTo>
                <a:cubicBezTo>
                  <a:pt x="104" y="168"/>
                  <a:pt x="8" y="168"/>
                  <a:pt x="8" y="192"/>
                </a:cubicBezTo>
                <a:cubicBezTo>
                  <a:pt x="8" y="216"/>
                  <a:pt x="104" y="256"/>
                  <a:pt x="104" y="288"/>
                </a:cubicBezTo>
                <a:cubicBezTo>
                  <a:pt x="104" y="320"/>
                  <a:pt x="56" y="352"/>
                  <a:pt x="8" y="38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086600" y="213372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238880" y="22860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391520" y="24382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467840" y="2894400"/>
            <a:ext cx="91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2F81-7184-4CA4-A8C3-A7471D60343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F853CF-40A0-4547-BB8F-AEAB7E9CA13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calable iSpac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440" y="3504960"/>
            <a:ext cx="38862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-Space services across group of iS-box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st, Get, or Load Service from an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 returns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edirector stu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609480" y="1523880"/>
            <a:ext cx="6172200" cy="1523880"/>
            <a:chOff x="609480" y="1523880"/>
            <a:chExt cx="6172200" cy="1523880"/>
          </a:xfrm>
        </p:grpSpPr>
        <p:sp>
          <p:nvSpPr>
            <p:cNvPr id="489" name=""/>
            <p:cNvSpPr/>
            <p:nvPr/>
          </p:nvSpPr>
          <p:spPr>
            <a:xfrm>
              <a:off x="609480" y="2438280"/>
              <a:ext cx="6172200" cy="609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ystem Area 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80560" y="2057040"/>
              <a:ext cx="813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80560" y="1828440"/>
              <a:ext cx="813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iS-bo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219680" y="228564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305080" y="2057040"/>
              <a:ext cx="813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305080" y="1828440"/>
              <a:ext cx="813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iS-bo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644200" y="228564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933000" y="2057040"/>
              <a:ext cx="813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933000" y="1828440"/>
              <a:ext cx="813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iS-bo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271760" y="228564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357160" y="2057040"/>
              <a:ext cx="813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357160" y="1828440"/>
              <a:ext cx="813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iS-bo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696280" y="228564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80560" y="1523880"/>
              <a:ext cx="529020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ulti-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4876920" y="3429000"/>
            <a:ext cx="3581280" cy="289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332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105520" y="5746680"/>
            <a:ext cx="3214440" cy="47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JV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rot="16200000">
            <a:off x="4366080" y="4348800"/>
            <a:ext cx="2092320" cy="677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iS-Lo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rot="16200000">
            <a:off x="4935600" y="4497480"/>
            <a:ext cx="20923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-Space Lo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629400" y="5257800"/>
            <a:ext cx="1676520" cy="47628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Security MG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rot="16200000">
            <a:off x="5316480" y="4513320"/>
            <a:ext cx="20923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-Space SV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0108-043F-49A4-88B8-4D68F19BFF5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E5D981-7E41-4EE8-8C6B-50453205A1C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director Stub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6576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s almost same RMI dynamic code gen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es RMI stub that manages load balancing and fail-over across iS-boxes in iSp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s full spectrum of smart-client, front-end, flat clus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029200" y="1828800"/>
            <a:ext cx="3733920" cy="2971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006960" y="2286000"/>
            <a:ext cx="165240" cy="609480"/>
          </a:xfrm>
          <a:custGeom>
            <a:avLst/>
            <a:gdLst/>
            <a:ahLst/>
            <a:rect l="l" t="t" r="r" b="b"/>
            <a:pathLst>
              <a:path w="104" h="384">
                <a:moveTo>
                  <a:pt x="56" y="0"/>
                </a:moveTo>
                <a:cubicBezTo>
                  <a:pt x="28" y="12"/>
                  <a:pt x="0" y="24"/>
                  <a:pt x="8" y="48"/>
                </a:cubicBezTo>
                <a:cubicBezTo>
                  <a:pt x="16" y="72"/>
                  <a:pt x="104" y="120"/>
                  <a:pt x="104" y="144"/>
                </a:cubicBezTo>
                <a:cubicBezTo>
                  <a:pt x="104" y="168"/>
                  <a:pt x="8" y="168"/>
                  <a:pt x="8" y="192"/>
                </a:cubicBezTo>
                <a:cubicBezTo>
                  <a:pt x="8" y="216"/>
                  <a:pt x="104" y="256"/>
                  <a:pt x="104" y="288"/>
                </a:cubicBezTo>
                <a:cubicBezTo>
                  <a:pt x="104" y="320"/>
                  <a:pt x="56" y="352"/>
                  <a:pt x="8" y="38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562720" y="3200400"/>
            <a:ext cx="76176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u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179320" y="4875480"/>
            <a:ext cx="169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ted by R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i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5880" y="1752480"/>
            <a:ext cx="990720" cy="342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172200" y="1676520"/>
            <a:ext cx="1066680" cy="350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397560" y="2056320"/>
            <a:ext cx="150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ad Balance 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il-over Poli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848720" y="2895480"/>
            <a:ext cx="4572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848720" y="3200400"/>
            <a:ext cx="4572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848720" y="3505320"/>
            <a:ext cx="4572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315200" y="2971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315200" y="3276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315200" y="35812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208160" y="563760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Distributed Objects - not just rem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9FC3-9F28-4463-B235-3EDBAF211C1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7E0803-E8C1-4F5E-B3CB-26EA8F376B8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nternet-Scale System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66720" y="1504800"/>
            <a:ext cx="7886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remely large, complex, distributed, heterogeneous, with continuous and rapid introduction of new technolog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sible architec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entralized, scalable algorith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ynamically deployed agents where they are needed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Big infrastructure, small client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mental processing/communications grow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eful violation of traditional laye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 approach based on incremental prototyping, deployment, evaluation, experi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0B58-09AA-41C4-91D2-84DAB2C65AF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8A5A10-140E-4D6F-B365-1678A6D08D27}" type="datetime1">
              <a:rPr lang="en-US"/>
              <a:t>07/29/26</a:t>
            </a:fld>
          </a:p>
        </p:txBody>
      </p:sp>
    </p:spTree>
  </p:cSld>
  <p:transition>
    <p:pull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rototype Servic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pace Admin moni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matic forms 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al econ sup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ke bo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nja fa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lot pa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gicash mi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00 RMI/s on 400 PII w/ j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AD20-52C3-4965-8D08-2E3029FC679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9CD8EB-E15E-44E1-90FC-69E72BD3A0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urrent Hot Debat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istent st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ce Programming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ful cla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e Proxy Exec. Cont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ks like iS-bo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ering of SDS and iSp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 Creation method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ADF4-68F3-4C52-999F-BD90B4B9966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377A25-83CC-49D5-8774-59A90032CD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69440" y="457200"/>
            <a:ext cx="80917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ampus-wide Testbed (Millennium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2266200" y="1747800"/>
            <a:ext cx="4786560" cy="1602000"/>
            <a:chOff x="2266200" y="1747800"/>
            <a:chExt cx="4786560" cy="1602000"/>
          </a:xfrm>
        </p:grpSpPr>
        <p:sp>
          <p:nvSpPr>
            <p:cNvPr id="531" name=""/>
            <p:cNvSpPr/>
            <p:nvPr/>
          </p:nvSpPr>
          <p:spPr>
            <a:xfrm>
              <a:off x="3149640" y="2670120"/>
              <a:ext cx="2793960" cy="189000"/>
            </a:xfrm>
            <a:prstGeom prst="ellipse">
              <a:avLst/>
            </a:prstGeom>
            <a:solidFill>
              <a:srgbClr val="03fbe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igabit Ether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340080" y="2335320"/>
              <a:ext cx="0" cy="37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543480" y="2357280"/>
              <a:ext cx="0" cy="36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746520" y="2400480"/>
              <a:ext cx="0" cy="26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924360" y="2430360"/>
              <a:ext cx="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064040" y="2523960"/>
              <a:ext cx="0" cy="16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254480" y="253836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457880" y="2597040"/>
              <a:ext cx="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673520" y="2619360"/>
              <a:ext cx="0" cy="5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029200" y="2487600"/>
              <a:ext cx="0" cy="18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7800" y="2349360"/>
              <a:ext cx="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473800" y="214632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778360" y="1963800"/>
              <a:ext cx="0" cy="76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2527200">
              <a:off x="2301840" y="2433600"/>
              <a:ext cx="101520" cy="146160"/>
            </a:xfrm>
            <a:prstGeom prst="ellipse">
              <a:avLst/>
            </a:prstGeom>
            <a:solidFill>
              <a:srgbClr val="03fbe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2527200">
              <a:off x="2301480" y="3184560"/>
              <a:ext cx="112680" cy="146160"/>
            </a:xfrm>
            <a:prstGeom prst="ellipse">
              <a:avLst/>
            </a:prstGeom>
            <a:solidFill>
              <a:srgbClr val="03fbe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2527200">
              <a:off x="3355560" y="3160800"/>
              <a:ext cx="101520" cy="145800"/>
            </a:xfrm>
            <a:prstGeom prst="ellipse">
              <a:avLst/>
            </a:prstGeom>
            <a:solidFill>
              <a:srgbClr val="03fbe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2527200">
              <a:off x="4578480" y="3132000"/>
              <a:ext cx="101520" cy="146160"/>
            </a:xfrm>
            <a:prstGeom prst="ellipse">
              <a:avLst/>
            </a:prstGeom>
            <a:solidFill>
              <a:srgbClr val="03fbe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2527200">
              <a:off x="2381040" y="2903040"/>
              <a:ext cx="101520" cy="144720"/>
            </a:xfrm>
            <a:prstGeom prst="ellipse">
              <a:avLst/>
            </a:prstGeom>
            <a:solidFill>
              <a:srgbClr val="03fbe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2527200">
              <a:off x="5651640" y="3097080"/>
              <a:ext cx="101520" cy="146160"/>
            </a:xfrm>
            <a:prstGeom prst="ellipse">
              <a:avLst/>
            </a:prstGeom>
            <a:solidFill>
              <a:srgbClr val="03fbe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2527200">
              <a:off x="6591240" y="2911320"/>
              <a:ext cx="101520" cy="146160"/>
            </a:xfrm>
            <a:prstGeom prst="ellipse">
              <a:avLst/>
            </a:prstGeom>
            <a:solidFill>
              <a:srgbClr val="03fbe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2527200">
              <a:off x="6915240" y="2357280"/>
              <a:ext cx="101520" cy="146160"/>
            </a:xfrm>
            <a:prstGeom prst="ellipse">
              <a:avLst/>
            </a:prstGeom>
            <a:solidFill>
              <a:srgbClr val="03fbe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416320" y="2505240"/>
              <a:ext cx="809640" cy="22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2454120" y="2827440"/>
              <a:ext cx="1038240" cy="39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3473280" y="2843280"/>
              <a:ext cx="36216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 flipV="1">
              <a:off x="4473720" y="2854080"/>
              <a:ext cx="171360" cy="32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 flipV="1">
              <a:off x="5378040" y="2831760"/>
              <a:ext cx="30492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 flipV="1">
              <a:off x="5883120" y="2766600"/>
              <a:ext cx="73368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5864040" y="2444760"/>
              <a:ext cx="1028520" cy="28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381400" y="1747800"/>
              <a:ext cx="923760" cy="9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843120" y="3406680"/>
            <a:ext cx="6758640" cy="2421000"/>
            <a:chOff x="843120" y="3406680"/>
            <a:chExt cx="6758640" cy="2421000"/>
          </a:xfrm>
        </p:grpSpPr>
        <p:grpSp>
          <p:nvGrpSpPr>
            <p:cNvPr id="561" name=""/>
            <p:cNvGrpSpPr/>
            <p:nvPr/>
          </p:nvGrpSpPr>
          <p:grpSpPr>
            <a:xfrm>
              <a:off x="2033640" y="4943520"/>
              <a:ext cx="1415520" cy="482400"/>
              <a:chOff x="2033640" y="4943520"/>
              <a:chExt cx="1415520" cy="482400"/>
            </a:xfrm>
          </p:grpSpPr>
          <p:sp>
            <p:nvSpPr>
              <p:cNvPr id="562" name=""/>
              <p:cNvSpPr/>
              <p:nvPr/>
            </p:nvSpPr>
            <p:spPr>
              <a:xfrm>
                <a:off x="2566800" y="5223600"/>
                <a:ext cx="131400" cy="121680"/>
              </a:xfrm>
              <a:prstGeom prst="parallelogram">
                <a:avLst>
                  <a:gd name="adj" fmla="val 26997"/>
                </a:avLst>
              </a:prstGeom>
              <a:solidFill>
                <a:srgbClr val="114ff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636640" y="5303880"/>
                <a:ext cx="131760" cy="122040"/>
              </a:xfrm>
              <a:prstGeom prst="parallelogram">
                <a:avLst>
                  <a:gd name="adj" fmla="val 26991"/>
                </a:avLst>
              </a:prstGeom>
              <a:solidFill>
                <a:srgbClr val="114ff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854440" y="505296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114ff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923920" y="521676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114ff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029760" y="494352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114ff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099600" y="5107320"/>
                <a:ext cx="131400" cy="121680"/>
              </a:xfrm>
              <a:prstGeom prst="parallelogram">
                <a:avLst>
                  <a:gd name="adj" fmla="val 26997"/>
                </a:avLst>
              </a:prstGeom>
              <a:solidFill>
                <a:srgbClr val="114ff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633760" y="502776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114ff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033640" y="517320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114ff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103120" y="525348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114ff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320920" y="500256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114ff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390760" y="516672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114ff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247920" y="515484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114ff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317760" y="523512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114ff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2261520" y="545940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D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6" name=""/>
            <p:cNvGrpSpPr/>
            <p:nvPr/>
          </p:nvGrpSpPr>
          <p:grpSpPr>
            <a:xfrm>
              <a:off x="3887640" y="4937040"/>
              <a:ext cx="1415880" cy="482760"/>
              <a:chOff x="3887640" y="4937040"/>
              <a:chExt cx="1415880" cy="482760"/>
            </a:xfrm>
          </p:grpSpPr>
          <p:sp>
            <p:nvSpPr>
              <p:cNvPr id="577" name=""/>
              <p:cNvSpPr/>
              <p:nvPr/>
            </p:nvSpPr>
            <p:spPr>
              <a:xfrm>
                <a:off x="4420800" y="5217480"/>
                <a:ext cx="131400" cy="121680"/>
              </a:xfrm>
              <a:prstGeom prst="parallelogram">
                <a:avLst>
                  <a:gd name="adj" fmla="val 26997"/>
                </a:avLst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490640" y="5297760"/>
                <a:ext cx="131760" cy="122040"/>
              </a:xfrm>
              <a:prstGeom prst="parallelogram">
                <a:avLst>
                  <a:gd name="adj" fmla="val 26991"/>
                </a:avLst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708440" y="504648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778280" y="521064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884120" y="493704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953960" y="5100840"/>
                <a:ext cx="131400" cy="121680"/>
              </a:xfrm>
              <a:prstGeom prst="parallelogram">
                <a:avLst>
                  <a:gd name="adj" fmla="val 26997"/>
                </a:avLst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488120" y="502164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887640" y="516708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957120" y="524736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174920" y="499608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244760" y="516024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102280" y="514872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172120" y="522900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0" name=""/>
            <p:cNvSpPr/>
            <p:nvPr/>
          </p:nvSpPr>
          <p:spPr>
            <a:xfrm>
              <a:off x="4114440" y="5452920"/>
              <a:ext cx="148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ell Ph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5556240" y="4684680"/>
              <a:ext cx="1415880" cy="482760"/>
              <a:chOff x="5556240" y="4684680"/>
              <a:chExt cx="1415880" cy="482760"/>
            </a:xfrm>
          </p:grpSpPr>
          <p:sp>
            <p:nvSpPr>
              <p:cNvPr id="592" name=""/>
              <p:cNvSpPr/>
              <p:nvPr/>
            </p:nvSpPr>
            <p:spPr>
              <a:xfrm>
                <a:off x="6089400" y="4965120"/>
                <a:ext cx="131400" cy="121680"/>
              </a:xfrm>
              <a:prstGeom prst="parallelogram">
                <a:avLst>
                  <a:gd name="adj" fmla="val 26997"/>
                </a:avLst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59240" y="5045400"/>
                <a:ext cx="131760" cy="122040"/>
              </a:xfrm>
              <a:prstGeom prst="parallelogram">
                <a:avLst>
                  <a:gd name="adj" fmla="val 26991"/>
                </a:avLst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377040" y="479412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446880" y="495828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552720" y="468468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622560" y="4848480"/>
                <a:ext cx="131400" cy="121680"/>
              </a:xfrm>
              <a:prstGeom prst="parallelogram">
                <a:avLst>
                  <a:gd name="adj" fmla="val 26997"/>
                </a:avLst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156720" y="476928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556240" y="491472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625720" y="499500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843520" y="474372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913360" y="490788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770880" y="489636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840720" y="497664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5" name=""/>
            <p:cNvSpPr/>
            <p:nvPr/>
          </p:nvSpPr>
          <p:spPr>
            <a:xfrm>
              <a:off x="5784120" y="5200560"/>
              <a:ext cx="181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uture Devi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2208240" y="3406680"/>
              <a:ext cx="2293920" cy="15573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3227040" y="3429000"/>
              <a:ext cx="1268280" cy="14860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521800" y="4221000"/>
              <a:ext cx="1665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Wirel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Infra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3949200" y="3848040"/>
              <a:ext cx="763560" cy="11955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707000" y="3870360"/>
              <a:ext cx="406440" cy="11541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1" name=""/>
            <p:cNvGrpSpPr/>
            <p:nvPr/>
          </p:nvGrpSpPr>
          <p:grpSpPr>
            <a:xfrm>
              <a:off x="843120" y="4533840"/>
              <a:ext cx="1415520" cy="482760"/>
              <a:chOff x="843120" y="4533840"/>
              <a:chExt cx="1415520" cy="482760"/>
            </a:xfrm>
          </p:grpSpPr>
          <p:sp>
            <p:nvSpPr>
              <p:cNvPr id="612" name=""/>
              <p:cNvSpPr/>
              <p:nvPr/>
            </p:nvSpPr>
            <p:spPr>
              <a:xfrm>
                <a:off x="1376280" y="4814280"/>
                <a:ext cx="131400" cy="121680"/>
              </a:xfrm>
              <a:prstGeom prst="parallelogram">
                <a:avLst>
                  <a:gd name="adj" fmla="val 26997"/>
                </a:avLst>
              </a:prstGeom>
              <a:solidFill>
                <a:srgbClr val="114ff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446120" y="4894560"/>
                <a:ext cx="131760" cy="122040"/>
              </a:xfrm>
              <a:prstGeom prst="parallelogram">
                <a:avLst>
                  <a:gd name="adj" fmla="val 26991"/>
                </a:avLst>
              </a:prstGeom>
              <a:solidFill>
                <a:srgbClr val="114ff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663920" y="464328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114ff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733400" y="480744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114ff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839240" y="453384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114ff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909080" y="4697640"/>
                <a:ext cx="131400" cy="121680"/>
              </a:xfrm>
              <a:prstGeom prst="parallelogram">
                <a:avLst>
                  <a:gd name="adj" fmla="val 26997"/>
                </a:avLst>
              </a:prstGeom>
              <a:solidFill>
                <a:srgbClr val="114ff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443240" y="461844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114ff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843120" y="476388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114ff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912600" y="484416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114ff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130400" y="459288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114ff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200240" y="475704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114ff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057400" y="474552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114ff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127240" y="482580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114ff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" name=""/>
            <p:cNvSpPr/>
            <p:nvPr/>
          </p:nvSpPr>
          <p:spPr>
            <a:xfrm flipH="1">
              <a:off x="1118880" y="3414600"/>
              <a:ext cx="1500120" cy="1341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852480" y="1254240"/>
            <a:ext cx="7488360" cy="3145680"/>
            <a:chOff x="852480" y="1254240"/>
            <a:chExt cx="7488360" cy="3145680"/>
          </a:xfrm>
        </p:grpSpPr>
        <p:grpSp>
          <p:nvGrpSpPr>
            <p:cNvPr id="627" name=""/>
            <p:cNvGrpSpPr/>
            <p:nvPr/>
          </p:nvGrpSpPr>
          <p:grpSpPr>
            <a:xfrm>
              <a:off x="6591240" y="2984400"/>
              <a:ext cx="507960" cy="269640"/>
              <a:chOff x="6591240" y="2984400"/>
              <a:chExt cx="507960" cy="269640"/>
            </a:xfrm>
          </p:grpSpPr>
          <p:sp>
            <p:nvSpPr>
              <p:cNvPr id="628" name=""/>
              <p:cNvSpPr/>
              <p:nvPr/>
            </p:nvSpPr>
            <p:spPr>
              <a:xfrm>
                <a:off x="6591240" y="3086280"/>
                <a:ext cx="304560" cy="16776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667200" y="3049920"/>
                <a:ext cx="304920" cy="16740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730920" y="3013560"/>
                <a:ext cx="304560" cy="16776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794280" y="2984400"/>
                <a:ext cx="304920" cy="16776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3225960" y="1461960"/>
              <a:ext cx="2730240" cy="1157040"/>
              <a:chOff x="3225960" y="1461960"/>
              <a:chExt cx="2730240" cy="1157040"/>
            </a:xfrm>
          </p:grpSpPr>
          <p:grpSp>
            <p:nvGrpSpPr>
              <p:cNvPr id="633" name=""/>
              <p:cNvGrpSpPr/>
              <p:nvPr/>
            </p:nvGrpSpPr>
            <p:grpSpPr>
              <a:xfrm>
                <a:off x="3225960" y="1840320"/>
                <a:ext cx="1409040" cy="589320"/>
                <a:chOff x="3225960" y="1840320"/>
                <a:chExt cx="1409040" cy="589320"/>
              </a:xfrm>
            </p:grpSpPr>
            <p:grpSp>
              <p:nvGrpSpPr>
                <p:cNvPr id="634" name=""/>
                <p:cNvGrpSpPr/>
                <p:nvPr/>
              </p:nvGrpSpPr>
              <p:grpSpPr>
                <a:xfrm>
                  <a:off x="3225960" y="1840320"/>
                  <a:ext cx="786600" cy="480240"/>
                  <a:chOff x="3225960" y="1840320"/>
                  <a:chExt cx="786600" cy="480240"/>
                </a:xfrm>
              </p:grpSpPr>
              <p:sp>
                <p:nvSpPr>
                  <p:cNvPr id="635" name=""/>
                  <p:cNvSpPr/>
                  <p:nvPr/>
                </p:nvSpPr>
                <p:spPr>
                  <a:xfrm>
                    <a:off x="3225960" y="2175120"/>
                    <a:ext cx="26640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3301920" y="2124000"/>
                    <a:ext cx="26640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3377880" y="2080800"/>
                    <a:ext cx="26640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3454200" y="2029680"/>
                    <a:ext cx="26640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3517560" y="1985760"/>
                    <a:ext cx="26640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3593880" y="1935000"/>
                    <a:ext cx="26640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3670200" y="1891080"/>
                    <a:ext cx="26640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3746160" y="1840320"/>
                    <a:ext cx="26640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3" name=""/>
                <p:cNvGrpSpPr/>
                <p:nvPr/>
              </p:nvGrpSpPr>
              <p:grpSpPr>
                <a:xfrm>
                  <a:off x="3454200" y="1869120"/>
                  <a:ext cx="786600" cy="480240"/>
                  <a:chOff x="3454200" y="1869120"/>
                  <a:chExt cx="786600" cy="480240"/>
                </a:xfrm>
              </p:grpSpPr>
              <p:sp>
                <p:nvSpPr>
                  <p:cNvPr id="644" name=""/>
                  <p:cNvSpPr/>
                  <p:nvPr/>
                </p:nvSpPr>
                <p:spPr>
                  <a:xfrm>
                    <a:off x="3454200" y="2203920"/>
                    <a:ext cx="26640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3530160" y="2152800"/>
                    <a:ext cx="26640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3606120" y="2109600"/>
                    <a:ext cx="26640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3682440" y="2058480"/>
                    <a:ext cx="26640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3745800" y="2014560"/>
                    <a:ext cx="26640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3822120" y="1963800"/>
                    <a:ext cx="26640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3898440" y="1919880"/>
                    <a:ext cx="26640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3974400" y="1869120"/>
                    <a:ext cx="26640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2" name=""/>
                <p:cNvGrpSpPr/>
                <p:nvPr/>
              </p:nvGrpSpPr>
              <p:grpSpPr>
                <a:xfrm>
                  <a:off x="3619080" y="1920240"/>
                  <a:ext cx="787320" cy="480240"/>
                  <a:chOff x="3619080" y="1920240"/>
                  <a:chExt cx="787320" cy="480240"/>
                </a:xfrm>
              </p:grpSpPr>
              <p:sp>
                <p:nvSpPr>
                  <p:cNvPr id="653" name=""/>
                  <p:cNvSpPr/>
                  <p:nvPr/>
                </p:nvSpPr>
                <p:spPr>
                  <a:xfrm>
                    <a:off x="3619080" y="225504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3695400" y="220392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>
                    <a:off x="3771360" y="216072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3847680" y="210960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3911040" y="206568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3987360" y="201492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4063680" y="197100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4139640" y="192024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1" name=""/>
                <p:cNvGrpSpPr/>
                <p:nvPr/>
              </p:nvGrpSpPr>
              <p:grpSpPr>
                <a:xfrm>
                  <a:off x="3847680" y="1949400"/>
                  <a:ext cx="787320" cy="480240"/>
                  <a:chOff x="3847680" y="1949400"/>
                  <a:chExt cx="787320" cy="480240"/>
                </a:xfrm>
              </p:grpSpPr>
              <p:sp>
                <p:nvSpPr>
                  <p:cNvPr id="662" name=""/>
                  <p:cNvSpPr/>
                  <p:nvPr/>
                </p:nvSpPr>
                <p:spPr>
                  <a:xfrm>
                    <a:off x="3847680" y="228420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3924000" y="223308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3999960" y="218988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4076280" y="213876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4139640" y="209484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>
                    <a:off x="4215960" y="204408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>
                    <a:off x="4292280" y="200016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4368240" y="194940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70" name=""/>
              <p:cNvGrpSpPr/>
              <p:nvPr/>
            </p:nvGrpSpPr>
            <p:grpSpPr>
              <a:xfrm>
                <a:off x="3822840" y="1461960"/>
                <a:ext cx="1409400" cy="588960"/>
                <a:chOff x="3822840" y="1461960"/>
                <a:chExt cx="1409400" cy="588960"/>
              </a:xfrm>
            </p:grpSpPr>
            <p:grpSp>
              <p:nvGrpSpPr>
                <p:cNvPr id="671" name=""/>
                <p:cNvGrpSpPr/>
                <p:nvPr/>
              </p:nvGrpSpPr>
              <p:grpSpPr>
                <a:xfrm>
                  <a:off x="3822840" y="1461960"/>
                  <a:ext cx="787320" cy="479880"/>
                  <a:chOff x="3822840" y="1461960"/>
                  <a:chExt cx="787320" cy="479880"/>
                </a:xfrm>
              </p:grpSpPr>
              <p:sp>
                <p:nvSpPr>
                  <p:cNvPr id="672" name=""/>
                  <p:cNvSpPr/>
                  <p:nvPr/>
                </p:nvSpPr>
                <p:spPr>
                  <a:xfrm>
                    <a:off x="3822840" y="179640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3899160" y="174564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3975120" y="1702080"/>
                    <a:ext cx="266760" cy="14508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4051440" y="1650960"/>
                    <a:ext cx="266760" cy="14508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4114800" y="160740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4191120" y="155628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4267440" y="151272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4343400" y="146196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0" name=""/>
                <p:cNvGrpSpPr/>
                <p:nvPr/>
              </p:nvGrpSpPr>
              <p:grpSpPr>
                <a:xfrm>
                  <a:off x="4051440" y="1490760"/>
                  <a:ext cx="787320" cy="479880"/>
                  <a:chOff x="4051440" y="1490760"/>
                  <a:chExt cx="787320" cy="479880"/>
                </a:xfrm>
              </p:grpSpPr>
              <p:sp>
                <p:nvSpPr>
                  <p:cNvPr id="681" name=""/>
                  <p:cNvSpPr/>
                  <p:nvPr/>
                </p:nvSpPr>
                <p:spPr>
                  <a:xfrm>
                    <a:off x="4051440" y="182520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4127760" y="177444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>
                    <a:off x="4203720" y="1730880"/>
                    <a:ext cx="266760" cy="14508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4280040" y="1679760"/>
                    <a:ext cx="266760" cy="14508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4343400" y="163620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>
                    <a:off x="4419720" y="158508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>
                    <a:off x="4496040" y="154152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>
                    <a:off x="4572000" y="149076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9" name=""/>
                <p:cNvGrpSpPr/>
                <p:nvPr/>
              </p:nvGrpSpPr>
              <p:grpSpPr>
                <a:xfrm>
                  <a:off x="4216320" y="1541880"/>
                  <a:ext cx="787320" cy="479880"/>
                  <a:chOff x="4216320" y="1541880"/>
                  <a:chExt cx="787320" cy="47988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>
                    <a:off x="4216320" y="187632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4292640" y="182556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>
                    <a:off x="4368600" y="1782000"/>
                    <a:ext cx="266760" cy="14508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4444920" y="1730880"/>
                    <a:ext cx="266760" cy="14508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4508280" y="168732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4584600" y="163620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4660920" y="159264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>
                    <a:off x="4736880" y="154188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8" name=""/>
                <p:cNvGrpSpPr/>
                <p:nvPr/>
              </p:nvGrpSpPr>
              <p:grpSpPr>
                <a:xfrm>
                  <a:off x="4444920" y="1571040"/>
                  <a:ext cx="787320" cy="479880"/>
                  <a:chOff x="4444920" y="1571040"/>
                  <a:chExt cx="787320" cy="479880"/>
                </a:xfrm>
              </p:grpSpPr>
              <p:sp>
                <p:nvSpPr>
                  <p:cNvPr id="699" name=""/>
                  <p:cNvSpPr/>
                  <p:nvPr/>
                </p:nvSpPr>
                <p:spPr>
                  <a:xfrm>
                    <a:off x="4444920" y="190548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>
                    <a:off x="4521240" y="185472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4597200" y="1811160"/>
                    <a:ext cx="266760" cy="14508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>
                    <a:off x="4673520" y="1760040"/>
                    <a:ext cx="266760" cy="14508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>
                    <a:off x="4736880" y="171648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>
                    <a:off x="4813200" y="166536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>
                    <a:off x="4889520" y="162180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>
                    <a:off x="4965480" y="157104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7" name=""/>
              <p:cNvGrpSpPr/>
              <p:nvPr/>
            </p:nvGrpSpPr>
            <p:grpSpPr>
              <a:xfrm>
                <a:off x="3949560" y="2029680"/>
                <a:ext cx="1409760" cy="589320"/>
                <a:chOff x="3949560" y="2029680"/>
                <a:chExt cx="1409760" cy="589320"/>
              </a:xfrm>
            </p:grpSpPr>
            <p:grpSp>
              <p:nvGrpSpPr>
                <p:cNvPr id="708" name=""/>
                <p:cNvGrpSpPr/>
                <p:nvPr/>
              </p:nvGrpSpPr>
              <p:grpSpPr>
                <a:xfrm>
                  <a:off x="3949560" y="2029680"/>
                  <a:ext cx="787320" cy="480240"/>
                  <a:chOff x="3949560" y="2029680"/>
                  <a:chExt cx="787320" cy="480240"/>
                </a:xfrm>
              </p:grpSpPr>
              <p:sp>
                <p:nvSpPr>
                  <p:cNvPr id="709" name=""/>
                  <p:cNvSpPr/>
                  <p:nvPr/>
                </p:nvSpPr>
                <p:spPr>
                  <a:xfrm>
                    <a:off x="3949560" y="236448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4025880" y="231336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>
                    <a:off x="4101840" y="227016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>
                    <a:off x="4178160" y="221904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4241520" y="217512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4317840" y="212436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>
                    <a:off x="4394160" y="208044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>
                    <a:off x="4470120" y="202968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17" name=""/>
                <p:cNvGrpSpPr/>
                <p:nvPr/>
              </p:nvGrpSpPr>
              <p:grpSpPr>
                <a:xfrm>
                  <a:off x="4178160" y="2058480"/>
                  <a:ext cx="787320" cy="480240"/>
                  <a:chOff x="4178160" y="2058480"/>
                  <a:chExt cx="787320" cy="480240"/>
                </a:xfrm>
              </p:grpSpPr>
              <p:sp>
                <p:nvSpPr>
                  <p:cNvPr id="718" name=""/>
                  <p:cNvSpPr/>
                  <p:nvPr/>
                </p:nvSpPr>
                <p:spPr>
                  <a:xfrm>
                    <a:off x="4178160" y="239328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>
                    <a:off x="4254480" y="234216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4330440" y="229896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4406760" y="224784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4470120" y="220392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4546440" y="215316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4622760" y="210924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4698720" y="205848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6" name=""/>
                <p:cNvGrpSpPr/>
                <p:nvPr/>
              </p:nvGrpSpPr>
              <p:grpSpPr>
                <a:xfrm>
                  <a:off x="4343400" y="2109600"/>
                  <a:ext cx="787320" cy="480240"/>
                  <a:chOff x="4343400" y="2109600"/>
                  <a:chExt cx="787320" cy="480240"/>
                </a:xfrm>
              </p:grpSpPr>
              <p:sp>
                <p:nvSpPr>
                  <p:cNvPr id="727" name=""/>
                  <p:cNvSpPr/>
                  <p:nvPr/>
                </p:nvSpPr>
                <p:spPr>
                  <a:xfrm>
                    <a:off x="4343400" y="244440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4419720" y="239328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4495680" y="235008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>
                    <a:off x="4572000" y="229896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>
                    <a:off x="4635360" y="225504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4711680" y="220428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4788000" y="216036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4863960" y="210960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35" name=""/>
                <p:cNvGrpSpPr/>
                <p:nvPr/>
              </p:nvGrpSpPr>
              <p:grpSpPr>
                <a:xfrm>
                  <a:off x="4572000" y="2138760"/>
                  <a:ext cx="787320" cy="480240"/>
                  <a:chOff x="4572000" y="2138760"/>
                  <a:chExt cx="787320" cy="480240"/>
                </a:xfrm>
              </p:grpSpPr>
              <p:sp>
                <p:nvSpPr>
                  <p:cNvPr id="736" name=""/>
                  <p:cNvSpPr/>
                  <p:nvPr/>
                </p:nvSpPr>
                <p:spPr>
                  <a:xfrm>
                    <a:off x="4572000" y="247356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4648320" y="242244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4724280" y="237924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4800600" y="232812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4863960" y="228420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4940280" y="223344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5016600" y="218952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5092560" y="213876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44" name=""/>
              <p:cNvGrpSpPr/>
              <p:nvPr/>
            </p:nvGrpSpPr>
            <p:grpSpPr>
              <a:xfrm>
                <a:off x="4546800" y="1607400"/>
                <a:ext cx="1409400" cy="589320"/>
                <a:chOff x="4546800" y="1607400"/>
                <a:chExt cx="1409400" cy="589320"/>
              </a:xfrm>
            </p:grpSpPr>
            <p:grpSp>
              <p:nvGrpSpPr>
                <p:cNvPr id="745" name=""/>
                <p:cNvGrpSpPr/>
                <p:nvPr/>
              </p:nvGrpSpPr>
              <p:grpSpPr>
                <a:xfrm>
                  <a:off x="4546800" y="1607400"/>
                  <a:ext cx="787320" cy="480240"/>
                  <a:chOff x="4546800" y="1607400"/>
                  <a:chExt cx="787320" cy="480240"/>
                </a:xfrm>
              </p:grpSpPr>
              <p:sp>
                <p:nvSpPr>
                  <p:cNvPr id="746" name=""/>
                  <p:cNvSpPr/>
                  <p:nvPr/>
                </p:nvSpPr>
                <p:spPr>
                  <a:xfrm>
                    <a:off x="4546800" y="194220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4623120" y="189108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4699080" y="184788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4775400" y="179676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4838760" y="175284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4915080" y="170208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>
                    <a:off x="4991400" y="165816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5067360" y="160740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4" name=""/>
                <p:cNvGrpSpPr/>
                <p:nvPr/>
              </p:nvGrpSpPr>
              <p:grpSpPr>
                <a:xfrm>
                  <a:off x="4775400" y="1636200"/>
                  <a:ext cx="787320" cy="480240"/>
                  <a:chOff x="4775400" y="1636200"/>
                  <a:chExt cx="787320" cy="480240"/>
                </a:xfrm>
              </p:grpSpPr>
              <p:sp>
                <p:nvSpPr>
                  <p:cNvPr id="755" name=""/>
                  <p:cNvSpPr/>
                  <p:nvPr/>
                </p:nvSpPr>
                <p:spPr>
                  <a:xfrm>
                    <a:off x="4775400" y="197100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4851720" y="191988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4927680" y="187668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>
                    <a:off x="5004000" y="182556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5067360" y="178164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5143680" y="173088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5220000" y="168696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5295960" y="163620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3" name=""/>
                <p:cNvGrpSpPr/>
                <p:nvPr/>
              </p:nvGrpSpPr>
              <p:grpSpPr>
                <a:xfrm>
                  <a:off x="4915080" y="1672920"/>
                  <a:ext cx="787320" cy="479880"/>
                  <a:chOff x="4915080" y="1672920"/>
                  <a:chExt cx="787320" cy="479880"/>
                </a:xfrm>
              </p:grpSpPr>
              <p:sp>
                <p:nvSpPr>
                  <p:cNvPr id="764" name=""/>
                  <p:cNvSpPr/>
                  <p:nvPr/>
                </p:nvSpPr>
                <p:spPr>
                  <a:xfrm>
                    <a:off x="4915080" y="200736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4991400" y="195660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5067360" y="1913040"/>
                    <a:ext cx="266760" cy="14508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>
                    <a:off x="5143680" y="1861920"/>
                    <a:ext cx="266760" cy="14508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>
                    <a:off x="5207040" y="181836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>
                    <a:off x="5283360" y="176724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5359680" y="172368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5435640" y="167292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2" name=""/>
                <p:cNvGrpSpPr/>
                <p:nvPr/>
              </p:nvGrpSpPr>
              <p:grpSpPr>
                <a:xfrm>
                  <a:off x="5168880" y="1716480"/>
                  <a:ext cx="787320" cy="480240"/>
                  <a:chOff x="5168880" y="1716480"/>
                  <a:chExt cx="787320" cy="480240"/>
                </a:xfrm>
              </p:grpSpPr>
              <p:sp>
                <p:nvSpPr>
                  <p:cNvPr id="773" name=""/>
                  <p:cNvSpPr/>
                  <p:nvPr/>
                </p:nvSpPr>
                <p:spPr>
                  <a:xfrm>
                    <a:off x="5168880" y="205128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5245200" y="200016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5321160" y="195696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5397480" y="190584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5460840" y="186192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5537160" y="181116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5613480" y="176724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5689440" y="171648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781" name=""/>
            <p:cNvGrpSpPr/>
            <p:nvPr/>
          </p:nvGrpSpPr>
          <p:grpSpPr>
            <a:xfrm>
              <a:off x="3349800" y="3198960"/>
              <a:ext cx="507960" cy="269280"/>
              <a:chOff x="3349800" y="3198960"/>
              <a:chExt cx="507960" cy="269280"/>
            </a:xfrm>
          </p:grpSpPr>
          <p:sp>
            <p:nvSpPr>
              <p:cNvPr id="782" name=""/>
              <p:cNvSpPr/>
              <p:nvPr/>
            </p:nvSpPr>
            <p:spPr>
              <a:xfrm>
                <a:off x="3349800" y="3300840"/>
                <a:ext cx="304560" cy="16740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425760" y="3264480"/>
                <a:ext cx="304920" cy="16740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489480" y="3227760"/>
                <a:ext cx="304560" cy="16740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552840" y="3198960"/>
                <a:ext cx="304920" cy="16740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6" name=""/>
            <p:cNvGrpSpPr/>
            <p:nvPr/>
          </p:nvGrpSpPr>
          <p:grpSpPr>
            <a:xfrm>
              <a:off x="4587840" y="3176640"/>
              <a:ext cx="507960" cy="267840"/>
              <a:chOff x="4587840" y="3176640"/>
              <a:chExt cx="507960" cy="267840"/>
            </a:xfrm>
          </p:grpSpPr>
          <p:sp>
            <p:nvSpPr>
              <p:cNvPr id="787" name=""/>
              <p:cNvSpPr/>
              <p:nvPr/>
            </p:nvSpPr>
            <p:spPr>
              <a:xfrm>
                <a:off x="4587840" y="3277800"/>
                <a:ext cx="304560" cy="16668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4663800" y="3241800"/>
                <a:ext cx="304920" cy="1663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727520" y="3205440"/>
                <a:ext cx="304560" cy="16668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4790880" y="3176640"/>
                <a:ext cx="304920" cy="16668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" name=""/>
            <p:cNvGrpSpPr/>
            <p:nvPr/>
          </p:nvGrpSpPr>
          <p:grpSpPr>
            <a:xfrm>
              <a:off x="6940440" y="2416320"/>
              <a:ext cx="507960" cy="267840"/>
              <a:chOff x="6940440" y="2416320"/>
              <a:chExt cx="507960" cy="267840"/>
            </a:xfrm>
          </p:grpSpPr>
          <p:sp>
            <p:nvSpPr>
              <p:cNvPr id="792" name=""/>
              <p:cNvSpPr/>
              <p:nvPr/>
            </p:nvSpPr>
            <p:spPr>
              <a:xfrm>
                <a:off x="6940440" y="2517480"/>
                <a:ext cx="304560" cy="16668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016400" y="2481480"/>
                <a:ext cx="304920" cy="1663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080120" y="2445120"/>
                <a:ext cx="304560" cy="16668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143480" y="2416320"/>
                <a:ext cx="304920" cy="16668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6" name=""/>
            <p:cNvGrpSpPr/>
            <p:nvPr/>
          </p:nvGrpSpPr>
          <p:grpSpPr>
            <a:xfrm>
              <a:off x="5626080" y="3141720"/>
              <a:ext cx="507960" cy="267840"/>
              <a:chOff x="5626080" y="3141720"/>
              <a:chExt cx="507960" cy="267840"/>
            </a:xfrm>
          </p:grpSpPr>
          <p:sp>
            <p:nvSpPr>
              <p:cNvPr id="797" name=""/>
              <p:cNvSpPr/>
              <p:nvPr/>
            </p:nvSpPr>
            <p:spPr>
              <a:xfrm>
                <a:off x="5626080" y="3242880"/>
                <a:ext cx="304560" cy="16668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702040" y="3206880"/>
                <a:ext cx="304920" cy="1663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765760" y="3170520"/>
                <a:ext cx="304560" cy="16668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829120" y="3141720"/>
                <a:ext cx="304920" cy="16668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1895400" y="2749680"/>
              <a:ext cx="507960" cy="269280"/>
              <a:chOff x="1895400" y="2749680"/>
              <a:chExt cx="507960" cy="269280"/>
            </a:xfrm>
          </p:grpSpPr>
          <p:sp>
            <p:nvSpPr>
              <p:cNvPr id="802" name=""/>
              <p:cNvSpPr/>
              <p:nvPr/>
            </p:nvSpPr>
            <p:spPr>
              <a:xfrm>
                <a:off x="1895400" y="2851560"/>
                <a:ext cx="304560" cy="16740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971360" y="2815200"/>
                <a:ext cx="304920" cy="16740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035080" y="2778480"/>
                <a:ext cx="304560" cy="16740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098440" y="2749680"/>
                <a:ext cx="304920" cy="16740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1843200" y="2496960"/>
              <a:ext cx="507960" cy="268560"/>
              <a:chOff x="1843200" y="2496960"/>
              <a:chExt cx="507960" cy="268560"/>
            </a:xfrm>
          </p:grpSpPr>
          <p:sp>
            <p:nvSpPr>
              <p:cNvPr id="807" name=""/>
              <p:cNvSpPr/>
              <p:nvPr/>
            </p:nvSpPr>
            <p:spPr>
              <a:xfrm>
                <a:off x="1843200" y="2598480"/>
                <a:ext cx="304560" cy="16704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919160" y="2562120"/>
                <a:ext cx="304920" cy="16668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982880" y="2525760"/>
                <a:ext cx="304560" cy="16704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046240" y="2496960"/>
                <a:ext cx="304920" cy="16704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2298600" y="3244680"/>
              <a:ext cx="507960" cy="269640"/>
              <a:chOff x="2298600" y="3244680"/>
              <a:chExt cx="507960" cy="269640"/>
            </a:xfrm>
          </p:grpSpPr>
          <p:sp>
            <p:nvSpPr>
              <p:cNvPr id="812" name=""/>
              <p:cNvSpPr/>
              <p:nvPr/>
            </p:nvSpPr>
            <p:spPr>
              <a:xfrm>
                <a:off x="2298600" y="3346560"/>
                <a:ext cx="304560" cy="16776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374560" y="3310200"/>
                <a:ext cx="304920" cy="16740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438280" y="3273840"/>
                <a:ext cx="304560" cy="16776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501640" y="3244680"/>
                <a:ext cx="304920" cy="16776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852480" y="2413080"/>
              <a:ext cx="425520" cy="221760"/>
              <a:chOff x="852480" y="2413080"/>
              <a:chExt cx="425520" cy="221760"/>
            </a:xfrm>
          </p:grpSpPr>
          <p:sp>
            <p:nvSpPr>
              <p:cNvPr id="817" name=""/>
              <p:cNvSpPr/>
              <p:nvPr/>
            </p:nvSpPr>
            <p:spPr>
              <a:xfrm>
                <a:off x="1176480" y="241848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024200" y="241308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166760" y="249480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014480" y="248940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862200" y="242928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852480" y="250596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166760" y="256608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014480" y="256068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852480" y="257688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6" name=""/>
            <p:cNvGrpSpPr/>
            <p:nvPr/>
          </p:nvGrpSpPr>
          <p:grpSpPr>
            <a:xfrm>
              <a:off x="857160" y="2649600"/>
              <a:ext cx="425520" cy="221760"/>
              <a:chOff x="857160" y="2649600"/>
              <a:chExt cx="425520" cy="221760"/>
            </a:xfrm>
          </p:grpSpPr>
          <p:sp>
            <p:nvSpPr>
              <p:cNvPr id="827" name=""/>
              <p:cNvSpPr/>
              <p:nvPr/>
            </p:nvSpPr>
            <p:spPr>
              <a:xfrm>
                <a:off x="1181160" y="265500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028880" y="264960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171440" y="273132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1019160" y="272592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866880" y="266580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857160" y="274248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171440" y="280260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019160" y="279720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57160" y="281340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6" name=""/>
            <p:cNvSpPr/>
            <p:nvPr/>
          </p:nvSpPr>
          <p:spPr>
            <a:xfrm>
              <a:off x="1454040" y="2411280"/>
              <a:ext cx="257400" cy="142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463760" y="2635200"/>
              <a:ext cx="257040" cy="142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8" name=""/>
            <p:cNvGrpSpPr/>
            <p:nvPr/>
          </p:nvGrpSpPr>
          <p:grpSpPr>
            <a:xfrm>
              <a:off x="1219320" y="3228840"/>
              <a:ext cx="424800" cy="222480"/>
              <a:chOff x="1219320" y="3228840"/>
              <a:chExt cx="424800" cy="222480"/>
            </a:xfrm>
          </p:grpSpPr>
          <p:sp>
            <p:nvSpPr>
              <p:cNvPr id="839" name=""/>
              <p:cNvSpPr/>
              <p:nvPr/>
            </p:nvSpPr>
            <p:spPr>
              <a:xfrm>
                <a:off x="1542960" y="3234240"/>
                <a:ext cx="10116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1390680" y="3228840"/>
                <a:ext cx="10116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1533240" y="3310920"/>
                <a:ext cx="10152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380960" y="3305520"/>
                <a:ext cx="10116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228680" y="3245040"/>
                <a:ext cx="10116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219320" y="3321720"/>
                <a:ext cx="10152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533240" y="3381840"/>
                <a:ext cx="10152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380960" y="3376440"/>
                <a:ext cx="10116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219320" y="3393000"/>
                <a:ext cx="10152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8" name=""/>
            <p:cNvGrpSpPr/>
            <p:nvPr/>
          </p:nvGrpSpPr>
          <p:grpSpPr>
            <a:xfrm>
              <a:off x="1257480" y="3502080"/>
              <a:ext cx="424800" cy="220320"/>
              <a:chOff x="1257480" y="3502080"/>
              <a:chExt cx="424800" cy="220320"/>
            </a:xfrm>
          </p:grpSpPr>
          <p:sp>
            <p:nvSpPr>
              <p:cNvPr id="849" name=""/>
              <p:cNvSpPr/>
              <p:nvPr/>
            </p:nvSpPr>
            <p:spPr>
              <a:xfrm>
                <a:off x="1581120" y="3507480"/>
                <a:ext cx="101160" cy="5760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428840" y="3502080"/>
                <a:ext cx="101160" cy="5760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571400" y="3583440"/>
                <a:ext cx="101520" cy="5760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419120" y="3578040"/>
                <a:ext cx="101160" cy="5760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266840" y="3518280"/>
                <a:ext cx="101160" cy="5760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257480" y="3594240"/>
                <a:ext cx="101520" cy="5760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571400" y="3654000"/>
                <a:ext cx="101520" cy="5760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419120" y="3648600"/>
                <a:ext cx="101160" cy="5760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257480" y="3664800"/>
                <a:ext cx="101520" cy="5760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8" name=""/>
            <p:cNvSpPr/>
            <p:nvPr/>
          </p:nvSpPr>
          <p:spPr>
            <a:xfrm>
              <a:off x="1758960" y="3378240"/>
              <a:ext cx="257040" cy="1411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9" name=""/>
            <p:cNvGrpSpPr/>
            <p:nvPr/>
          </p:nvGrpSpPr>
          <p:grpSpPr>
            <a:xfrm>
              <a:off x="2695680" y="3719520"/>
              <a:ext cx="425520" cy="221760"/>
              <a:chOff x="2695680" y="3719520"/>
              <a:chExt cx="425520" cy="221760"/>
            </a:xfrm>
          </p:grpSpPr>
          <p:sp>
            <p:nvSpPr>
              <p:cNvPr id="860" name=""/>
              <p:cNvSpPr/>
              <p:nvPr/>
            </p:nvSpPr>
            <p:spPr>
              <a:xfrm>
                <a:off x="3019680" y="372492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2867400" y="371952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009960" y="380124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2857680" y="379584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2705400" y="373572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2695680" y="381240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009960" y="387252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2857680" y="386712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2695680" y="388332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9" name=""/>
            <p:cNvSpPr/>
            <p:nvPr/>
          </p:nvSpPr>
          <p:spPr>
            <a:xfrm>
              <a:off x="3282840" y="3525840"/>
              <a:ext cx="257400" cy="1411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0" name=""/>
            <p:cNvGrpSpPr/>
            <p:nvPr/>
          </p:nvGrpSpPr>
          <p:grpSpPr>
            <a:xfrm>
              <a:off x="4533840" y="3703680"/>
              <a:ext cx="425520" cy="150480"/>
              <a:chOff x="4533840" y="3703680"/>
              <a:chExt cx="425520" cy="150480"/>
            </a:xfrm>
          </p:grpSpPr>
          <p:sp>
            <p:nvSpPr>
              <p:cNvPr id="871" name=""/>
              <p:cNvSpPr/>
              <p:nvPr/>
            </p:nvSpPr>
            <p:spPr>
              <a:xfrm>
                <a:off x="4857840" y="370908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705560" y="3703680"/>
                <a:ext cx="10152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848120" y="378540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695840" y="378000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543560" y="371988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533840" y="379620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7" name=""/>
            <p:cNvSpPr/>
            <p:nvPr/>
          </p:nvSpPr>
          <p:spPr>
            <a:xfrm>
              <a:off x="4645080" y="3519360"/>
              <a:ext cx="257040" cy="142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8" name=""/>
            <p:cNvGrpSpPr/>
            <p:nvPr/>
          </p:nvGrpSpPr>
          <p:grpSpPr>
            <a:xfrm>
              <a:off x="5553000" y="3665520"/>
              <a:ext cx="425520" cy="221760"/>
              <a:chOff x="5553000" y="3665520"/>
              <a:chExt cx="425520" cy="221760"/>
            </a:xfrm>
          </p:grpSpPr>
          <p:sp>
            <p:nvSpPr>
              <p:cNvPr id="879" name=""/>
              <p:cNvSpPr/>
              <p:nvPr/>
            </p:nvSpPr>
            <p:spPr>
              <a:xfrm>
                <a:off x="5877000" y="367092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724720" y="366552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5867280" y="374724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715000" y="374184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5562720" y="368172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5553000" y="375840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5867280" y="381852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5715000" y="381312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5553000" y="382932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8" name=""/>
            <p:cNvGrpSpPr/>
            <p:nvPr/>
          </p:nvGrpSpPr>
          <p:grpSpPr>
            <a:xfrm>
              <a:off x="6070680" y="3778200"/>
              <a:ext cx="425520" cy="222480"/>
              <a:chOff x="6070680" y="3778200"/>
              <a:chExt cx="425520" cy="222480"/>
            </a:xfrm>
          </p:grpSpPr>
          <p:sp>
            <p:nvSpPr>
              <p:cNvPr id="889" name=""/>
              <p:cNvSpPr/>
              <p:nvPr/>
            </p:nvSpPr>
            <p:spPr>
              <a:xfrm>
                <a:off x="6394680" y="3783600"/>
                <a:ext cx="10152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6242400" y="3778200"/>
                <a:ext cx="10152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6384960" y="3860280"/>
                <a:ext cx="10188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6232680" y="3854880"/>
                <a:ext cx="10152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6080400" y="3794400"/>
                <a:ext cx="10152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6070680" y="3871080"/>
                <a:ext cx="10188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6384960" y="3931200"/>
                <a:ext cx="10188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6232680" y="3925800"/>
                <a:ext cx="10152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6070680" y="3942360"/>
                <a:ext cx="10188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8" name=""/>
            <p:cNvSpPr/>
            <p:nvPr/>
          </p:nvSpPr>
          <p:spPr>
            <a:xfrm>
              <a:off x="5892840" y="3465360"/>
              <a:ext cx="257040" cy="1414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559640" y="2482920"/>
              <a:ext cx="257040" cy="1411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0" name=""/>
            <p:cNvGrpSpPr/>
            <p:nvPr/>
          </p:nvGrpSpPr>
          <p:grpSpPr>
            <a:xfrm>
              <a:off x="7620120" y="2890800"/>
              <a:ext cx="424800" cy="220320"/>
              <a:chOff x="7620120" y="2890800"/>
              <a:chExt cx="424800" cy="220320"/>
            </a:xfrm>
          </p:grpSpPr>
          <p:sp>
            <p:nvSpPr>
              <p:cNvPr id="901" name=""/>
              <p:cNvSpPr/>
              <p:nvPr/>
            </p:nvSpPr>
            <p:spPr>
              <a:xfrm>
                <a:off x="7943760" y="2896200"/>
                <a:ext cx="101160" cy="5760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791480" y="2890800"/>
                <a:ext cx="101160" cy="5760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934040" y="2972160"/>
                <a:ext cx="101520" cy="5760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781760" y="2966760"/>
                <a:ext cx="101160" cy="5760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29480" y="2907000"/>
                <a:ext cx="101160" cy="5760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7620120" y="2982960"/>
                <a:ext cx="101520" cy="5760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7934040" y="3042720"/>
                <a:ext cx="101520" cy="5760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7781760" y="3037320"/>
                <a:ext cx="101160" cy="5760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7620120" y="3053520"/>
                <a:ext cx="101520" cy="5760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0" name=""/>
            <p:cNvGrpSpPr/>
            <p:nvPr/>
          </p:nvGrpSpPr>
          <p:grpSpPr>
            <a:xfrm>
              <a:off x="7562880" y="3294000"/>
              <a:ext cx="425520" cy="222480"/>
              <a:chOff x="7562880" y="3294000"/>
              <a:chExt cx="425520" cy="222480"/>
            </a:xfrm>
          </p:grpSpPr>
          <p:sp>
            <p:nvSpPr>
              <p:cNvPr id="911" name=""/>
              <p:cNvSpPr/>
              <p:nvPr/>
            </p:nvSpPr>
            <p:spPr>
              <a:xfrm>
                <a:off x="7886880" y="3299400"/>
                <a:ext cx="10152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7734600" y="3294000"/>
                <a:ext cx="10152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7877160" y="3376080"/>
                <a:ext cx="10188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7724880" y="3370680"/>
                <a:ext cx="10152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572600" y="3310200"/>
                <a:ext cx="10152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562880" y="3386880"/>
                <a:ext cx="10188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7877160" y="3447000"/>
                <a:ext cx="10188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724880" y="3441600"/>
                <a:ext cx="10152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7562880" y="3458160"/>
                <a:ext cx="10188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0" name=""/>
            <p:cNvSpPr/>
            <p:nvPr/>
          </p:nvSpPr>
          <p:spPr>
            <a:xfrm>
              <a:off x="7245360" y="3060720"/>
              <a:ext cx="257040" cy="142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188120" y="3268800"/>
              <a:ext cx="257400" cy="1411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2" name=""/>
            <p:cNvGrpSpPr/>
            <p:nvPr/>
          </p:nvGrpSpPr>
          <p:grpSpPr>
            <a:xfrm>
              <a:off x="7400880" y="1924200"/>
              <a:ext cx="425520" cy="221760"/>
              <a:chOff x="7400880" y="1924200"/>
              <a:chExt cx="425520" cy="221760"/>
            </a:xfrm>
          </p:grpSpPr>
          <p:sp>
            <p:nvSpPr>
              <p:cNvPr id="923" name=""/>
              <p:cNvSpPr/>
              <p:nvPr/>
            </p:nvSpPr>
            <p:spPr>
              <a:xfrm>
                <a:off x="7724880" y="192960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7572600" y="192420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715160" y="200592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7562880" y="200052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7410600" y="194040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7400880" y="201708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7715160" y="207720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562880" y="207180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7400880" y="208800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2" name=""/>
            <p:cNvSpPr/>
            <p:nvPr/>
          </p:nvSpPr>
          <p:spPr>
            <a:xfrm>
              <a:off x="6997680" y="2057400"/>
              <a:ext cx="257040" cy="1411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3" name=""/>
            <p:cNvGrpSpPr/>
            <p:nvPr/>
          </p:nvGrpSpPr>
          <p:grpSpPr>
            <a:xfrm>
              <a:off x="7010280" y="1552680"/>
              <a:ext cx="425520" cy="221760"/>
              <a:chOff x="7010280" y="1552680"/>
              <a:chExt cx="425520" cy="221760"/>
            </a:xfrm>
          </p:grpSpPr>
          <p:sp>
            <p:nvSpPr>
              <p:cNvPr id="934" name=""/>
              <p:cNvSpPr/>
              <p:nvPr/>
            </p:nvSpPr>
            <p:spPr>
              <a:xfrm>
                <a:off x="7334280" y="155808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182000" y="155268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324560" y="163440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172280" y="162900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020000" y="156888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010280" y="164556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324560" y="170568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172280" y="170028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010280" y="171648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3" name=""/>
            <p:cNvGrpSpPr/>
            <p:nvPr/>
          </p:nvGrpSpPr>
          <p:grpSpPr>
            <a:xfrm>
              <a:off x="2314440" y="1471680"/>
              <a:ext cx="425520" cy="221760"/>
              <a:chOff x="2314440" y="1471680"/>
              <a:chExt cx="425520" cy="221760"/>
            </a:xfrm>
          </p:grpSpPr>
          <p:sp>
            <p:nvSpPr>
              <p:cNvPr id="944" name=""/>
              <p:cNvSpPr/>
              <p:nvPr/>
            </p:nvSpPr>
            <p:spPr>
              <a:xfrm>
                <a:off x="2638440" y="147708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2486160" y="147168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2628720" y="155340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2476440" y="154800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324160" y="148788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2314440" y="156456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2628720" y="162468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2476440" y="161928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2314440" y="163548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3" name=""/>
            <p:cNvGrpSpPr/>
            <p:nvPr/>
          </p:nvGrpSpPr>
          <p:grpSpPr>
            <a:xfrm>
              <a:off x="1647720" y="1782720"/>
              <a:ext cx="425520" cy="221760"/>
              <a:chOff x="1647720" y="1782720"/>
              <a:chExt cx="425520" cy="221760"/>
            </a:xfrm>
          </p:grpSpPr>
          <p:sp>
            <p:nvSpPr>
              <p:cNvPr id="954" name=""/>
              <p:cNvSpPr/>
              <p:nvPr/>
            </p:nvSpPr>
            <p:spPr>
              <a:xfrm>
                <a:off x="1971720" y="178812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1819440" y="178272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1962000" y="186444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809720" y="185904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1657440" y="179892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1647720" y="187560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1962000" y="193572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1809720" y="193032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647720" y="194652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3" name=""/>
            <p:cNvGrpSpPr/>
            <p:nvPr/>
          </p:nvGrpSpPr>
          <p:grpSpPr>
            <a:xfrm>
              <a:off x="1781280" y="3627360"/>
              <a:ext cx="425520" cy="222480"/>
              <a:chOff x="1781280" y="3627360"/>
              <a:chExt cx="425520" cy="222480"/>
            </a:xfrm>
          </p:grpSpPr>
          <p:sp>
            <p:nvSpPr>
              <p:cNvPr id="964" name=""/>
              <p:cNvSpPr/>
              <p:nvPr/>
            </p:nvSpPr>
            <p:spPr>
              <a:xfrm>
                <a:off x="2105280" y="3632760"/>
                <a:ext cx="10152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1953000" y="3627360"/>
                <a:ext cx="10152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2095560" y="3709440"/>
                <a:ext cx="10188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943280" y="3704040"/>
                <a:ext cx="10152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1791000" y="3643560"/>
                <a:ext cx="10152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1781280" y="3720240"/>
                <a:ext cx="10188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2095560" y="3780360"/>
                <a:ext cx="10188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1943280" y="3774960"/>
                <a:ext cx="10152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1781280" y="3791520"/>
                <a:ext cx="10188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3" name=""/>
            <p:cNvSpPr/>
            <p:nvPr/>
          </p:nvSpPr>
          <p:spPr>
            <a:xfrm>
              <a:off x="6692760" y="1778040"/>
              <a:ext cx="257400" cy="142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120760" y="1936800"/>
              <a:ext cx="257400" cy="1411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5" name=""/>
            <p:cNvGrpSpPr/>
            <p:nvPr/>
          </p:nvGrpSpPr>
          <p:grpSpPr>
            <a:xfrm>
              <a:off x="7553160" y="3529080"/>
              <a:ext cx="425520" cy="221760"/>
              <a:chOff x="7553160" y="3529080"/>
              <a:chExt cx="425520" cy="221760"/>
            </a:xfrm>
          </p:grpSpPr>
          <p:sp>
            <p:nvSpPr>
              <p:cNvPr id="976" name=""/>
              <p:cNvSpPr/>
              <p:nvPr/>
            </p:nvSpPr>
            <p:spPr>
              <a:xfrm>
                <a:off x="7877160" y="353448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724880" y="352908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867440" y="361080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7715160" y="360540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7562880" y="354528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7553160" y="362196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7867440" y="368208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7715160" y="367668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553160" y="369288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5" name=""/>
            <p:cNvGrpSpPr/>
            <p:nvPr/>
          </p:nvGrpSpPr>
          <p:grpSpPr>
            <a:xfrm>
              <a:off x="7915320" y="2454120"/>
              <a:ext cx="425520" cy="220320"/>
              <a:chOff x="7915320" y="2454120"/>
              <a:chExt cx="425520" cy="220320"/>
            </a:xfrm>
          </p:grpSpPr>
          <p:sp>
            <p:nvSpPr>
              <p:cNvPr id="986" name=""/>
              <p:cNvSpPr/>
              <p:nvPr/>
            </p:nvSpPr>
            <p:spPr>
              <a:xfrm>
                <a:off x="8239320" y="2459520"/>
                <a:ext cx="101520" cy="5760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8087040" y="2454120"/>
                <a:ext cx="101520" cy="5760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8229600" y="2535480"/>
                <a:ext cx="101880" cy="5760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8077320" y="2530080"/>
                <a:ext cx="101520" cy="5760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7925040" y="2470320"/>
                <a:ext cx="101520" cy="5760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7915320" y="2546280"/>
                <a:ext cx="101880" cy="5760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8229600" y="2606040"/>
                <a:ext cx="101880" cy="5760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8077320" y="2600640"/>
                <a:ext cx="101520" cy="5760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7915320" y="2616840"/>
                <a:ext cx="101880" cy="5760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5" name=""/>
            <p:cNvSpPr/>
            <p:nvPr/>
          </p:nvSpPr>
          <p:spPr>
            <a:xfrm>
              <a:off x="7412400" y="3879720"/>
              <a:ext cx="88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skt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689880" y="334980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rv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372360" y="2639880"/>
              <a:ext cx="89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ust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172840" y="1254240"/>
              <a:ext cx="1538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ssive Clus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19A9-2059-4752-AEAB-95019A533575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E631B6-D2A6-4C12-94C5-39FF9A63C4D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merging Distributed System Architecture Spanning Processing and Acces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1133640" y="5734080"/>
            <a:ext cx="7210440" cy="485640"/>
          </a:xfrm>
          <a:prstGeom prst="rect">
            <a:avLst/>
          </a:prstGeom>
          <a:solidFill>
            <a:srgbClr val="fc0128"/>
          </a:solidFill>
          <a:ln w="9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uting and Communications Platform: Millennium/N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133640" y="5143680"/>
            <a:ext cx="7210440" cy="485640"/>
          </a:xfrm>
          <a:prstGeom prst="rect">
            <a:avLst/>
          </a:prstGeom>
          <a:solidFill>
            <a:srgbClr val="00ae00"/>
          </a:solidFill>
          <a:ln w="9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tributed Computing Services: NIN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133640" y="4562640"/>
            <a:ext cx="3781440" cy="485640"/>
          </a:xfrm>
          <a:prstGeom prst="rect">
            <a:avLst/>
          </a:prstGeom>
          <a:solidFill>
            <a:srgbClr val="00ae00"/>
          </a:solidFill>
          <a:ln w="9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 Services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133640" y="3990960"/>
            <a:ext cx="3790800" cy="485640"/>
          </a:xfrm>
          <a:prstGeom prst="rect">
            <a:avLst/>
          </a:prstGeom>
          <a:solidFill>
            <a:srgbClr val="00ae00"/>
          </a:solidFill>
          <a:ln w="9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SH Media Processing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133640" y="2581200"/>
            <a:ext cx="2724120" cy="1409760"/>
          </a:xfrm>
          <a:prstGeom prst="rect">
            <a:avLst/>
          </a:prstGeom>
          <a:solidFill>
            <a:srgbClr val="618ffd"/>
          </a:solidFill>
          <a:ln w="9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stributed Videoconferen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oom-scale Collabo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038560" y="3981600"/>
            <a:ext cx="3305520" cy="1066680"/>
          </a:xfrm>
          <a:prstGeom prst="rect">
            <a:avLst/>
          </a:prstGeom>
          <a:solidFill>
            <a:srgbClr val="00ae00"/>
          </a:solidFill>
          <a:ln w="9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end Exten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xy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952800" y="3247920"/>
            <a:ext cx="4391280" cy="647640"/>
          </a:xfrm>
          <a:prstGeom prst="rect">
            <a:avLst/>
          </a:prstGeom>
          <a:solidFill>
            <a:srgbClr val="00ae00"/>
          </a:solidFill>
          <a:ln w="9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CEBE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uter-Telephony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952800" y="2590920"/>
            <a:ext cx="4391280" cy="647640"/>
          </a:xfrm>
          <a:prstGeom prst="rect">
            <a:avLst/>
          </a:prstGeom>
          <a:solidFill>
            <a:srgbClr val="618ffd"/>
          </a:solidFill>
          <a:ln w="9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eech and L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war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143000" y="1981080"/>
            <a:ext cx="7210440" cy="514440"/>
          </a:xfrm>
          <a:prstGeom prst="rect">
            <a:avLst/>
          </a:prstGeom>
          <a:solidFill>
            <a:srgbClr val="618ffd"/>
          </a:solidFill>
          <a:ln w="9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sonal Information Management and “Smart Spac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F25C-E23A-493A-BF9D-C68B215A7023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3E331C-9163-44A7-8297-F8EAAF897A59}" type="datetime1">
              <a:rPr lang="en-US"/>
              <a:t>07/29/26</a:t>
            </a:fld>
          </a:p>
        </p:txBody>
      </p:sp>
    </p:spTree>
  </p:cSld>
  <p:transition>
    <p:pull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NINJA and ICEBERG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NJA: Distributed Service Archit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 model based on Operators, Paths, Serv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tform model based on Units, Active Routers, Ba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EBERG: Computer-Telephony Integ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-based backbone for cellular networ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bility and service interoperability in the context of diverse access networ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 issues: GPRS scheduling and IP scaling for mobile telephony applic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services: Smart Spaces and PI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F38F-1643-4E38-B425-3A98AF4460D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D4F8BB-A0A9-4CED-878B-787A27FA38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periment: PDA Bazaar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loy/use pervasive computing infrastructure in Soda Ha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Ninja iSpa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 initial community (200 PP3 / Workpad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ch and evalu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broadcast chann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minars, lecture cont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s/sports/stoc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d inform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endars, room reserv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laborative note-taking and brainstornm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rt spaces and device contr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46E6-0071-46A6-A822-546CF62E540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96F514-5B13-4A22-91A6-75E4BB759A0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Berkeley Tradition of Experimental Computing Systems Research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pSp>
        <p:nvGrpSpPr>
          <p:cNvPr id="1014" name=""/>
          <p:cNvGrpSpPr/>
          <p:nvPr/>
        </p:nvGrpSpPr>
        <p:grpSpPr>
          <a:xfrm>
            <a:off x="743760" y="1523880"/>
            <a:ext cx="4597920" cy="3468600"/>
            <a:chOff x="743760" y="1523880"/>
            <a:chExt cx="4597920" cy="3468600"/>
          </a:xfrm>
        </p:grpSpPr>
        <p:sp>
          <p:nvSpPr>
            <p:cNvPr id="1015" name=""/>
            <p:cNvSpPr/>
            <p:nvPr/>
          </p:nvSpPr>
          <p:spPr>
            <a:xfrm flipH="1">
              <a:off x="2580480" y="1523880"/>
              <a:ext cx="2760840" cy="3468600"/>
            </a:xfrm>
            <a:custGeom>
              <a:avLst/>
              <a:gdLst/>
              <a:ahLst/>
              <a:rect l="l" t="t" r="r" b="b"/>
              <a:pathLst>
                <a:path w="1739" h="2185">
                  <a:moveTo>
                    <a:pt x="657" y="286"/>
                  </a:moveTo>
                  <a:lnTo>
                    <a:pt x="679" y="297"/>
                  </a:lnTo>
                  <a:lnTo>
                    <a:pt x="710" y="297"/>
                  </a:lnTo>
                  <a:lnTo>
                    <a:pt x="742" y="308"/>
                  </a:lnTo>
                  <a:lnTo>
                    <a:pt x="763" y="308"/>
                  </a:lnTo>
                  <a:lnTo>
                    <a:pt x="795" y="318"/>
                  </a:lnTo>
                  <a:lnTo>
                    <a:pt x="816" y="329"/>
                  </a:lnTo>
                  <a:lnTo>
                    <a:pt x="848" y="329"/>
                  </a:lnTo>
                  <a:lnTo>
                    <a:pt x="870" y="339"/>
                  </a:lnTo>
                  <a:lnTo>
                    <a:pt x="901" y="350"/>
                  </a:lnTo>
                  <a:lnTo>
                    <a:pt x="933" y="361"/>
                  </a:lnTo>
                  <a:lnTo>
                    <a:pt x="954" y="371"/>
                  </a:lnTo>
                  <a:lnTo>
                    <a:pt x="986" y="382"/>
                  </a:lnTo>
                  <a:lnTo>
                    <a:pt x="1018" y="403"/>
                  </a:lnTo>
                  <a:lnTo>
                    <a:pt x="1039" y="414"/>
                  </a:lnTo>
                  <a:lnTo>
                    <a:pt x="1071" y="424"/>
                  </a:lnTo>
                  <a:lnTo>
                    <a:pt x="1092" y="446"/>
                  </a:lnTo>
                  <a:lnTo>
                    <a:pt x="1113" y="456"/>
                  </a:lnTo>
                  <a:lnTo>
                    <a:pt x="1135" y="467"/>
                  </a:lnTo>
                  <a:lnTo>
                    <a:pt x="1167" y="488"/>
                  </a:lnTo>
                  <a:lnTo>
                    <a:pt x="1188" y="509"/>
                  </a:lnTo>
                  <a:lnTo>
                    <a:pt x="1220" y="520"/>
                  </a:lnTo>
                  <a:lnTo>
                    <a:pt x="1241" y="541"/>
                  </a:lnTo>
                  <a:lnTo>
                    <a:pt x="1262" y="562"/>
                  </a:lnTo>
                  <a:lnTo>
                    <a:pt x="1304" y="594"/>
                  </a:lnTo>
                  <a:lnTo>
                    <a:pt x="1336" y="626"/>
                  </a:lnTo>
                  <a:lnTo>
                    <a:pt x="1368" y="647"/>
                  </a:lnTo>
                  <a:lnTo>
                    <a:pt x="1400" y="690"/>
                  </a:lnTo>
                  <a:lnTo>
                    <a:pt x="1421" y="721"/>
                  </a:lnTo>
                  <a:lnTo>
                    <a:pt x="1453" y="753"/>
                  </a:lnTo>
                  <a:lnTo>
                    <a:pt x="1485" y="785"/>
                  </a:lnTo>
                  <a:lnTo>
                    <a:pt x="1506" y="817"/>
                  </a:lnTo>
                  <a:lnTo>
                    <a:pt x="1527" y="859"/>
                  </a:lnTo>
                  <a:lnTo>
                    <a:pt x="1548" y="891"/>
                  </a:lnTo>
                  <a:lnTo>
                    <a:pt x="1570" y="934"/>
                  </a:lnTo>
                  <a:lnTo>
                    <a:pt x="1591" y="965"/>
                  </a:lnTo>
                  <a:lnTo>
                    <a:pt x="1612" y="1008"/>
                  </a:lnTo>
                  <a:lnTo>
                    <a:pt x="1633" y="1050"/>
                  </a:lnTo>
                  <a:lnTo>
                    <a:pt x="1654" y="1093"/>
                  </a:lnTo>
                  <a:lnTo>
                    <a:pt x="1665" y="1135"/>
                  </a:lnTo>
                  <a:lnTo>
                    <a:pt x="1686" y="1199"/>
                  </a:lnTo>
                  <a:lnTo>
                    <a:pt x="1697" y="1252"/>
                  </a:lnTo>
                  <a:lnTo>
                    <a:pt x="1708" y="1305"/>
                  </a:lnTo>
                  <a:lnTo>
                    <a:pt x="1718" y="1358"/>
                  </a:lnTo>
                  <a:lnTo>
                    <a:pt x="1729" y="1422"/>
                  </a:lnTo>
                  <a:lnTo>
                    <a:pt x="1729" y="1496"/>
                  </a:lnTo>
                  <a:lnTo>
                    <a:pt x="1739" y="1560"/>
                  </a:lnTo>
                  <a:lnTo>
                    <a:pt x="1729" y="1613"/>
                  </a:lnTo>
                  <a:lnTo>
                    <a:pt x="1729" y="1666"/>
                  </a:lnTo>
                  <a:lnTo>
                    <a:pt x="1718" y="1719"/>
                  </a:lnTo>
                  <a:lnTo>
                    <a:pt x="1718" y="1782"/>
                  </a:lnTo>
                  <a:lnTo>
                    <a:pt x="1708" y="1835"/>
                  </a:lnTo>
                  <a:lnTo>
                    <a:pt x="1686" y="1899"/>
                  </a:lnTo>
                  <a:lnTo>
                    <a:pt x="1665" y="1963"/>
                  </a:lnTo>
                  <a:lnTo>
                    <a:pt x="1644" y="2016"/>
                  </a:lnTo>
                  <a:lnTo>
                    <a:pt x="1623" y="2079"/>
                  </a:lnTo>
                  <a:lnTo>
                    <a:pt x="1591" y="2132"/>
                  </a:lnTo>
                  <a:lnTo>
                    <a:pt x="1559" y="2185"/>
                  </a:lnTo>
                  <a:lnTo>
                    <a:pt x="1050" y="1888"/>
                  </a:lnTo>
                  <a:lnTo>
                    <a:pt x="1071" y="1835"/>
                  </a:lnTo>
                  <a:lnTo>
                    <a:pt x="1092" y="1793"/>
                  </a:lnTo>
                  <a:lnTo>
                    <a:pt x="1103" y="1750"/>
                  </a:lnTo>
                  <a:lnTo>
                    <a:pt x="1113" y="1697"/>
                  </a:lnTo>
                  <a:lnTo>
                    <a:pt x="1124" y="1655"/>
                  </a:lnTo>
                  <a:lnTo>
                    <a:pt x="1124" y="1623"/>
                  </a:lnTo>
                  <a:lnTo>
                    <a:pt x="1135" y="1581"/>
                  </a:lnTo>
                  <a:lnTo>
                    <a:pt x="1135" y="1538"/>
                  </a:lnTo>
                  <a:lnTo>
                    <a:pt x="1135" y="1485"/>
                  </a:lnTo>
                  <a:lnTo>
                    <a:pt x="1124" y="1443"/>
                  </a:lnTo>
                  <a:lnTo>
                    <a:pt x="1113" y="1390"/>
                  </a:lnTo>
                  <a:lnTo>
                    <a:pt x="1103" y="1347"/>
                  </a:lnTo>
                  <a:lnTo>
                    <a:pt x="1082" y="1294"/>
                  </a:lnTo>
                  <a:lnTo>
                    <a:pt x="1071" y="1252"/>
                  </a:lnTo>
                  <a:lnTo>
                    <a:pt x="1050" y="1220"/>
                  </a:lnTo>
                  <a:lnTo>
                    <a:pt x="1029" y="1188"/>
                  </a:lnTo>
                  <a:lnTo>
                    <a:pt x="1007" y="1156"/>
                  </a:lnTo>
                  <a:lnTo>
                    <a:pt x="986" y="1135"/>
                  </a:lnTo>
                  <a:lnTo>
                    <a:pt x="965" y="1114"/>
                  </a:lnTo>
                  <a:lnTo>
                    <a:pt x="944" y="1082"/>
                  </a:lnTo>
                  <a:lnTo>
                    <a:pt x="923" y="1072"/>
                  </a:lnTo>
                  <a:lnTo>
                    <a:pt x="901" y="1040"/>
                  </a:lnTo>
                  <a:lnTo>
                    <a:pt x="880" y="1029"/>
                  </a:lnTo>
                  <a:lnTo>
                    <a:pt x="859" y="1008"/>
                  </a:lnTo>
                  <a:lnTo>
                    <a:pt x="827" y="987"/>
                  </a:lnTo>
                  <a:lnTo>
                    <a:pt x="795" y="965"/>
                  </a:lnTo>
                  <a:lnTo>
                    <a:pt x="774" y="955"/>
                  </a:lnTo>
                  <a:lnTo>
                    <a:pt x="742" y="934"/>
                  </a:lnTo>
                  <a:lnTo>
                    <a:pt x="710" y="923"/>
                  </a:lnTo>
                  <a:lnTo>
                    <a:pt x="689" y="912"/>
                  </a:lnTo>
                  <a:lnTo>
                    <a:pt x="657" y="902"/>
                  </a:lnTo>
                  <a:lnTo>
                    <a:pt x="615" y="891"/>
                  </a:lnTo>
                  <a:lnTo>
                    <a:pt x="583" y="891"/>
                  </a:lnTo>
                  <a:lnTo>
                    <a:pt x="541" y="881"/>
                  </a:lnTo>
                  <a:lnTo>
                    <a:pt x="509" y="881"/>
                  </a:lnTo>
                  <a:lnTo>
                    <a:pt x="488" y="881"/>
                  </a:lnTo>
                  <a:lnTo>
                    <a:pt x="488" y="1199"/>
                  </a:lnTo>
                  <a:lnTo>
                    <a:pt x="0" y="605"/>
                  </a:lnTo>
                  <a:lnTo>
                    <a:pt x="488" y="0"/>
                  </a:lnTo>
                  <a:lnTo>
                    <a:pt x="488" y="276"/>
                  </a:lnTo>
                  <a:lnTo>
                    <a:pt x="509" y="276"/>
                  </a:lnTo>
                  <a:lnTo>
                    <a:pt x="551" y="276"/>
                  </a:lnTo>
                  <a:lnTo>
                    <a:pt x="583" y="276"/>
                  </a:lnTo>
                  <a:lnTo>
                    <a:pt x="626" y="286"/>
                  </a:lnTo>
                  <a:lnTo>
                    <a:pt x="657" y="28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43760" y="1888920"/>
              <a:ext cx="185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Evaluat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57800" y="2309400"/>
              <a:ext cx="232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xisting technolo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o underst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ts weaknes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543600" y="4084560"/>
            <a:ext cx="5608080" cy="2537640"/>
            <a:chOff x="543600" y="4084560"/>
            <a:chExt cx="5608080" cy="2537640"/>
          </a:xfrm>
        </p:grpSpPr>
        <p:sp>
          <p:nvSpPr>
            <p:cNvPr id="1019" name=""/>
            <p:cNvSpPr/>
            <p:nvPr/>
          </p:nvSpPr>
          <p:spPr>
            <a:xfrm flipH="1">
              <a:off x="2479680" y="4084560"/>
              <a:ext cx="3672000" cy="1919160"/>
            </a:xfrm>
            <a:custGeom>
              <a:avLst/>
              <a:gdLst/>
              <a:ahLst/>
              <a:rect l="l" t="t" r="r" b="b"/>
              <a:pathLst>
                <a:path w="2313" h="1209">
                  <a:moveTo>
                    <a:pt x="1157" y="1198"/>
                  </a:moveTo>
                  <a:lnTo>
                    <a:pt x="1189" y="1188"/>
                  </a:lnTo>
                  <a:lnTo>
                    <a:pt x="1220" y="1188"/>
                  </a:lnTo>
                  <a:lnTo>
                    <a:pt x="1252" y="1177"/>
                  </a:lnTo>
                  <a:lnTo>
                    <a:pt x="1273" y="1177"/>
                  </a:lnTo>
                  <a:lnTo>
                    <a:pt x="1295" y="1167"/>
                  </a:lnTo>
                  <a:lnTo>
                    <a:pt x="1326" y="1156"/>
                  </a:lnTo>
                  <a:lnTo>
                    <a:pt x="1348" y="1156"/>
                  </a:lnTo>
                  <a:lnTo>
                    <a:pt x="1369" y="1145"/>
                  </a:lnTo>
                  <a:lnTo>
                    <a:pt x="1401" y="1135"/>
                  </a:lnTo>
                  <a:lnTo>
                    <a:pt x="1433" y="1124"/>
                  </a:lnTo>
                  <a:lnTo>
                    <a:pt x="1464" y="1114"/>
                  </a:lnTo>
                  <a:lnTo>
                    <a:pt x="1486" y="1092"/>
                  </a:lnTo>
                  <a:lnTo>
                    <a:pt x="1517" y="1082"/>
                  </a:lnTo>
                  <a:lnTo>
                    <a:pt x="1549" y="1071"/>
                  </a:lnTo>
                  <a:lnTo>
                    <a:pt x="1570" y="1060"/>
                  </a:lnTo>
                  <a:lnTo>
                    <a:pt x="1592" y="1039"/>
                  </a:lnTo>
                  <a:lnTo>
                    <a:pt x="1623" y="1029"/>
                  </a:lnTo>
                  <a:lnTo>
                    <a:pt x="1645" y="1007"/>
                  </a:lnTo>
                  <a:lnTo>
                    <a:pt x="1666" y="997"/>
                  </a:lnTo>
                  <a:lnTo>
                    <a:pt x="1698" y="976"/>
                  </a:lnTo>
                  <a:lnTo>
                    <a:pt x="1719" y="954"/>
                  </a:lnTo>
                  <a:lnTo>
                    <a:pt x="1740" y="944"/>
                  </a:lnTo>
                  <a:lnTo>
                    <a:pt x="1761" y="923"/>
                  </a:lnTo>
                  <a:lnTo>
                    <a:pt x="1804" y="901"/>
                  </a:lnTo>
                  <a:lnTo>
                    <a:pt x="1836" y="870"/>
                  </a:lnTo>
                  <a:lnTo>
                    <a:pt x="1867" y="838"/>
                  </a:lnTo>
                  <a:lnTo>
                    <a:pt x="1899" y="795"/>
                  </a:lnTo>
                  <a:lnTo>
                    <a:pt x="1931" y="763"/>
                  </a:lnTo>
                  <a:lnTo>
                    <a:pt x="1952" y="732"/>
                  </a:lnTo>
                  <a:lnTo>
                    <a:pt x="1984" y="700"/>
                  </a:lnTo>
                  <a:lnTo>
                    <a:pt x="2005" y="668"/>
                  </a:lnTo>
                  <a:lnTo>
                    <a:pt x="2027" y="626"/>
                  </a:lnTo>
                  <a:lnTo>
                    <a:pt x="2058" y="583"/>
                  </a:lnTo>
                  <a:lnTo>
                    <a:pt x="2313" y="732"/>
                  </a:lnTo>
                  <a:lnTo>
                    <a:pt x="2069" y="0"/>
                  </a:lnTo>
                  <a:lnTo>
                    <a:pt x="1273" y="137"/>
                  </a:lnTo>
                  <a:lnTo>
                    <a:pt x="1539" y="286"/>
                  </a:lnTo>
                  <a:lnTo>
                    <a:pt x="1517" y="318"/>
                  </a:lnTo>
                  <a:lnTo>
                    <a:pt x="1496" y="350"/>
                  </a:lnTo>
                  <a:lnTo>
                    <a:pt x="1475" y="371"/>
                  </a:lnTo>
                  <a:lnTo>
                    <a:pt x="1443" y="403"/>
                  </a:lnTo>
                  <a:lnTo>
                    <a:pt x="1433" y="424"/>
                  </a:lnTo>
                  <a:lnTo>
                    <a:pt x="1411" y="445"/>
                  </a:lnTo>
                  <a:lnTo>
                    <a:pt x="1380" y="456"/>
                  </a:lnTo>
                  <a:lnTo>
                    <a:pt x="1358" y="477"/>
                  </a:lnTo>
                  <a:lnTo>
                    <a:pt x="1326" y="498"/>
                  </a:lnTo>
                  <a:lnTo>
                    <a:pt x="1295" y="519"/>
                  </a:lnTo>
                  <a:lnTo>
                    <a:pt x="1273" y="530"/>
                  </a:lnTo>
                  <a:lnTo>
                    <a:pt x="1242" y="551"/>
                  </a:lnTo>
                  <a:lnTo>
                    <a:pt x="1210" y="562"/>
                  </a:lnTo>
                  <a:lnTo>
                    <a:pt x="1189" y="572"/>
                  </a:lnTo>
                  <a:lnTo>
                    <a:pt x="1157" y="583"/>
                  </a:lnTo>
                  <a:lnTo>
                    <a:pt x="1125" y="594"/>
                  </a:lnTo>
                  <a:lnTo>
                    <a:pt x="1082" y="594"/>
                  </a:lnTo>
                  <a:lnTo>
                    <a:pt x="1051" y="594"/>
                  </a:lnTo>
                  <a:lnTo>
                    <a:pt x="987" y="604"/>
                  </a:lnTo>
                  <a:lnTo>
                    <a:pt x="913" y="604"/>
                  </a:lnTo>
                  <a:lnTo>
                    <a:pt x="860" y="594"/>
                  </a:lnTo>
                  <a:lnTo>
                    <a:pt x="807" y="583"/>
                  </a:lnTo>
                  <a:lnTo>
                    <a:pt x="743" y="562"/>
                  </a:lnTo>
                  <a:lnTo>
                    <a:pt x="690" y="541"/>
                  </a:lnTo>
                  <a:lnTo>
                    <a:pt x="637" y="519"/>
                  </a:lnTo>
                  <a:lnTo>
                    <a:pt x="595" y="488"/>
                  </a:lnTo>
                  <a:lnTo>
                    <a:pt x="552" y="445"/>
                  </a:lnTo>
                  <a:lnTo>
                    <a:pt x="0" y="763"/>
                  </a:lnTo>
                  <a:lnTo>
                    <a:pt x="22" y="785"/>
                  </a:lnTo>
                  <a:lnTo>
                    <a:pt x="54" y="816"/>
                  </a:lnTo>
                  <a:lnTo>
                    <a:pt x="85" y="848"/>
                  </a:lnTo>
                  <a:lnTo>
                    <a:pt x="107" y="870"/>
                  </a:lnTo>
                  <a:lnTo>
                    <a:pt x="138" y="891"/>
                  </a:lnTo>
                  <a:lnTo>
                    <a:pt x="170" y="923"/>
                  </a:lnTo>
                  <a:lnTo>
                    <a:pt x="191" y="944"/>
                  </a:lnTo>
                  <a:lnTo>
                    <a:pt x="223" y="965"/>
                  </a:lnTo>
                  <a:lnTo>
                    <a:pt x="255" y="986"/>
                  </a:lnTo>
                  <a:lnTo>
                    <a:pt x="287" y="1007"/>
                  </a:lnTo>
                  <a:lnTo>
                    <a:pt x="319" y="1029"/>
                  </a:lnTo>
                  <a:lnTo>
                    <a:pt x="351" y="1050"/>
                  </a:lnTo>
                  <a:lnTo>
                    <a:pt x="382" y="1060"/>
                  </a:lnTo>
                  <a:lnTo>
                    <a:pt x="414" y="1082"/>
                  </a:lnTo>
                  <a:lnTo>
                    <a:pt x="446" y="1092"/>
                  </a:lnTo>
                  <a:lnTo>
                    <a:pt x="488" y="1114"/>
                  </a:lnTo>
                  <a:lnTo>
                    <a:pt x="531" y="1124"/>
                  </a:lnTo>
                  <a:lnTo>
                    <a:pt x="563" y="1145"/>
                  </a:lnTo>
                  <a:lnTo>
                    <a:pt x="595" y="1156"/>
                  </a:lnTo>
                  <a:lnTo>
                    <a:pt x="626" y="1167"/>
                  </a:lnTo>
                  <a:lnTo>
                    <a:pt x="658" y="1177"/>
                  </a:lnTo>
                  <a:lnTo>
                    <a:pt x="701" y="1177"/>
                  </a:lnTo>
                  <a:lnTo>
                    <a:pt x="732" y="1188"/>
                  </a:lnTo>
                  <a:lnTo>
                    <a:pt x="775" y="1198"/>
                  </a:lnTo>
                  <a:lnTo>
                    <a:pt x="817" y="1198"/>
                  </a:lnTo>
                  <a:lnTo>
                    <a:pt x="860" y="1209"/>
                  </a:lnTo>
                  <a:lnTo>
                    <a:pt x="892" y="1209"/>
                  </a:lnTo>
                  <a:lnTo>
                    <a:pt x="934" y="1209"/>
                  </a:lnTo>
                  <a:lnTo>
                    <a:pt x="976" y="1209"/>
                  </a:lnTo>
                  <a:lnTo>
                    <a:pt x="1008" y="1209"/>
                  </a:lnTo>
                  <a:lnTo>
                    <a:pt x="1051" y="1209"/>
                  </a:lnTo>
                  <a:lnTo>
                    <a:pt x="1093" y="1198"/>
                  </a:lnTo>
                  <a:lnTo>
                    <a:pt x="1125" y="1198"/>
                  </a:lnTo>
                  <a:lnTo>
                    <a:pt x="1157" y="119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43600" y="5243400"/>
              <a:ext cx="1535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eplo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44320" y="5705280"/>
              <a:ext cx="325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nderstand implemen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plexities and sources 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formance gain/lo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2" name=""/>
          <p:cNvGrpSpPr/>
          <p:nvPr/>
        </p:nvGrpSpPr>
        <p:grpSpPr>
          <a:xfrm>
            <a:off x="6514560" y="1701720"/>
            <a:ext cx="2628000" cy="1614960"/>
            <a:chOff x="6514560" y="1701720"/>
            <a:chExt cx="2628000" cy="1614960"/>
          </a:xfrm>
        </p:grpSpPr>
        <p:sp>
          <p:nvSpPr>
            <p:cNvPr id="1023" name=""/>
            <p:cNvSpPr/>
            <p:nvPr/>
          </p:nvSpPr>
          <p:spPr>
            <a:xfrm>
              <a:off x="6514560" y="1701720"/>
              <a:ext cx="243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Time Trave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573600" y="2125440"/>
              <a:ext cx="256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sing today’s to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xpensive technolo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o proto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omorrow’s syste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5" name=""/>
          <p:cNvGrpSpPr/>
          <p:nvPr/>
        </p:nvGrpSpPr>
        <p:grpSpPr>
          <a:xfrm>
            <a:off x="2580840" y="1523880"/>
            <a:ext cx="6059520" cy="3906720"/>
            <a:chOff x="2580840" y="1523880"/>
            <a:chExt cx="6059520" cy="3906720"/>
          </a:xfrm>
        </p:grpSpPr>
        <p:sp>
          <p:nvSpPr>
            <p:cNvPr id="1026" name=""/>
            <p:cNvSpPr/>
            <p:nvPr/>
          </p:nvSpPr>
          <p:spPr>
            <a:xfrm flipH="1">
              <a:off x="4920480" y="1995120"/>
              <a:ext cx="1870200" cy="3435480"/>
            </a:xfrm>
            <a:custGeom>
              <a:avLst/>
              <a:gdLst/>
              <a:ahLst/>
              <a:rect l="l" t="t" r="r" b="b"/>
              <a:pathLst>
                <a:path w="1178" h="2164">
                  <a:moveTo>
                    <a:pt x="1178" y="0"/>
                  </a:moveTo>
                  <a:lnTo>
                    <a:pt x="1146" y="0"/>
                  </a:lnTo>
                  <a:lnTo>
                    <a:pt x="1125" y="11"/>
                  </a:lnTo>
                  <a:lnTo>
                    <a:pt x="1093" y="11"/>
                  </a:lnTo>
                  <a:lnTo>
                    <a:pt x="1061" y="21"/>
                  </a:lnTo>
                  <a:lnTo>
                    <a:pt x="1040" y="32"/>
                  </a:lnTo>
                  <a:lnTo>
                    <a:pt x="1019" y="32"/>
                  </a:lnTo>
                  <a:lnTo>
                    <a:pt x="987" y="42"/>
                  </a:lnTo>
                  <a:lnTo>
                    <a:pt x="966" y="53"/>
                  </a:lnTo>
                  <a:lnTo>
                    <a:pt x="934" y="64"/>
                  </a:lnTo>
                  <a:lnTo>
                    <a:pt x="902" y="74"/>
                  </a:lnTo>
                  <a:lnTo>
                    <a:pt x="881" y="85"/>
                  </a:lnTo>
                  <a:lnTo>
                    <a:pt x="849" y="96"/>
                  </a:lnTo>
                  <a:lnTo>
                    <a:pt x="817" y="106"/>
                  </a:lnTo>
                  <a:lnTo>
                    <a:pt x="796" y="127"/>
                  </a:lnTo>
                  <a:lnTo>
                    <a:pt x="764" y="138"/>
                  </a:lnTo>
                  <a:lnTo>
                    <a:pt x="743" y="149"/>
                  </a:lnTo>
                  <a:lnTo>
                    <a:pt x="722" y="170"/>
                  </a:lnTo>
                  <a:lnTo>
                    <a:pt x="701" y="180"/>
                  </a:lnTo>
                  <a:lnTo>
                    <a:pt x="669" y="191"/>
                  </a:lnTo>
                  <a:lnTo>
                    <a:pt x="647" y="212"/>
                  </a:lnTo>
                  <a:lnTo>
                    <a:pt x="616" y="233"/>
                  </a:lnTo>
                  <a:lnTo>
                    <a:pt x="594" y="255"/>
                  </a:lnTo>
                  <a:lnTo>
                    <a:pt x="573" y="265"/>
                  </a:lnTo>
                  <a:lnTo>
                    <a:pt x="531" y="297"/>
                  </a:lnTo>
                  <a:lnTo>
                    <a:pt x="499" y="340"/>
                  </a:lnTo>
                  <a:lnTo>
                    <a:pt x="467" y="361"/>
                  </a:lnTo>
                  <a:lnTo>
                    <a:pt x="435" y="403"/>
                  </a:lnTo>
                  <a:lnTo>
                    <a:pt x="414" y="424"/>
                  </a:lnTo>
                  <a:lnTo>
                    <a:pt x="382" y="456"/>
                  </a:lnTo>
                  <a:lnTo>
                    <a:pt x="350" y="499"/>
                  </a:lnTo>
                  <a:lnTo>
                    <a:pt x="329" y="531"/>
                  </a:lnTo>
                  <a:lnTo>
                    <a:pt x="308" y="562"/>
                  </a:lnTo>
                  <a:lnTo>
                    <a:pt x="287" y="605"/>
                  </a:lnTo>
                  <a:lnTo>
                    <a:pt x="255" y="647"/>
                  </a:lnTo>
                  <a:lnTo>
                    <a:pt x="234" y="679"/>
                  </a:lnTo>
                  <a:lnTo>
                    <a:pt x="223" y="721"/>
                  </a:lnTo>
                  <a:lnTo>
                    <a:pt x="202" y="764"/>
                  </a:lnTo>
                  <a:lnTo>
                    <a:pt x="181" y="806"/>
                  </a:lnTo>
                  <a:lnTo>
                    <a:pt x="170" y="849"/>
                  </a:lnTo>
                  <a:lnTo>
                    <a:pt x="149" y="902"/>
                  </a:lnTo>
                  <a:lnTo>
                    <a:pt x="138" y="955"/>
                  </a:lnTo>
                  <a:lnTo>
                    <a:pt x="128" y="1008"/>
                  </a:lnTo>
                  <a:lnTo>
                    <a:pt x="117" y="1061"/>
                  </a:lnTo>
                  <a:lnTo>
                    <a:pt x="106" y="1125"/>
                  </a:lnTo>
                  <a:lnTo>
                    <a:pt x="96" y="1199"/>
                  </a:lnTo>
                  <a:lnTo>
                    <a:pt x="96" y="1263"/>
                  </a:lnTo>
                  <a:lnTo>
                    <a:pt x="96" y="1326"/>
                  </a:lnTo>
                  <a:lnTo>
                    <a:pt x="106" y="1379"/>
                  </a:lnTo>
                  <a:lnTo>
                    <a:pt x="117" y="1432"/>
                  </a:lnTo>
                  <a:lnTo>
                    <a:pt x="117" y="1485"/>
                  </a:lnTo>
                  <a:lnTo>
                    <a:pt x="128" y="1549"/>
                  </a:lnTo>
                  <a:lnTo>
                    <a:pt x="149" y="1602"/>
                  </a:lnTo>
                  <a:lnTo>
                    <a:pt x="170" y="1666"/>
                  </a:lnTo>
                  <a:lnTo>
                    <a:pt x="191" y="1729"/>
                  </a:lnTo>
                  <a:lnTo>
                    <a:pt x="213" y="1782"/>
                  </a:lnTo>
                  <a:lnTo>
                    <a:pt x="234" y="1835"/>
                  </a:lnTo>
                  <a:lnTo>
                    <a:pt x="266" y="1888"/>
                  </a:lnTo>
                  <a:lnTo>
                    <a:pt x="0" y="2037"/>
                  </a:lnTo>
                  <a:lnTo>
                    <a:pt x="807" y="2164"/>
                  </a:lnTo>
                  <a:lnTo>
                    <a:pt x="1104" y="1422"/>
                  </a:lnTo>
                  <a:lnTo>
                    <a:pt x="796" y="1591"/>
                  </a:lnTo>
                  <a:lnTo>
                    <a:pt x="764" y="1538"/>
                  </a:lnTo>
                  <a:lnTo>
                    <a:pt x="743" y="1496"/>
                  </a:lnTo>
                  <a:lnTo>
                    <a:pt x="732" y="1453"/>
                  </a:lnTo>
                  <a:lnTo>
                    <a:pt x="722" y="1411"/>
                  </a:lnTo>
                  <a:lnTo>
                    <a:pt x="711" y="1369"/>
                  </a:lnTo>
                  <a:lnTo>
                    <a:pt x="711" y="1326"/>
                  </a:lnTo>
                  <a:lnTo>
                    <a:pt x="701" y="1284"/>
                  </a:lnTo>
                  <a:lnTo>
                    <a:pt x="701" y="1241"/>
                  </a:lnTo>
                  <a:lnTo>
                    <a:pt x="701" y="1199"/>
                  </a:lnTo>
                  <a:lnTo>
                    <a:pt x="711" y="1146"/>
                  </a:lnTo>
                  <a:lnTo>
                    <a:pt x="722" y="1093"/>
                  </a:lnTo>
                  <a:lnTo>
                    <a:pt x="732" y="1050"/>
                  </a:lnTo>
                  <a:lnTo>
                    <a:pt x="754" y="1008"/>
                  </a:lnTo>
                  <a:lnTo>
                    <a:pt x="764" y="965"/>
                  </a:lnTo>
                  <a:lnTo>
                    <a:pt x="785" y="923"/>
                  </a:lnTo>
                  <a:lnTo>
                    <a:pt x="807" y="891"/>
                  </a:lnTo>
                  <a:lnTo>
                    <a:pt x="828" y="870"/>
                  </a:lnTo>
                  <a:lnTo>
                    <a:pt x="849" y="849"/>
                  </a:lnTo>
                  <a:lnTo>
                    <a:pt x="870" y="817"/>
                  </a:lnTo>
                  <a:lnTo>
                    <a:pt x="891" y="796"/>
                  </a:lnTo>
                  <a:lnTo>
                    <a:pt x="913" y="775"/>
                  </a:lnTo>
                  <a:lnTo>
                    <a:pt x="934" y="753"/>
                  </a:lnTo>
                  <a:lnTo>
                    <a:pt x="955" y="732"/>
                  </a:lnTo>
                  <a:lnTo>
                    <a:pt x="976" y="711"/>
                  </a:lnTo>
                  <a:lnTo>
                    <a:pt x="1008" y="690"/>
                  </a:lnTo>
                  <a:lnTo>
                    <a:pt x="1040" y="679"/>
                  </a:lnTo>
                  <a:lnTo>
                    <a:pt x="1061" y="658"/>
                  </a:lnTo>
                  <a:lnTo>
                    <a:pt x="1093" y="647"/>
                  </a:lnTo>
                  <a:lnTo>
                    <a:pt x="1125" y="626"/>
                  </a:lnTo>
                  <a:lnTo>
                    <a:pt x="1178" y="615"/>
                  </a:lnTo>
                  <a:lnTo>
                    <a:pt x="1178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780960" y="4012920"/>
              <a:ext cx="1535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780240" y="4454280"/>
              <a:ext cx="1860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ew compu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chitectu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2580480" y="1523880"/>
              <a:ext cx="2760840" cy="3116160"/>
            </a:xfrm>
            <a:custGeom>
              <a:avLst/>
              <a:gdLst/>
              <a:ahLst/>
              <a:rect l="l" t="t" r="r" b="b"/>
              <a:pathLst>
                <a:path w="1739" h="1963">
                  <a:moveTo>
                    <a:pt x="657" y="286"/>
                  </a:moveTo>
                  <a:lnTo>
                    <a:pt x="679" y="297"/>
                  </a:lnTo>
                  <a:lnTo>
                    <a:pt x="710" y="297"/>
                  </a:lnTo>
                  <a:lnTo>
                    <a:pt x="742" y="308"/>
                  </a:lnTo>
                  <a:lnTo>
                    <a:pt x="763" y="308"/>
                  </a:lnTo>
                  <a:lnTo>
                    <a:pt x="795" y="318"/>
                  </a:lnTo>
                  <a:lnTo>
                    <a:pt x="816" y="329"/>
                  </a:lnTo>
                  <a:lnTo>
                    <a:pt x="848" y="329"/>
                  </a:lnTo>
                  <a:lnTo>
                    <a:pt x="870" y="339"/>
                  </a:lnTo>
                  <a:lnTo>
                    <a:pt x="901" y="350"/>
                  </a:lnTo>
                  <a:lnTo>
                    <a:pt x="933" y="361"/>
                  </a:lnTo>
                  <a:lnTo>
                    <a:pt x="954" y="371"/>
                  </a:lnTo>
                  <a:lnTo>
                    <a:pt x="986" y="382"/>
                  </a:lnTo>
                  <a:lnTo>
                    <a:pt x="1018" y="403"/>
                  </a:lnTo>
                  <a:lnTo>
                    <a:pt x="1039" y="414"/>
                  </a:lnTo>
                  <a:lnTo>
                    <a:pt x="1071" y="424"/>
                  </a:lnTo>
                  <a:lnTo>
                    <a:pt x="1092" y="446"/>
                  </a:lnTo>
                  <a:lnTo>
                    <a:pt x="1113" y="456"/>
                  </a:lnTo>
                  <a:lnTo>
                    <a:pt x="1135" y="467"/>
                  </a:lnTo>
                  <a:lnTo>
                    <a:pt x="1167" y="488"/>
                  </a:lnTo>
                  <a:lnTo>
                    <a:pt x="1188" y="509"/>
                  </a:lnTo>
                  <a:lnTo>
                    <a:pt x="1220" y="520"/>
                  </a:lnTo>
                  <a:lnTo>
                    <a:pt x="1241" y="541"/>
                  </a:lnTo>
                  <a:lnTo>
                    <a:pt x="1262" y="562"/>
                  </a:lnTo>
                  <a:lnTo>
                    <a:pt x="1304" y="594"/>
                  </a:lnTo>
                  <a:lnTo>
                    <a:pt x="1336" y="626"/>
                  </a:lnTo>
                  <a:lnTo>
                    <a:pt x="1368" y="647"/>
                  </a:lnTo>
                  <a:lnTo>
                    <a:pt x="1400" y="690"/>
                  </a:lnTo>
                  <a:lnTo>
                    <a:pt x="1421" y="721"/>
                  </a:lnTo>
                  <a:lnTo>
                    <a:pt x="1453" y="753"/>
                  </a:lnTo>
                  <a:lnTo>
                    <a:pt x="1485" y="785"/>
                  </a:lnTo>
                  <a:lnTo>
                    <a:pt x="1506" y="817"/>
                  </a:lnTo>
                  <a:lnTo>
                    <a:pt x="1527" y="859"/>
                  </a:lnTo>
                  <a:lnTo>
                    <a:pt x="1548" y="891"/>
                  </a:lnTo>
                  <a:lnTo>
                    <a:pt x="1570" y="934"/>
                  </a:lnTo>
                  <a:lnTo>
                    <a:pt x="1591" y="965"/>
                  </a:lnTo>
                  <a:lnTo>
                    <a:pt x="1612" y="1008"/>
                  </a:lnTo>
                  <a:lnTo>
                    <a:pt x="1633" y="1050"/>
                  </a:lnTo>
                  <a:lnTo>
                    <a:pt x="1654" y="1093"/>
                  </a:lnTo>
                  <a:lnTo>
                    <a:pt x="1665" y="1135"/>
                  </a:lnTo>
                  <a:lnTo>
                    <a:pt x="1686" y="1199"/>
                  </a:lnTo>
                  <a:lnTo>
                    <a:pt x="1697" y="1252"/>
                  </a:lnTo>
                  <a:lnTo>
                    <a:pt x="1708" y="1305"/>
                  </a:lnTo>
                  <a:lnTo>
                    <a:pt x="1718" y="1358"/>
                  </a:lnTo>
                  <a:lnTo>
                    <a:pt x="1729" y="1422"/>
                  </a:lnTo>
                  <a:lnTo>
                    <a:pt x="1729" y="1496"/>
                  </a:lnTo>
                  <a:lnTo>
                    <a:pt x="1739" y="1549"/>
                  </a:lnTo>
                  <a:lnTo>
                    <a:pt x="1729" y="1613"/>
                  </a:lnTo>
                  <a:lnTo>
                    <a:pt x="1729" y="1666"/>
                  </a:lnTo>
                  <a:lnTo>
                    <a:pt x="1718" y="1719"/>
                  </a:lnTo>
                  <a:lnTo>
                    <a:pt x="1718" y="1782"/>
                  </a:lnTo>
                  <a:lnTo>
                    <a:pt x="1708" y="1835"/>
                  </a:lnTo>
                  <a:lnTo>
                    <a:pt x="1686" y="1899"/>
                  </a:lnTo>
                  <a:lnTo>
                    <a:pt x="1665" y="1963"/>
                  </a:lnTo>
                  <a:lnTo>
                    <a:pt x="1559" y="1602"/>
                  </a:lnTo>
                  <a:lnTo>
                    <a:pt x="1124" y="1676"/>
                  </a:lnTo>
                  <a:lnTo>
                    <a:pt x="1124" y="1613"/>
                  </a:lnTo>
                  <a:lnTo>
                    <a:pt x="1135" y="1581"/>
                  </a:lnTo>
                  <a:lnTo>
                    <a:pt x="1135" y="1538"/>
                  </a:lnTo>
                  <a:lnTo>
                    <a:pt x="1135" y="1485"/>
                  </a:lnTo>
                  <a:lnTo>
                    <a:pt x="1124" y="1443"/>
                  </a:lnTo>
                  <a:lnTo>
                    <a:pt x="1113" y="1390"/>
                  </a:lnTo>
                  <a:lnTo>
                    <a:pt x="1103" y="1347"/>
                  </a:lnTo>
                  <a:lnTo>
                    <a:pt x="1082" y="1294"/>
                  </a:lnTo>
                  <a:lnTo>
                    <a:pt x="1071" y="1252"/>
                  </a:lnTo>
                  <a:lnTo>
                    <a:pt x="1050" y="1220"/>
                  </a:lnTo>
                  <a:lnTo>
                    <a:pt x="1029" y="1188"/>
                  </a:lnTo>
                  <a:lnTo>
                    <a:pt x="1007" y="1156"/>
                  </a:lnTo>
                  <a:lnTo>
                    <a:pt x="986" y="1135"/>
                  </a:lnTo>
                  <a:lnTo>
                    <a:pt x="965" y="1114"/>
                  </a:lnTo>
                  <a:lnTo>
                    <a:pt x="944" y="1082"/>
                  </a:lnTo>
                  <a:lnTo>
                    <a:pt x="923" y="1072"/>
                  </a:lnTo>
                  <a:lnTo>
                    <a:pt x="901" y="1040"/>
                  </a:lnTo>
                  <a:lnTo>
                    <a:pt x="880" y="1029"/>
                  </a:lnTo>
                  <a:lnTo>
                    <a:pt x="859" y="1008"/>
                  </a:lnTo>
                  <a:lnTo>
                    <a:pt x="827" y="987"/>
                  </a:lnTo>
                  <a:lnTo>
                    <a:pt x="795" y="965"/>
                  </a:lnTo>
                  <a:lnTo>
                    <a:pt x="774" y="955"/>
                  </a:lnTo>
                  <a:lnTo>
                    <a:pt x="742" y="934"/>
                  </a:lnTo>
                  <a:lnTo>
                    <a:pt x="710" y="923"/>
                  </a:lnTo>
                  <a:lnTo>
                    <a:pt x="689" y="912"/>
                  </a:lnTo>
                  <a:lnTo>
                    <a:pt x="657" y="902"/>
                  </a:lnTo>
                  <a:lnTo>
                    <a:pt x="615" y="891"/>
                  </a:lnTo>
                  <a:lnTo>
                    <a:pt x="583" y="891"/>
                  </a:lnTo>
                  <a:lnTo>
                    <a:pt x="541" y="881"/>
                  </a:lnTo>
                  <a:lnTo>
                    <a:pt x="509" y="881"/>
                  </a:lnTo>
                  <a:lnTo>
                    <a:pt x="488" y="881"/>
                  </a:lnTo>
                  <a:lnTo>
                    <a:pt x="488" y="1199"/>
                  </a:lnTo>
                  <a:lnTo>
                    <a:pt x="0" y="605"/>
                  </a:lnTo>
                  <a:lnTo>
                    <a:pt x="488" y="0"/>
                  </a:lnTo>
                  <a:lnTo>
                    <a:pt x="488" y="276"/>
                  </a:lnTo>
                  <a:lnTo>
                    <a:pt x="509" y="276"/>
                  </a:lnTo>
                  <a:lnTo>
                    <a:pt x="551" y="276"/>
                  </a:lnTo>
                  <a:lnTo>
                    <a:pt x="583" y="276"/>
                  </a:lnTo>
                  <a:lnTo>
                    <a:pt x="626" y="286"/>
                  </a:lnTo>
                  <a:lnTo>
                    <a:pt x="657" y="28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19/98</a:t>
            </a:r>
          </a:p>
        </p:txBody>
      </p:sp>
    </p:spTree>
  </p:cSld>
  <p:transition>
    <p:pull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nternet-Scale Systems Research Grou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26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d the evolution of the Internet through long-term research combined with the deployment of novel real-world large-scale systems and protoc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fy on-going and future research projects in distributed computing, network protocols, services, access, new applic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ilitate technology transfer and standardiz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 closely wi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dustrial partn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n open laboratory environ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AT&amp;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coming a charter memb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2" name="att" descr=""/>
          <p:cNvPicPr/>
          <p:nvPr/>
        </p:nvPicPr>
        <p:blipFill>
          <a:blip r:embed="rId1"/>
          <a:stretch/>
        </p:blipFill>
        <p:spPr>
          <a:xfrm>
            <a:off x="5638680" y="5105520"/>
            <a:ext cx="2629080" cy="121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8212-4F7A-43D9-8B6A-F6D1E21D316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8D93C5-D721-4307-BB01-DF8C4D67D904}" type="datetime1">
              <a:rPr lang="en-US"/>
              <a:t>07/29/26</a:t>
            </a:fld>
          </a:p>
        </p:txBody>
      </p:sp>
    </p:spTree>
  </p:cSld>
  <p:transition>
    <p:pull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Benefits of Sponsorshi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043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25992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olvement with outstanding Berkeley graduate stud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icipation in large-scale, inter-disciplinary, pre-competitive research efforts with only modest investment, leveraging investment of other industrial partn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 to all ISRG-developed software, prototypes, simulation tools, and testbe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rly access to group’s research results through on-campus participation and retrea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 the expansion of cadre of researchers with expertise in Internet-scale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B109-7E58-4D07-BD7B-3351800CE0F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BAD88F-9018-41C6-902F-327EF69FC029}" type="datetime1">
              <a:rPr lang="en-US"/>
              <a:t>07/29/26</a:t>
            </a:fld>
          </a:p>
        </p:txBody>
      </p:sp>
    </p:spTree>
  </p:cSld>
  <p:transition>
    <p:pull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merging Communications Infrastructure of the Futur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800280" y="1490760"/>
            <a:ext cx="75816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hallen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-based applications becoming increasingly service intens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ational resources embedded in the switching fabr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ling with heterogeneity, true utility functionality, security, service discove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ful services on “small clients” because the intelligence is in the infra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bandwidth backbones plu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verse access networ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generation cellular syste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 networ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19/98</a:t>
            </a: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mag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23720" y="1437840"/>
            <a:ext cx="5437440" cy="55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alk into a ro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515360" y="1446120"/>
            <a:ext cx="984240" cy="2068560"/>
            <a:chOff x="7515360" y="1446120"/>
            <a:chExt cx="984240" cy="2068560"/>
          </a:xfrm>
        </p:grpSpPr>
        <p:grpSp>
          <p:nvGrpSpPr>
            <p:cNvPr id="106" name=""/>
            <p:cNvGrpSpPr/>
            <p:nvPr/>
          </p:nvGrpSpPr>
          <p:grpSpPr>
            <a:xfrm>
              <a:off x="7792920" y="1446120"/>
              <a:ext cx="706680" cy="1811520"/>
              <a:chOff x="7792920" y="1446120"/>
              <a:chExt cx="706680" cy="1811520"/>
            </a:xfrm>
          </p:grpSpPr>
          <p:sp>
            <p:nvSpPr>
              <p:cNvPr id="107" name=""/>
              <p:cNvSpPr/>
              <p:nvPr/>
            </p:nvSpPr>
            <p:spPr>
              <a:xfrm flipV="1">
                <a:off x="8029440" y="2054160"/>
                <a:ext cx="444600" cy="28800"/>
              </a:xfrm>
              <a:prstGeom prst="line">
                <a:avLst/>
              </a:prstGeom>
              <a:ln w="28440">
                <a:solidFill>
                  <a:srgbClr val="0332b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067600" y="3257640"/>
                <a:ext cx="432000" cy="0"/>
              </a:xfrm>
              <a:prstGeom prst="line">
                <a:avLst/>
              </a:prstGeom>
              <a:ln w="28440">
                <a:solidFill>
                  <a:srgbClr val="0332b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7792920" y="1446120"/>
                <a:ext cx="444240" cy="825480"/>
                <a:chOff x="7792920" y="1446120"/>
                <a:chExt cx="444240" cy="8254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7792920" y="1446120"/>
                  <a:ext cx="444240" cy="825480"/>
                </a:xfrm>
                <a:prstGeom prst="rect">
                  <a:avLst/>
                </a:prstGeom>
                <a:solidFill>
                  <a:srgbClr val="790015"/>
                </a:solidFill>
                <a:ln w="12600">
                  <a:solidFill>
                    <a:srgbClr val="919191"/>
                  </a:solidFill>
                  <a:miter/>
                </a:ln>
                <a:effectLst>
                  <a:outerShdw dist="107932" dir="2700000" blurRad="0" rotWithShape="0">
                    <a:srgbClr val="919191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945200" y="1598400"/>
                  <a:ext cx="139680" cy="520560"/>
                </a:xfrm>
                <a:prstGeom prst="rect">
                  <a:avLst/>
                </a:prstGeom>
                <a:solidFill>
                  <a:srgbClr val="919191"/>
                </a:solidFill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868880" y="1827000"/>
                  <a:ext cx="216000" cy="216000"/>
                </a:xfrm>
                <a:prstGeom prst="cube">
                  <a:avLst>
                    <a:gd name="adj" fmla="val 43694"/>
                  </a:avLst>
                </a:prstGeom>
                <a:solidFill>
                  <a:srgbClr val="919191"/>
                </a:solidFill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" name=""/>
              <p:cNvSpPr/>
              <p:nvPr/>
            </p:nvSpPr>
            <p:spPr>
              <a:xfrm flipV="1">
                <a:off x="8496360" y="2057400"/>
                <a:ext cx="0" cy="1200240"/>
              </a:xfrm>
              <a:prstGeom prst="line">
                <a:avLst/>
              </a:prstGeom>
              <a:ln w="28440">
                <a:solidFill>
                  <a:srgbClr val="0332b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7515360" y="2599920"/>
              <a:ext cx="655560" cy="914760"/>
              <a:chOff x="7515360" y="2599920"/>
              <a:chExt cx="655560" cy="914760"/>
            </a:xfrm>
          </p:grpSpPr>
          <p:sp>
            <p:nvSpPr>
              <p:cNvPr id="115" name=""/>
              <p:cNvSpPr/>
              <p:nvPr/>
            </p:nvSpPr>
            <p:spPr>
              <a:xfrm flipV="1">
                <a:off x="7972560" y="2599920"/>
                <a:ext cx="0" cy="2286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515360" y="2828880"/>
                <a:ext cx="655560" cy="685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7" name=""/>
          <p:cNvSpPr/>
          <p:nvPr/>
        </p:nvSpPr>
        <p:spPr>
          <a:xfrm>
            <a:off x="6708600" y="1414440"/>
            <a:ext cx="1184400" cy="1212840"/>
          </a:xfrm>
          <a:prstGeom prst="line">
            <a:avLst/>
          </a:prstGeom>
          <a:ln w="28440">
            <a:solidFill>
              <a:srgbClr val="0332b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728640" y="5014080"/>
            <a:ext cx="6738840" cy="1922760"/>
            <a:chOff x="728640" y="5014080"/>
            <a:chExt cx="6738840" cy="1922760"/>
          </a:xfrm>
        </p:grpSpPr>
        <p:grpSp>
          <p:nvGrpSpPr>
            <p:cNvPr id="119" name=""/>
            <p:cNvGrpSpPr/>
            <p:nvPr/>
          </p:nvGrpSpPr>
          <p:grpSpPr>
            <a:xfrm>
              <a:off x="6149880" y="5381640"/>
              <a:ext cx="1317600" cy="1230120"/>
              <a:chOff x="6149880" y="5381640"/>
              <a:chExt cx="1317600" cy="1230120"/>
            </a:xfrm>
          </p:grpSpPr>
          <p:pic>
            <p:nvPicPr>
              <p:cNvPr id="120" name="remote-controls" descr=""/>
              <p:cNvPicPr/>
              <p:nvPr/>
            </p:nvPicPr>
            <p:blipFill>
              <a:blip r:embed="rId2"/>
              <a:stretch/>
            </p:blipFill>
            <p:spPr>
              <a:xfrm>
                <a:off x="6149880" y="5381640"/>
                <a:ext cx="1317600" cy="1230120"/>
              </a:xfrm>
              <a:prstGeom prst="rect">
                <a:avLst/>
              </a:prstGeom>
              <a:ln w="9360">
                <a:solidFill>
                  <a:srgbClr val="919191"/>
                </a:solidFill>
                <a:miter/>
              </a:ln>
            </p:spPr>
          </p:pic>
          <p:sp>
            <p:nvSpPr>
              <p:cNvPr id="121" name=""/>
              <p:cNvSpPr/>
              <p:nvPr/>
            </p:nvSpPr>
            <p:spPr>
              <a:xfrm>
                <a:off x="6152040" y="5388840"/>
                <a:ext cx="1278360" cy="1213920"/>
              </a:xfrm>
              <a:prstGeom prst="ellipse">
                <a:avLst/>
              </a:prstGeom>
              <a:noFill/>
              <a:ln w="381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6393240" y="5507640"/>
                <a:ext cx="774360" cy="930600"/>
              </a:xfrm>
              <a:prstGeom prst="line">
                <a:avLst/>
              </a:prstGeom>
              <a:ln w="381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728640" y="5014080"/>
              <a:ext cx="50133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c0128"/>
                  </a:solidFill>
                  <a:latin typeface="Arial"/>
                </a:rPr>
                <a:t>You have complete, secure, optimized access to local devices and your private resour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23720" y="1207080"/>
            <a:ext cx="6477120" cy="2004480"/>
            <a:chOff x="423720" y="1207080"/>
            <a:chExt cx="6477120" cy="2004480"/>
          </a:xfrm>
        </p:grpSpPr>
        <p:grpSp>
          <p:nvGrpSpPr>
            <p:cNvPr id="125" name=""/>
            <p:cNvGrpSpPr/>
            <p:nvPr/>
          </p:nvGrpSpPr>
          <p:grpSpPr>
            <a:xfrm>
              <a:off x="6068520" y="1207080"/>
              <a:ext cx="832320" cy="1716840"/>
              <a:chOff x="6068520" y="1207080"/>
              <a:chExt cx="832320" cy="1716840"/>
            </a:xfrm>
          </p:grpSpPr>
          <p:pic>
            <p:nvPicPr>
              <p:cNvPr id="126" name="pilot2" descr=""/>
              <p:cNvPicPr/>
              <p:nvPr/>
            </p:nvPicPr>
            <p:blipFill>
              <a:blip r:embed="rId3"/>
              <a:stretch/>
            </p:blipFill>
            <p:spPr>
              <a:xfrm>
                <a:off x="6114960" y="1693800"/>
                <a:ext cx="785880" cy="123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"/>
              <p:cNvSpPr/>
              <p:nvPr/>
            </p:nvSpPr>
            <p:spPr>
              <a:xfrm flipV="1">
                <a:off x="6207480" y="1374840"/>
                <a:ext cx="0" cy="318960"/>
              </a:xfrm>
              <a:prstGeom prst="line">
                <a:avLst/>
              </a:prstGeom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253920" y="1207080"/>
                <a:ext cx="370440" cy="257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884" y="2648"/>
                    </a:moveTo>
                    <a:arcTo wR="10800" hR="10800" stAng="-2940762" swAng="53948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884" y="2648"/>
                    </a:moveTo>
                    <a:arcTo wR="10800" hR="10800" stAng="-2940762" swAng="5394848"/>
                  </a:path>
                </a:pathLst>
              </a:cu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161400" y="1207080"/>
                <a:ext cx="370440" cy="257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884" y="2648"/>
                    </a:moveTo>
                    <a:arcTo wR="10800" hR="10800" stAng="-2940762" swAng="53948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884" y="2648"/>
                    </a:moveTo>
                    <a:arcTo wR="10800" hR="10800" stAng="-2940762" swAng="5394848"/>
                  </a:path>
                </a:pathLst>
              </a:cu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068520" y="1207080"/>
                <a:ext cx="370440" cy="257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884" y="2648"/>
                    </a:moveTo>
                    <a:arcTo wR="10800" hR="10800" stAng="-2940762" swAng="53948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884" y="2648"/>
                    </a:moveTo>
                    <a:arcTo wR="10800" hR="10800" stAng="-2940762" swAng="5394848"/>
                  </a:path>
                </a:pathLst>
              </a:cu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423720" y="1949400"/>
              <a:ext cx="5437440" cy="12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285840" indent="-285840">
                <a:lnSpc>
                  <a:spcPct val="90000"/>
                </a:lnSpc>
                <a:spcBef>
                  <a:spcPts val="9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our PDA connects to the local infrastructure and asks it to build a </a:t>
              </a:r>
              <a:r>
                <a:rPr b="0" lang="en-US" sz="2400" spc="-1" strike="noStrike">
                  <a:solidFill>
                    <a:srgbClr val="114ffb"/>
                  </a:solidFill>
                  <a:latin typeface="Arial"/>
                </a:rPr>
                <a:t>custom GU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423720" y="3098880"/>
            <a:ext cx="8539200" cy="1879560"/>
            <a:chOff x="423720" y="3098880"/>
            <a:chExt cx="8539200" cy="1879560"/>
          </a:xfrm>
        </p:grpSpPr>
        <p:grpSp>
          <p:nvGrpSpPr>
            <p:cNvPr id="133" name=""/>
            <p:cNvGrpSpPr/>
            <p:nvPr/>
          </p:nvGrpSpPr>
          <p:grpSpPr>
            <a:xfrm>
              <a:off x="6810480" y="3286080"/>
              <a:ext cx="2152440" cy="1514160"/>
              <a:chOff x="6810480" y="3286080"/>
              <a:chExt cx="2152440" cy="1514160"/>
            </a:xfrm>
          </p:grpSpPr>
          <p:sp>
            <p:nvSpPr>
              <p:cNvPr id="134" name=""/>
              <p:cNvSpPr/>
              <p:nvPr/>
            </p:nvSpPr>
            <p:spPr>
              <a:xfrm flipV="1">
                <a:off x="6810480" y="3647520"/>
                <a:ext cx="2152440" cy="1152360"/>
              </a:xfrm>
              <a:prstGeom prst="cloudCallout">
                <a:avLst>
                  <a:gd name="adj1" fmla="val -1106"/>
                  <a:gd name="adj2" fmla="val 2337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7238880" y="3286080"/>
                <a:ext cx="371520" cy="428760"/>
              </a:xfrm>
              <a:prstGeom prst="line">
                <a:avLst/>
              </a:prstGeom>
              <a:ln w="38160">
                <a:solidFill>
                  <a:srgbClr val="0332b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36" name=""/>
              <p:cNvGraphicFramePr/>
              <p:nvPr/>
            </p:nvGraphicFramePr>
            <p:xfrm>
              <a:off x="7248600" y="3782880"/>
              <a:ext cx="1190520" cy="92088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137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7248600" y="3782880"/>
                        <a:ext cx="1190520" cy="920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38" name=""/>
            <p:cNvSpPr/>
            <p:nvPr/>
          </p:nvSpPr>
          <p:spPr>
            <a:xfrm>
              <a:off x="423720" y="3098880"/>
              <a:ext cx="5437440" cy="18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76000"/>
            </a:bodyPr>
            <a:p>
              <a:pPr marL="217080" indent="-217080">
                <a:lnSpc>
                  <a:spcPct val="90000"/>
                </a:lnSpc>
                <a:spcBef>
                  <a:spcPts val="9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ext, your PDA asks the infrastructure for a path out to </a:t>
              </a:r>
              <a:br>
                <a:rPr sz="2400"/>
              </a:br>
              <a:r>
                <a:rPr b="0" lang="en-US" sz="2400" spc="-1" strike="noStrike">
                  <a:solidFill>
                    <a:srgbClr val="114ffb"/>
                  </a:solidFill>
                  <a:latin typeface="Arial"/>
                </a:rPr>
                <a:t>your personal information spac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where agents are processing your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-mail, v-mail, faxes, and pages</a:t>
              </a:r>
              <a:br>
                <a:rPr sz="2400"/>
              </a:b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7A70-108F-49AF-B1F1-1386EEF848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8C8620-F9AD-4730-8C44-CED718323BF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Vision </a:t>
            </a:r>
            <a:r>
              <a:rPr b="1" lang="en-US" sz="3200" spc="-1" strike="noStrike">
                <a:solidFill>
                  <a:srgbClr val="0332b7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 Goal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15800" y="1407960"/>
            <a:ext cx="83822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xt internet revolution will come from enabling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component servi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pervasive ac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vertically integrated Information Technolog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, programmatic creation / composition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scalable, highly available, &amp; customizable ser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adaptation to end device characteristics and network connec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bitrarily powerful services on arbitrarily small clients using a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proactive infra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DB1C-8CB9-4604-B302-3013935FD1A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0C86DD-5608-44B7-860B-C6EF9B02063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 of the Presentat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nja Service Archit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de-Area Path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 Service Programming Frame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Context at Berkel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FA37-2FC3-46BF-AB15-5EB82DA84C9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529796-FF34-4B29-911E-7121F17CA2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tarting Point: Transcoding Proxi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886040" y="1378080"/>
            <a:ext cx="3549600" cy="3790800"/>
            <a:chOff x="1886040" y="1378080"/>
            <a:chExt cx="3549600" cy="3790800"/>
          </a:xfrm>
        </p:grpSpPr>
        <p:pic>
          <p:nvPicPr>
            <p:cNvPr id="145" name="left" descr=""/>
            <p:cNvPicPr/>
            <p:nvPr/>
          </p:nvPicPr>
          <p:blipFill>
            <a:blip r:embed="rId1"/>
            <a:stretch/>
          </p:blipFill>
          <p:spPr>
            <a:xfrm>
              <a:off x="2473200" y="2081160"/>
              <a:ext cx="2517840" cy="28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1886040" y="1878120"/>
              <a:ext cx="3549600" cy="32907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84560" y="1378080"/>
              <a:ext cx="261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calable Serv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153040" y="1260360"/>
            <a:ext cx="3990960" cy="3939480"/>
            <a:chOff x="5153040" y="1260360"/>
            <a:chExt cx="3990960" cy="3939480"/>
          </a:xfrm>
        </p:grpSpPr>
        <p:sp>
          <p:nvSpPr>
            <p:cNvPr id="149" name=""/>
            <p:cNvSpPr/>
            <p:nvPr/>
          </p:nvSpPr>
          <p:spPr>
            <a:xfrm flipV="1">
              <a:off x="5257800" y="1580760"/>
              <a:ext cx="743040" cy="5907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5391000" y="1809720"/>
              <a:ext cx="609840" cy="457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5391000" y="1962000"/>
              <a:ext cx="609840" cy="457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5391000" y="2190600"/>
              <a:ext cx="609840" cy="457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5391000" y="2343240"/>
              <a:ext cx="609840" cy="457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5391000" y="2571840"/>
              <a:ext cx="609840" cy="457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5" name="map" descr=""/>
            <p:cNvPicPr/>
            <p:nvPr/>
          </p:nvPicPr>
          <p:blipFill>
            <a:blip r:embed="rId2"/>
            <a:stretch/>
          </p:blipFill>
          <p:spPr>
            <a:xfrm>
              <a:off x="6764400" y="1932120"/>
              <a:ext cx="148284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6396120" y="4734000"/>
              <a:ext cx="274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aptops, Deskto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155560" y="4145760"/>
              <a:ext cx="1269360" cy="1054080"/>
              <a:chOff x="5155560" y="4145760"/>
              <a:chExt cx="1269360" cy="1054080"/>
            </a:xfrm>
          </p:grpSpPr>
          <p:sp>
            <p:nvSpPr>
              <p:cNvPr id="158" name=""/>
              <p:cNvSpPr/>
              <p:nvPr/>
            </p:nvSpPr>
            <p:spPr>
              <a:xfrm rot="11457000">
                <a:off x="6082200" y="5027040"/>
                <a:ext cx="228600" cy="152280"/>
              </a:xfrm>
              <a:prstGeom prst="rect">
                <a:avLst/>
              </a:prstGeom>
              <a:solidFill>
                <a:srgbClr val="114ff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5186880" y="4908240"/>
                <a:ext cx="897840" cy="17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1457000">
                <a:off x="6050880" y="4788360"/>
                <a:ext cx="228600" cy="152280"/>
              </a:xfrm>
              <a:prstGeom prst="rect">
                <a:avLst/>
              </a:prstGeom>
              <a:solidFill>
                <a:srgbClr val="114ff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5155560" y="4669560"/>
                <a:ext cx="897840" cy="17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11457000">
                <a:off x="6183720" y="4503240"/>
                <a:ext cx="228600" cy="152640"/>
              </a:xfrm>
              <a:prstGeom prst="rect">
                <a:avLst/>
              </a:prstGeom>
              <a:solidFill>
                <a:srgbClr val="114ff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flipV="1">
                <a:off x="5288040" y="4384440"/>
                <a:ext cx="897840" cy="17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11457000">
                <a:off x="6152760" y="4264560"/>
                <a:ext cx="228600" cy="152640"/>
              </a:xfrm>
              <a:prstGeom prst="rect">
                <a:avLst/>
              </a:prstGeom>
              <a:solidFill>
                <a:srgbClr val="114ff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5257080" y="4145760"/>
                <a:ext cx="897840" cy="17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000840" y="1504800"/>
              <a:ext cx="152280" cy="1526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00840" y="1733400"/>
              <a:ext cx="152280" cy="1526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000840" y="1886040"/>
              <a:ext cx="152280" cy="15228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00840" y="2114640"/>
              <a:ext cx="152280" cy="15228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00840" y="2266920"/>
              <a:ext cx="152280" cy="15228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00840" y="2495520"/>
              <a:ext cx="152280" cy="15228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251400" y="1260360"/>
              <a:ext cx="2892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fo. Applian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twork Compu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5153040" y="2930400"/>
              <a:ext cx="1585800" cy="1936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00680" y="4111560"/>
              <a:ext cx="209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4ffb"/>
                  </a:solidFill>
                  <a:latin typeface="Arial"/>
                </a:rPr>
                <a:t>Spoon feed web pages to PD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1009800" y="5329080"/>
            <a:ext cx="7851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4ffb"/>
                </a:solidFill>
                <a:latin typeface="Arial"/>
              </a:rPr>
              <a:t>Transformation, Aggregation, Caching, and Customization (TAC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ability and avail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customizability and locality and no persist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240" y="2476440"/>
            <a:ext cx="2174400" cy="2635200"/>
            <a:chOff x="3240" y="2476440"/>
            <a:chExt cx="2174400" cy="2635200"/>
          </a:xfrm>
        </p:grpSpPr>
        <p:sp>
          <p:nvSpPr>
            <p:cNvPr id="177" name=""/>
            <p:cNvSpPr/>
            <p:nvPr/>
          </p:nvSpPr>
          <p:spPr>
            <a:xfrm>
              <a:off x="461880" y="4157640"/>
              <a:ext cx="841320" cy="9540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2680" y="2476440"/>
              <a:ext cx="841320" cy="9540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40" y="3522600"/>
              <a:ext cx="186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gacy Serv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300320" y="2900520"/>
              <a:ext cx="806400" cy="33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1383840" y="4386240"/>
              <a:ext cx="79380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46F1-2B78-4E07-A2F6-7B385C16D35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4BDAD9-B60F-4553-8422-85EF1C3355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roActive Approach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framework that enables programmatic generation and composition of services out of strongly typed reusable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El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4ffb"/>
                </a:solidFill>
                <a:latin typeface="Arial"/>
              </a:rPr>
              <a:t>Structured architectu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a careful</a:t>
            </a:r>
            <a:r>
              <a:rPr b="0" lang="en-US" sz="2000" spc="-1" strike="noStrike">
                <a:solidFill>
                  <a:srgbClr val="114ffb"/>
                </a:solidFill>
                <a:latin typeface="Arial"/>
              </a:rPr>
              <a:t> partitioning of st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Bases, Active Routers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Un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4ffb"/>
                </a:solidFill>
                <a:latin typeface="Arial"/>
              </a:rPr>
              <a:t>Wide-area path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ed out of</a:t>
            </a:r>
            <a:r>
              <a:rPr b="0" lang="en-US" sz="2000" spc="-1" strike="noStrike">
                <a:solidFill>
                  <a:srgbClr val="114ffb"/>
                </a:solidFill>
                <a:latin typeface="Arial"/>
              </a:rPr>
              <a:t> strongly-typed compon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Operato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Connec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332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32b7"/>
                </a:solidFill>
                <a:latin typeface="Arial"/>
              </a:rPr>
              <a:t>Execution environ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efficient, but powerful communication primitiv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Active Messages + capsu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TACC + persistence + custom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069D-DF2F-4ADC-A976-B8881CBAADC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AD2179-0B48-4364-9743-44C2E653DA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181080" y="1290600"/>
            <a:ext cx="8783640" cy="1920960"/>
            <a:chOff x="181080" y="1290600"/>
            <a:chExt cx="8783640" cy="1920960"/>
          </a:xfrm>
        </p:grpSpPr>
        <p:sp>
          <p:nvSpPr>
            <p:cNvPr id="185" name=""/>
            <p:cNvSpPr/>
            <p:nvPr/>
          </p:nvSpPr>
          <p:spPr>
            <a:xfrm>
              <a:off x="181080" y="1290600"/>
              <a:ext cx="5045040" cy="19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285840" indent="-285840">
                <a:lnSpc>
                  <a:spcPct val="80000"/>
                </a:lnSpc>
                <a:spcBef>
                  <a:spcPts val="9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a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5800" indent="-228600">
                <a:lnSpc>
                  <a:spcPct val="7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ighly avail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5800" indent="-228600">
                <a:lnSpc>
                  <a:spcPct val="7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sistent state (saf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5800" indent="-228600">
                <a:lnSpc>
                  <a:spcPct val="8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tabases, ag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5800" indent="-228600">
                <a:lnSpc>
                  <a:spcPct val="8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me” base per u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5800" indent="-228600">
                <a:lnSpc>
                  <a:spcPct val="7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 programming environ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652920" y="1461600"/>
              <a:ext cx="5311800" cy="1443240"/>
              <a:chOff x="3652920" y="1461600"/>
              <a:chExt cx="5311800" cy="1443240"/>
            </a:xfrm>
          </p:grpSpPr>
          <p:sp>
            <p:nvSpPr>
              <p:cNvPr id="187" name=""/>
              <p:cNvSpPr/>
              <p:nvPr/>
            </p:nvSpPr>
            <p:spPr>
              <a:xfrm flipV="1">
                <a:off x="3652920" y="1460880"/>
                <a:ext cx="5311800" cy="1443240"/>
              </a:xfrm>
              <a:prstGeom prst="cloudCallout">
                <a:avLst>
                  <a:gd name="adj1" fmla="val -17125"/>
                  <a:gd name="adj2" fmla="val 34597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4592520" y="2200320"/>
                <a:ext cx="346320" cy="30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V="1">
                <a:off x="4673520" y="2120760"/>
                <a:ext cx="346320" cy="30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4745160" y="2047320"/>
                <a:ext cx="345960" cy="301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4826160" y="1968480"/>
                <a:ext cx="345960" cy="30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4903920" y="1903320"/>
                <a:ext cx="345960" cy="30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4984920" y="1824120"/>
                <a:ext cx="345960" cy="30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5056200" y="1751040"/>
                <a:ext cx="345960" cy="30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5137200" y="1671480"/>
                <a:ext cx="345960" cy="30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6794640" y="2452680"/>
                <a:ext cx="345960" cy="30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6875640" y="2372760"/>
                <a:ext cx="345960" cy="301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6946920" y="2300400"/>
                <a:ext cx="345960" cy="30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V="1">
                <a:off x="7027920" y="2220840"/>
                <a:ext cx="345960" cy="30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7105680" y="2155680"/>
                <a:ext cx="345960" cy="30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V="1">
                <a:off x="6002280" y="2163600"/>
                <a:ext cx="345960" cy="30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6073920" y="2090160"/>
                <a:ext cx="345960" cy="301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6154560" y="2011320"/>
                <a:ext cx="346320" cy="30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tructured Architectur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81080" y="2314440"/>
            <a:ext cx="7948440" cy="2595600"/>
            <a:chOff x="181080" y="2314440"/>
            <a:chExt cx="7948440" cy="2595600"/>
          </a:xfrm>
        </p:grpSpPr>
        <p:sp>
          <p:nvSpPr>
            <p:cNvPr id="206" name=""/>
            <p:cNvSpPr/>
            <p:nvPr/>
          </p:nvSpPr>
          <p:spPr>
            <a:xfrm flipV="1">
              <a:off x="4546440" y="3720240"/>
              <a:ext cx="428760" cy="26532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6118200" y="3869640"/>
              <a:ext cx="457200" cy="32220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5224320" y="4075920"/>
              <a:ext cx="457200" cy="23652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6762600" y="3553560"/>
              <a:ext cx="457200" cy="38124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7672320" y="4013280"/>
              <a:ext cx="457200" cy="17784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4649400" y="2473200"/>
              <a:ext cx="158760" cy="1227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81680" y="2314440"/>
              <a:ext cx="504720" cy="176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5573880" y="2705040"/>
              <a:ext cx="1312560" cy="1355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988320" y="2719440"/>
              <a:ext cx="1023840" cy="1298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1080" y="3220920"/>
              <a:ext cx="504504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285840" indent="-285840">
                <a:lnSpc>
                  <a:spcPct val="80000"/>
                </a:lnSpc>
                <a:spcBef>
                  <a:spcPts val="9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ctive Prox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5800" indent="-228600">
                <a:lnSpc>
                  <a:spcPct val="7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t packet router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5800" indent="-228600">
                <a:lnSpc>
                  <a:spcPct val="8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oft-st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5800" indent="-228600">
                <a:lnSpc>
                  <a:spcPct val="8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l-connect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5800" indent="-228600">
                <a:lnSpc>
                  <a:spcPct val="8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calization (any to any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181080" y="2755800"/>
            <a:ext cx="8447040" cy="3657600"/>
            <a:chOff x="181080" y="2755800"/>
            <a:chExt cx="8447040" cy="3657600"/>
          </a:xfrm>
        </p:grpSpPr>
        <p:sp>
          <p:nvSpPr>
            <p:cNvPr id="217" name=""/>
            <p:cNvSpPr/>
            <p:nvPr/>
          </p:nvSpPr>
          <p:spPr>
            <a:xfrm flipH="1">
              <a:off x="4803480" y="4027320"/>
              <a:ext cx="12600" cy="13557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487840" y="4221000"/>
              <a:ext cx="914400" cy="10670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78680" y="2755800"/>
              <a:ext cx="534960" cy="2359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5280120" y="4919760"/>
              <a:ext cx="287280" cy="231840"/>
            </a:xfrm>
            <a:prstGeom prst="parallelogram">
              <a:avLst>
                <a:gd name="adj" fmla="val 30978"/>
              </a:avLst>
            </a:prstGeom>
            <a:solidFill>
              <a:srgbClr val="114f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5432400" y="4767120"/>
              <a:ext cx="287280" cy="231840"/>
            </a:xfrm>
            <a:prstGeom prst="parallelogram">
              <a:avLst>
                <a:gd name="adj" fmla="val 30978"/>
              </a:avLst>
            </a:prstGeom>
            <a:solidFill>
              <a:srgbClr val="114f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5907240" y="5243400"/>
              <a:ext cx="287280" cy="231840"/>
            </a:xfrm>
            <a:prstGeom prst="parallelogram">
              <a:avLst>
                <a:gd name="adj" fmla="val 30978"/>
              </a:avLst>
            </a:prstGeom>
            <a:solidFill>
              <a:srgbClr val="114f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6059520" y="4932360"/>
              <a:ext cx="287280" cy="231840"/>
            </a:xfrm>
            <a:prstGeom prst="parallelogram">
              <a:avLst>
                <a:gd name="adj" fmla="val 30978"/>
              </a:avLst>
            </a:prstGeom>
            <a:solidFill>
              <a:srgbClr val="114f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6289560" y="5451480"/>
              <a:ext cx="287280" cy="231840"/>
            </a:xfrm>
            <a:prstGeom prst="parallelogram">
              <a:avLst>
                <a:gd name="adj" fmla="val 30978"/>
              </a:avLst>
            </a:prstGeom>
            <a:solidFill>
              <a:srgbClr val="114f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6442200" y="5140440"/>
              <a:ext cx="287280" cy="231840"/>
            </a:xfrm>
            <a:prstGeom prst="parallelogram">
              <a:avLst>
                <a:gd name="adj" fmla="val 30978"/>
              </a:avLst>
            </a:prstGeom>
            <a:solidFill>
              <a:srgbClr val="114f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5425920" y="5290560"/>
              <a:ext cx="287640" cy="231480"/>
            </a:xfrm>
            <a:prstGeom prst="parallelogram">
              <a:avLst>
                <a:gd name="adj" fmla="val 31065"/>
              </a:avLst>
            </a:prstGeom>
            <a:solidFill>
              <a:srgbClr val="114f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4116240" y="5014800"/>
              <a:ext cx="287640" cy="231840"/>
            </a:xfrm>
            <a:prstGeom prst="parallelogram">
              <a:avLst>
                <a:gd name="adj" fmla="val 31017"/>
              </a:avLst>
            </a:prstGeom>
            <a:solidFill>
              <a:srgbClr val="114f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268880" y="4862520"/>
              <a:ext cx="287280" cy="231840"/>
            </a:xfrm>
            <a:prstGeom prst="parallelogram">
              <a:avLst>
                <a:gd name="adj" fmla="val 30978"/>
              </a:avLst>
            </a:prstGeom>
            <a:solidFill>
              <a:srgbClr val="114f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4743360" y="5338800"/>
              <a:ext cx="287280" cy="231840"/>
            </a:xfrm>
            <a:prstGeom prst="parallelogram">
              <a:avLst>
                <a:gd name="adj" fmla="val 30978"/>
              </a:avLst>
            </a:prstGeom>
            <a:solidFill>
              <a:srgbClr val="114f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4896000" y="5027040"/>
              <a:ext cx="287280" cy="231480"/>
            </a:xfrm>
            <a:prstGeom prst="parallelogram">
              <a:avLst>
                <a:gd name="adj" fmla="val 31026"/>
              </a:avLst>
            </a:prstGeom>
            <a:solidFill>
              <a:srgbClr val="114f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6765840" y="5049720"/>
              <a:ext cx="287280" cy="231840"/>
            </a:xfrm>
            <a:prstGeom prst="parallelogram">
              <a:avLst>
                <a:gd name="adj" fmla="val 30978"/>
              </a:avLst>
            </a:prstGeom>
            <a:solidFill>
              <a:srgbClr val="114f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6918480" y="4897440"/>
              <a:ext cx="287280" cy="231840"/>
            </a:xfrm>
            <a:prstGeom prst="parallelogram">
              <a:avLst>
                <a:gd name="adj" fmla="val 30978"/>
              </a:avLst>
            </a:prstGeom>
            <a:solidFill>
              <a:srgbClr val="114f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7392960" y="5373720"/>
              <a:ext cx="287280" cy="231840"/>
            </a:xfrm>
            <a:prstGeom prst="parallelogram">
              <a:avLst>
                <a:gd name="adj" fmla="val 30978"/>
              </a:avLst>
            </a:prstGeom>
            <a:solidFill>
              <a:srgbClr val="114f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7545240" y="5061960"/>
              <a:ext cx="287640" cy="231480"/>
            </a:xfrm>
            <a:prstGeom prst="parallelogram">
              <a:avLst>
                <a:gd name="adj" fmla="val 31065"/>
              </a:avLst>
            </a:prstGeom>
            <a:solidFill>
              <a:srgbClr val="114f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7862760" y="5249880"/>
              <a:ext cx="287640" cy="231840"/>
            </a:xfrm>
            <a:prstGeom prst="parallelogram">
              <a:avLst>
                <a:gd name="adj" fmla="val 31017"/>
              </a:avLst>
            </a:prstGeom>
            <a:solidFill>
              <a:srgbClr val="114f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8015400" y="4938120"/>
              <a:ext cx="287280" cy="231480"/>
            </a:xfrm>
            <a:prstGeom prst="parallelogram">
              <a:avLst>
                <a:gd name="adj" fmla="val 31026"/>
              </a:avLst>
            </a:prstGeom>
            <a:solidFill>
              <a:srgbClr val="114f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8340840" y="5219640"/>
              <a:ext cx="287280" cy="231840"/>
            </a:xfrm>
            <a:prstGeom prst="parallelogram">
              <a:avLst>
                <a:gd name="adj" fmla="val 30978"/>
              </a:avLst>
            </a:prstGeom>
            <a:solidFill>
              <a:srgbClr val="114f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7399440" y="5379480"/>
              <a:ext cx="287280" cy="231480"/>
            </a:xfrm>
            <a:prstGeom prst="parallelogram">
              <a:avLst>
                <a:gd name="adj" fmla="val 31026"/>
              </a:avLst>
            </a:prstGeom>
            <a:solidFill>
              <a:srgbClr val="114f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81080" y="4768920"/>
              <a:ext cx="5045040" cy="16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285840" indent="-285840">
                <a:lnSpc>
                  <a:spcPct val="80000"/>
                </a:lnSpc>
                <a:spcBef>
                  <a:spcPts val="9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ni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5800" indent="-228600">
                <a:lnSpc>
                  <a:spcPct val="7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nsors / actuato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5800" indent="-228600">
                <a:lnSpc>
                  <a:spcPct val="8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DAs / smartphones / P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5800" indent="-228600">
                <a:lnSpc>
                  <a:spcPct val="8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terogeneo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5800" indent="-228600">
                <a:lnSpc>
                  <a:spcPct val="8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nimal functionality: “Smart Clients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6478920" y="1762200"/>
            <a:ext cx="1678680" cy="3749760"/>
            <a:chOff x="6478920" y="1762200"/>
            <a:chExt cx="1678680" cy="3749760"/>
          </a:xfrm>
        </p:grpSpPr>
        <p:sp>
          <p:nvSpPr>
            <p:cNvPr id="241" name=""/>
            <p:cNvSpPr/>
            <p:nvPr/>
          </p:nvSpPr>
          <p:spPr>
            <a:xfrm flipV="1">
              <a:off x="6850080" y="2262960"/>
              <a:ext cx="554040" cy="3524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6958080" y="3700440"/>
              <a:ext cx="129960" cy="1144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7361280" y="4168800"/>
              <a:ext cx="396720" cy="1255680"/>
            </a:xfrm>
            <a:custGeom>
              <a:avLst/>
              <a:gdLst/>
              <a:ahLst/>
              <a:rect l="l" t="t" r="r" b="b"/>
              <a:pathLst>
                <a:path w="250" h="791">
                  <a:moveTo>
                    <a:pt x="114" y="0"/>
                  </a:moveTo>
                  <a:cubicBezTo>
                    <a:pt x="57" y="166"/>
                    <a:pt x="0" y="332"/>
                    <a:pt x="23" y="464"/>
                  </a:cubicBezTo>
                  <a:cubicBezTo>
                    <a:pt x="46" y="596"/>
                    <a:pt x="148" y="693"/>
                    <a:pt x="250" y="791"/>
                  </a:cubicBezTo>
                </a:path>
              </a:pathLst>
            </a:custGeom>
            <a:noFill/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 rot="17734800">
              <a:off x="7210800" y="3690720"/>
              <a:ext cx="230040" cy="717840"/>
            </a:xfrm>
            <a:custGeom>
              <a:avLst/>
              <a:gdLst/>
              <a:ahLst/>
              <a:rect l="l" t="t" r="r" b="b"/>
              <a:pathLst>
                <a:path w="250" h="791">
                  <a:moveTo>
                    <a:pt x="114" y="0"/>
                  </a:moveTo>
                  <a:cubicBezTo>
                    <a:pt x="57" y="166"/>
                    <a:pt x="0" y="332"/>
                    <a:pt x="23" y="464"/>
                  </a:cubicBezTo>
                  <a:cubicBezTo>
                    <a:pt x="46" y="596"/>
                    <a:pt x="148" y="693"/>
                    <a:pt x="250" y="791"/>
                  </a:cubicBezTo>
                </a:path>
              </a:pathLst>
            </a:custGeom>
            <a:noFill/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821640" y="2340720"/>
              <a:ext cx="555480" cy="1428840"/>
            </a:xfrm>
            <a:custGeom>
              <a:avLst/>
              <a:gdLst/>
              <a:ahLst/>
              <a:rect l="l" t="t" r="r" b="b"/>
              <a:pathLst>
                <a:path w="250" h="791">
                  <a:moveTo>
                    <a:pt x="114" y="0"/>
                  </a:moveTo>
                  <a:cubicBezTo>
                    <a:pt x="57" y="166"/>
                    <a:pt x="0" y="332"/>
                    <a:pt x="23" y="464"/>
                  </a:cubicBezTo>
                  <a:cubicBezTo>
                    <a:pt x="46" y="596"/>
                    <a:pt x="148" y="693"/>
                    <a:pt x="250" y="791"/>
                  </a:cubicBezTo>
                </a:path>
              </a:pathLst>
            </a:custGeom>
            <a:noFill/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7469280" y="5397480"/>
              <a:ext cx="129960" cy="1144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478920" y="1762200"/>
              <a:ext cx="167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c0128"/>
                  </a:solidFill>
                  <a:latin typeface="Arial"/>
                </a:rPr>
                <a:t>Wide-Area Pa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737480" y="4060800"/>
              <a:ext cx="130320" cy="1144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7975-8A59-4028-8205-810E3361CC3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42E9D3-2383-4A5C-AA4B-326F252AF2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21T07:49:33Z</dcterms:created>
  <dc:creator>David E. Culler</dc:creator>
  <dc:description/>
  <dc:language>en-US</dc:language>
  <cp:lastModifiedBy>David E. Culler</cp:lastModifiedBy>
  <cp:lastPrinted>1998-07-14T21:04:32Z</cp:lastPrinted>
  <dcterms:modified xsi:type="dcterms:W3CDTF">1998-10-20T17:58:11Z</dcterms:modified>
  <cp:revision>135</cp:revision>
  <dc:subject/>
  <dc:title>Berkeley NOW</dc:title>
</cp:coreProperties>
</file>